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CDA-73CB-4F64-85EE-30172B96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C93-118E-4037-AD82-5982E945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269-4C77-4965-AF79-9A4BBE8A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174-37DA-4872-B85F-0242C2D3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DFF6-861C-4CBF-B634-E8AF705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8E63-1B00-4A8F-BB55-687DB80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F361-01B2-489E-8DE2-88C439B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D3BF-39E4-4BF2-87C1-1E145E74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D6D5-C2C3-4829-A794-27000DA8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66B9-3912-45CE-805B-4CFFD4A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14DC-AA89-4EC2-AD46-3BD0443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D5E-9E3B-4EEF-BB9C-0BC79572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B14C-8B42-442B-B765-CC0C7F3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9BA-F886-4090-B0D8-A1D1F589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3F79-BBA3-4A2F-89DD-D317DA4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93D9-1BB6-49A9-9159-A723E3E6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07A4-DAD6-44F0-9069-07497EC3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2F0-744C-42D1-A221-7943BB3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CD1-36DA-4CA7-BFBA-58F35891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A21-79CE-44EE-91FA-1B71ECD2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766-D05A-461B-A19C-DB95CB1B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F16-7720-432E-93BE-D299876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535-1631-47F4-86A0-80C1F7D4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FF7-219C-45CF-801A-3B61880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0D57-704B-4E6C-A0B8-7025030334E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75A-39F2-4462-AF49-EC4897C4B14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农耕时代的商业与城市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2767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中国古代的手工与商业都建立在高度发达的农耕文明基础之上，并成为农耕文明的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补充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、陶瓷之路（海上丝路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为什么唐代以后，丝绸之路逐渐衰落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战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经济重心南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航海技术的提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其他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00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、清朝的海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商业政策——重农抑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重农抑商政策的原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历代重农抑商的措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战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西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明清时期——抑商与海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请归纳一下中国古代重农抑商政策的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从身份上贬低商人的社会地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限制商人经营范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重征商税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禁止对外贸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解析与探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请参看书本的解析与探究，说说重农抑商政策在历史上起了怎样的任用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农业经济是古代社会赖以存在和发展的基础，重农抑商政策对农业的发展给予了高度的重视，这在农耕时代初期，对当时农业及社会经济的发展、巩固中央集权起了积极作用；但它有阻碍商品经济发展的一面，随着社会经济的发展，消极作用越来越严重，成为我国社会长期缓慢发展的重要原因之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  <a:ea typeface="黑体"/>
              </a:rPr>
              <a:t>“商人”的起源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商王朝覆灭后，商族人成了周朝奴隶。武王把殷商遗民分给各诸候国，由于商族原是贵簇，养尊处优，身无长技，一下变为贱民，又被剥夺了土地和特权，无力赡养家眷，只好走南闯北劳碌奔波，以做买卖为主要职业。周族人重视农业，鄙视生意人，认为买卖只是借交易获取别人劳动的成果，是士农工商最后一等。在周人的心目中，做买卖的人就是商人，这就是中国称生意人为“商人”的缘由。“商业”、“商品”、“商旅”诸词也都由此而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请结合已学知识，说说为什么春秋战国时期商业繁荣的原因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生产力的发展：铁器的进步，牛耕的推广，灌溉技术的进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土地私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各国进行改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各国竞争的需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9588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</a:rPr>
              <a:t>小知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知道什么是布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布币脱胎于一种青铜铲形农具镈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镈布同声假借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追根溯源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殷商时期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在我国农业发达的黄河中下游地区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农业镈曾充当重要的交换于让渡的财产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尔后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作为交换等价物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布币也是我国最古老的货币之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知道钱与币有什么区别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《周礼．天宫．外府》注：“其藏曰钱，其行曰布。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考考你——你知道这些钱币是怎样来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捡来的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私人铸造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国家统一铸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54640" y="2571840"/>
            <a:ext cx="6572160" cy="360"/>
            <a:chOff x="5354640" y="2571840"/>
            <a:chExt cx="6572160" cy="360"/>
          </a:xfrm>
        </p:grpSpPr>
        <p:sp>
          <p:nvSpPr>
            <p:cNvPr id="135" name=""/>
            <p:cNvSpPr/>
            <p:nvPr/>
          </p:nvSpPr>
          <p:spPr>
            <a:xfrm>
              <a:off x="5354640" y="2571840"/>
              <a:ext cx="657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4640" y="2571840"/>
              <a:ext cx="657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1932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古代的人常常把钱存在哪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寺院（后来才有了钱庄，票号，当铺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古代的人把钱藏在哪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窖藏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sө_x0002_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58672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</a:rPr>
              <a:t>请你思考：关于交子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9051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世界上最早的纸币为什么会首先在四川地区首先出现？请你从历史、地理等角度来分析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使用交子的都是些什么人？主要在什么范围内使用？它的出现对我国货币发展过程中有没有决定性影响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清明上河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南宋初，画有变，风俗画，题广泛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有大师，张择端，上河图，成长卷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北宋朝，汁梁城，百工业，最繁荣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人物众，前后拥，车马船，尽集中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有酒铺，有茶棚，有铁匠，有木工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卖花女，算命翁，桥上下，俱畅通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筑群，起楼层，熙攘间，笔画清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杂不乱，步步精，古都市，入眼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比较唐代和宋代都城，说说它们有哪些不同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6668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唐代都城坊市布局严格分开，商业贸易受到官府的严格监视和控制，市场活动的范围和时间受限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宋代都城商业活动打破了坊市限制，形成了街市，取消了营业时间限制，出现了前所未有的繁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Q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空首布”是一种什么东西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武器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布料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钱币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装饰用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钱”最初是一种什么东西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武器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祭祀用品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农具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装饰用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宋代济南刘家功夫针铺印记，其上部的文字为：“济南刘家功夫针铺”，中部文字为“认门前白兔为记”，下部文字为“收买上等钢条，造功夫细针，不误宅院使用，转卖兴贩，别有加饶，请记白”。从该“印记”中能够获取的准确历史信息是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开始生产钢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出现中国最早的商标、广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已有集原料收购、生产加工和批发贩卖为一体的经营方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出现了资本主义生产关系萌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791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中国第一家票号－－日升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隶书"/>
              </a:rPr>
              <a:t>日升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创建于道光四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公元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2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座落于“大清金融第一街”平遥古城大街的繁华地段，分号遍布全国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余个城市、商埠重镇，远及欧美、东南亚等国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以“汇通天下”著称于世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日升昌票号创立后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结束了我国镖局押送现银的落后金融局面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极大地加速了商业运转和货币流通，有力地推动了社会经济迅猛发展 。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掀开了中国金融史的光辉一页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97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100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103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1768320"/>
            <a:ext cx="9144000" cy="3017880"/>
            <a:chOff x="0" y="1768320"/>
            <a:chExt cx="9144000" cy="3017880"/>
          </a:xfrm>
        </p:grpSpPr>
        <p:sp>
          <p:nvSpPr>
            <p:cNvPr id="106" name=""/>
            <p:cNvSpPr/>
            <p:nvPr/>
          </p:nvSpPr>
          <p:spPr>
            <a:xfrm>
              <a:off x="0" y="176832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176832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一、商业的发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原始社会：以物换物的原始商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商朝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“商人”的起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周朝：工商食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春秋战国：私商成为主体，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商品经济繁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秦汉：统一促进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魏晋南北朝：萧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隋唐：蓬勃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宋元：新高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出现了新特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在总结了各朝代商业发展的特点及原因后，请分析促进商业的发展与繁荣有哪些因素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6019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政治上：政治局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政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经济上：生产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交通运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其他因素：如货币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二、货币的发展——从贝壳到银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商周时期最早的货币——贝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春秋战国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多种多样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布币、刀币、贝币等等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秦：统一货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汉唐：铜钱发行量越来越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北宋：出现最早的纸币——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交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元朝：纸币作为主要货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废行纸币，以白银为主，以钱为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三、城市的发展——坊市与城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周到唐代：城市是政治中心、军事重镇，设有市作为交易场所，商业贸易受严格控制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宋代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拆墙为街市，商业活动不再受监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江南兴起了一大批以经济功能为主的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工商业市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四、对外贸易——丝绸之路与陶瓷之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对外贸易是古代商业的重要组成部分，也刺激了沿海商埠城市的兴起和繁盛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到汉代的中国，已经不再是一个孤立的国度，而是世界交通网络的东方中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、丝绸之路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边城暮雨雁低飞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芦笋初生渐欲齐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无数铃场遥过碛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应驮白练到安西。——唐张籍《凉州词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从诗中能获取哪些历史信息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农耕时代 商业 城市</cp:keywords>
  <dc:language>en-US</dc:language>
  <cp:lastModifiedBy/>
  <cp:revision>0</cp:revision>
  <dc:subject/>
  <dc:title/>
</cp:coreProperties>
</file>