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C79-C42A-44BC-AC0C-D2CF4B5C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C6E-E81C-4091-BC04-C751626A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94C-0DCE-430E-B20C-45935607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561-1571-46AE-BE66-FF80D802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41D-A42C-4EBD-BA94-5FE08BD9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8D6-FFF2-478A-B896-A0F1818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BAB-3A1D-4A70-A5EC-EE049A6F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BFA-BF99-48B9-95F7-138689BA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D36-1261-4066-B4C6-E82A8CAC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D2F-E74B-4B3A-B52B-6E21B46B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F9B-9486-4B04-9AB5-7400C40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B34-E303-4336-87CC-02771F24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FDBB-5E1D-4B6D-9647-6FD57E4695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背景1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684360" y="620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人教新课标版三年级数学上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26720" y="6454800"/>
            <a:ext cx="32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694960" y="1989000"/>
            <a:ext cx="34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的认识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373480" y="9144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隶书"/>
              </a:rPr>
              <a:t>试一试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45280" y="2209680"/>
            <a:ext cx="536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0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）千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8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）千米（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91720" y="220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68040" y="3429000"/>
            <a:ext cx="30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             83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14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1219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50840" y="9828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486320" y="1066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选择合适的长度单位填在括号里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263320" y="2286000"/>
            <a:ext cx="3632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小明从家里到学校要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两个县城间的公路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一本日记本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排球队队员的平均身高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68600" y="2286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70672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572000" y="39625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092640" y="4876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1920" y="5715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10948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把下面的速度与合适的交通工具用线连起来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3" descr="自行车"/>
          <p:cNvPicPr/>
          <p:nvPr/>
        </p:nvPicPr>
        <p:blipFill>
          <a:blip r:embed="rId1"/>
          <a:stretch/>
        </p:blipFill>
        <p:spPr>
          <a:xfrm>
            <a:off x="914400" y="2514600"/>
            <a:ext cx="1589040" cy="106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巴士"/>
          <p:cNvPicPr/>
          <p:nvPr/>
        </p:nvPicPr>
        <p:blipFill>
          <a:blip r:embed="rId2"/>
          <a:stretch/>
        </p:blipFill>
        <p:spPr>
          <a:xfrm>
            <a:off x="3657600" y="243828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飞机"/>
          <p:cNvPicPr/>
          <p:nvPr/>
        </p:nvPicPr>
        <p:blipFill>
          <a:blip r:embed="rId3"/>
          <a:stretch/>
        </p:blipFill>
        <p:spPr>
          <a:xfrm>
            <a:off x="6400800" y="2590920"/>
            <a:ext cx="1752480" cy="92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0666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59960" y="48006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495960" y="4800600"/>
            <a:ext cx="19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627240" y="48006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7" name="AutoShape 12"/>
          <p:cNvCxnSpPr>
            <a:stCxn id="111" idx="2"/>
            <a:endCxn id="114" idx="0"/>
          </p:cNvCxnSpPr>
          <p:nvPr/>
        </p:nvCxnSpPr>
        <p:spPr>
          <a:xfrm flipH="1">
            <a:off x="1553760" y="3627000"/>
            <a:ext cx="2899440" cy="117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AutoShape 13"/>
          <p:cNvCxnSpPr>
            <a:endCxn id="115" idx="0"/>
          </p:cNvCxnSpPr>
          <p:nvPr/>
        </p:nvCxnSpPr>
        <p:spPr>
          <a:xfrm flipH="1">
            <a:off x="4463640" y="3580920"/>
            <a:ext cx="2775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22"/>
          <p:cNvCxnSpPr>
            <a:stCxn id="110" idx="2"/>
            <a:endCxn id="116" idx="0"/>
          </p:cNvCxnSpPr>
          <p:nvPr/>
        </p:nvCxnSpPr>
        <p:spPr>
          <a:xfrm>
            <a:off x="1709640" y="3578040"/>
            <a:ext cx="571248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761480" y="8604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隶书"/>
              </a:rPr>
              <a:t>考一考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55600" y="2209680"/>
            <a:ext cx="687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3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（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0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（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905120" y="228600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02600" y="2209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906920" y="312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402600" y="3048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1355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34648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5716800" y="396252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                53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135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40120" y="480060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                    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081-9C28-4460-B4D3-A75629F77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706760" y="2590920"/>
            <a:ext cx="620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 汽车每小时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，摩托车每小时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汽车每小时比摩托车慢多少千米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要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长的公路，已经筑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，还要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筑多少米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95280" y="11430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ahoma"/>
                <a:ea typeface="隶书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3"/>
          <p:cNvSpPr txBox="1"/>
          <p:nvPr/>
        </p:nvSpPr>
        <p:spPr>
          <a:xfrm>
            <a:off x="1981080" y="1752480"/>
            <a:ext cx="5096160" cy="15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配合！</a:t>
            </a:r>
            <a:endParaRPr b="0" lang="en-US" sz="8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36640" y="2430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073240" y="2141640"/>
            <a:ext cx="282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分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厘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毫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  ）厘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039120" y="2133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420000" y="3124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392960" y="48610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420000" y="4114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033360" y="50292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13880" y="106668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说出测量下列物体用什么长度单位比较合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613600" y="226692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铅笔的长度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22600" y="310500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旗杆的高度 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638440" y="396252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硬币的厚度 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057400" y="4800600"/>
            <a:ext cx="34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课桌的高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563720" y="220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21040" y="304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63968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593240" y="480060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分米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6"/>
          <p:cNvSpPr/>
          <p:nvPr/>
        </p:nvSpPr>
        <p:spPr>
          <a:xfrm>
            <a:off x="1042920" y="2773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3" descr="china"/>
          <p:cNvPicPr/>
          <p:nvPr/>
        </p:nvPicPr>
        <p:blipFill>
          <a:blip r:embed="rId1"/>
          <a:stretch/>
        </p:blipFill>
        <p:spPr>
          <a:xfrm>
            <a:off x="0" y="1143000"/>
            <a:ext cx="4246560" cy="5105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741680" y="609480"/>
            <a:ext cx="51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计量路程的远近，通常用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千米（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km)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做单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15400" y="1676520"/>
            <a:ext cx="255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杭州的铁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昆明的铁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7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哈尔滨的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路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8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267920" y="1905120"/>
            <a:ext cx="72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就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868120" y="2995560"/>
            <a:ext cx="330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千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=100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44560" y="1876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3352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想想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从学校门口到什么地方是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千米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181240" y="1906560"/>
            <a:ext cx="51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45440" y="2641680"/>
            <a:ext cx="68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个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就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74080" y="4470480"/>
            <a:ext cx="547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再加上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一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5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962520" y="19051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312520" y="373392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25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97160" y="990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隶书"/>
              </a:rPr>
              <a:t>试一试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418480" y="1963800"/>
            <a:ext cx="357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093200" y="190512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8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93200" y="32004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6606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01040" y="2057400"/>
            <a:ext cx="549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0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）千米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35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）千米（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176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33920" y="2743200"/>
            <a:ext cx="783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里面有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个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就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34280" y="4664160"/>
            <a:ext cx="73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35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35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032720" y="1981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962520" y="380988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4            350                    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0:52:45Z</dcterms:created>
  <dc:creator/>
  <dc:description/>
  <cp:keywords>幻灯片之家 http:/www.eeppt.com</cp:keywords>
  <dc:language>en-US</dc:language>
  <cp:lastModifiedBy/>
  <dcterms:modified xsi:type="dcterms:W3CDTF">2015-07-20T01:21:29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