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5FE-4E46-4D11-93C2-5623EE02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4675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964-6FFD-4DDE-BC18-14B9FD7D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472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4BD-A246-4B0C-98A6-C23E087F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24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48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24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48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D1E-43ED-4E2B-8E1E-C43F1560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3BAB-15FC-4946-83F4-FC48B4DD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2AA8-9210-49A3-A010-2AC86726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85B6-601C-4E65-B320-18A572C5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82CB-CE14-479B-90C0-D01DF99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8A2D-3E05-4DC8-B85B-39A72ACA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01028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1B1C-C11F-4E9B-94A0-E66732AE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1DF3-68D6-4E4F-816A-87D62C4D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58F-8A8E-4A9F-ADD5-1CB4ED1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472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2046-BA28-4C37-A0F0-8C7C2F8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4AF7-F271-4D89-9C64-D7855D47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42640" y="4675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2BD7-E5EE-423E-B6D9-0F2CC72B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472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4370-BB06-46CF-B350-EE1F4DD2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324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348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4264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324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348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488C-9A00-45FF-BC74-1091FE1E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7A3-5C0B-401F-A70E-DB050D5D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B48-53A8-42C3-B949-9FB89158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33E-0ACD-4D74-98A6-0C7AD800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01028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B70-F817-4A95-B7F2-D53B5043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AAB-D564-4E46-9B4F-6689723D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472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E67-8818-4B84-BB03-0A25AA1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D5D-DFCD-4A6D-BE3C-AAD90B6D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CA2E-528C-4D20-B56D-73FC0CDE8D5A}" type="slidenum"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345E-3EFC-417D-ADAA-A4E1D999390C}" type="slidenum"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咖啡</cp:keywords>
  <dc:language>en-US</dc:language>
  <cp:lastModifiedBy/>
  <cp:revision>0</cp:revision>
  <dc:subject/>
  <dc:title/>
</cp:coreProperties>
</file>