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48B5-CE6E-4628-9BF5-B5AD8775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0740-2BD2-4033-811D-EEB4A2AA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6A48-253D-41DD-AACD-E4D2EA6AF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07FC-9044-4890-BA45-5C219E77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F360-7B99-4B0F-8584-40C0DB58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9E52-0C4A-4921-AFA9-D448458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F0AF-1ACC-4247-B4EC-95F17B3E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2B85A-ADD6-44B8-988C-7256A3CF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E1BDC-3B53-4910-B8DA-C08A002A2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902D-E69A-4B9E-9504-05BE640E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47C9-7E31-44F9-8E16-CAB8AACB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E326-5863-42A3-8DFB-EFFEC4CA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584C-5ADD-4973-9124-8C35983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919E-3F24-453E-B853-E00C4BB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FDCA-58DB-4793-85FC-D54B0882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89A-D6D3-49C5-B19A-A20E49C8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D0BC-256F-42D8-9E67-DB6A5EB5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FEBE-4958-4846-96AD-AB20856D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6A2-1C29-4B2F-B1E8-D825AAC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89A-EF62-40EC-B833-760ACAE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92D9-5B0B-4801-934C-64EEB5B0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ADD6-79E6-47FB-A7D4-9543CE7E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4ED0-B831-48F1-8CD5-DC7B7E86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3F6-F06E-4BA1-BB54-5C1F3F71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8E73-4B65-47C6-8883-EA6C01628980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D56D-87B6-4F39-8317-3F8926A5993C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如何学习《财务案例研究》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、面授辅导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面授辅导老师负责以下教学任务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根据教学大纲的要求，配合文字教材、录像课，对学生进行辅导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②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负责教学答疑并按中央电大的统一教学要求布置并批改作业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③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组织学生收看录像课和直播课，定期组织学生进行讨论 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④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指导学习小组活动 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ahoma"/>
              </a:rPr>
              <a:t> </a:t>
            </a:r>
            <a:r>
              <a:rPr b="0" lang="zh-CN" sz="2400" spc="-1" strike="noStrike">
                <a:solidFill>
                  <a:srgbClr val="006699"/>
                </a:solidFill>
                <a:latin typeface="Tahoma"/>
              </a:rPr>
              <a:t>  </a:t>
            </a: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 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3.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网上辅导 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本课程将利用计算机网页发布网上教学辅导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内容包括课程教学大纲、教学实施方案、课程教学进度、课程学习重难点指导、具体案例分析，同时推出网上教与学讨论、电子邮件答疑等手段帮助学生学习。</a:t>
            </a:r>
            <a:br>
              <a:rPr sz="3200"/>
            </a:b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4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直播课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   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为帮助学生熟悉和掌握财务案例分析方法，提高财务案例研究课程的教学质量和学生的学习效率，本课程将安排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次直播课堂以配合教学进度，其内容包括各章节重、难点解答、学习方法及学习时应注意的问题及解题思路的提示、期末复习要求。具体播出日期中央电大另行通知。 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5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作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财务案例研究课程本学期学生必须完成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次作业。四次大作业及期中测验进度安排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一次作业：案例一至案例四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二次作业：案例五至案例八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三次作业：案例九至案例十二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    第四次作业：案例十三至案例十四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另外，市电大将根据实际的教学进度和学生的具体情况，安排离线作业，希望同学们按时完成。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         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《财务案例研究》充分体现财务管理理论、实务与政策的有机统一。对于财务管理理论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  <a:ea typeface="黑体"/>
              </a:rPr>
              <a:t> ，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我们通过以前的专业课程的学习已有一定的理论基础，但是，对于财务政策和财务实务大家比较陌生，吃透财务政策，熟悉财务实务也正是这门课程的重点所在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政策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要掌握财务政策，除了教材中提供的政策背景资料之外，我认为还应研读政策原文，这样才能准确全面的理解政策精神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查找政策原文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研读政策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政策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1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查找政策原文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【举例】案例一涉及到的政策法规有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       ①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《中华人民共和国公司法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     ②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《上市公司章程指引》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     ③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《中国上市公司治理准则》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     ④</a:t>
            </a: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中国证监会《关于在上市公司建立独立董事制度的指导意见》 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_x000b__x000c_"/>
                <a:ea typeface="黑体"/>
              </a:rPr>
              <a:t>   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政策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、如何研读政策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应全面研读政策，完整准确地把握政策实质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应结合案例研读，对案例所涉及到的政策内容应结合案例进行对照研究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㈠要学会研究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如何学习财务实务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66"/>
                </a:solidFill>
                <a:latin typeface="Tahoma"/>
                <a:ea typeface="黑体"/>
              </a:rPr>
              <a:t> 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  <a:ea typeface="黑体"/>
              </a:rPr>
              <a:t>财务实务是在财务理论指导下，在财务政策的规范下进行的。在学习财务实务 时，一方面要原原本本的学，注意方法、步骤、程序等实务问题，同时还应注意在实务背后的理论和政策规范，把三者统一起来，从而达到提高专业技能的目的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㈡要结合主讲教师对案例的点评，进行重点思考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一个实务案例会涉及到方方面面的问题，在研究一个具体案例时，不能眉毛胡子一把抓，要结合主讲教师对案例的点评，进行重点思考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讲授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课程性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课程主要内容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教学媒体使用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教学环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学习方法建议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作业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【举例】案例一主讲教师对案例进行了五个方面的点评：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（一）公司治理结构是财务管理的基础；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 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（二）公司财务分层管理架构</a:t>
            </a: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；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(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三）专业委员会和独立董事制度能够夯实治理结构，提升财务决策与监控效率；</a:t>
            </a: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(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四）治理结构中各机构责权需要适度“量化”；</a:t>
            </a: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      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(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五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) </a:t>
            </a:r>
            <a:r>
              <a:rPr b="0" lang="zh-CN" sz="2800" spc="-1" strike="noStrike">
                <a:solidFill>
                  <a:srgbClr val="006699"/>
                </a:solidFill>
                <a:latin typeface="_x000b__x000c_"/>
              </a:rPr>
              <a:t>真正实现“事业部”的架构任重道远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我们在研究这个案例时要结合主讲教师对案例的点评，进行重点思考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㈢ 要进行延伸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对于案例的把握，不要局限于教材和主讲教师的分析，要有自己的分析和观点，对于教材涉及到而又没有进行讲解的重要内容应进行延伸性学习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㈢ 要进行延伸性学习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【举例】在案例一的思考题中，有一个名词解释“类别股东”，这个名词在案例材料中并未出现，而掌握这个概念对理解案例内容十分重要，那么我们如何学习这个概念呢？我们可以充分利用网络资源进行延伸性学习——我们到互联网上去查一查什么是“类别股东”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五、学习方法建议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㈣要积极进行学习交流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由于案例材料涉及方方面面的问题，一个人的思考和理解总是存在着局限性，同时，我们每个人在学习时也会存在着这样那样的疑问，这时就要主动的进行学习交流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六、作业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我如何学习《财务案例研究》这门课？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0458c"/>
                </a:solidFill>
                <a:latin typeface="Tahoma"/>
              </a:rPr>
              <a:t>（ 《财务案例研究》 学习计划）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9480" y="457200"/>
            <a:ext cx="609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40458c"/>
                </a:solidFill>
                <a:latin typeface="Tahoma"/>
              </a:rPr>
              <a:t>谢谢大家，再见！</a:t>
            </a:r>
            <a:endParaRPr b="0" lang="en-US" sz="6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1500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XX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年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X</a:t>
            </a:r>
            <a:r>
              <a:rPr b="0" lang="zh-CN" sz="3600" spc="-1" strike="noStrike">
                <a:solidFill>
                  <a:srgbClr val="40458c"/>
                </a:solidFill>
                <a:latin typeface="Tahoma"/>
              </a:rPr>
              <a:t>月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一、课程性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、高级性。《财务案例研究 》是在专科《企业财务管理》、《中级财务会计》、《管理会计》和《审计学原理》以及本科《高级财务会计》、《高级财务管理》等课程的基础上，为进一步提高学生</a:t>
            </a:r>
            <a:r>
              <a:rPr b="1" lang="zh-CN" sz="3200" spc="-1" strike="noStrike">
                <a:solidFill>
                  <a:srgbClr val="000066"/>
                </a:solidFill>
                <a:latin typeface="Tahoma"/>
              </a:rPr>
              <a:t>理论层次和管理能力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而设置的一门专业课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ahoma"/>
              </a:rPr>
              <a:t>一、课程性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2. </a:t>
            </a:r>
            <a:r>
              <a:rPr b="0" lang="zh-CN" sz="3200" spc="-1" strike="noStrike">
                <a:solidFill>
                  <a:srgbClr val="000066"/>
                </a:solidFill>
                <a:latin typeface="Tahoma"/>
              </a:rPr>
              <a:t>综合性。  《财务案例研究》充分体现财务管理理论、实务与政策的有机统一，通过案例致力于培养学员清晰的专业理念、高超的专业技能和敏锐的专业判断 。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一、课程性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3. </a:t>
            </a:r>
            <a:r>
              <a:rPr b="0" lang="zh-CN" sz="3200" spc="-1" strike="noStrike">
                <a:solidFill>
                  <a:srgbClr val="40458c"/>
                </a:solidFill>
                <a:latin typeface="Tahoma"/>
              </a:rPr>
              <a:t>实践性。《财务案例研究》充分体现财务管理活动不能脱离特定的理财环境 ，以中国上市公司的案例为主就财务管理领域中的新的、特殊的管理问题进行阐述， 注重对学生研究能力和实践能力的培养。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二、教学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62120" y="1371600"/>
          <a:ext cx="8076960" cy="4654440"/>
        </p:xfrm>
        <a:graphic>
          <a:graphicData uri="http://schemas.openxmlformats.org/drawingml/2006/table">
            <a:tbl>
              <a:tblPr/>
              <a:tblGrid>
                <a:gridCol w="2286000"/>
                <a:gridCol w="579096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教学内容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文字教材案例名称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_x000b__x000c_"/>
                        </a:rPr>
                        <a:t>一、财务 基础</a:t>
                      </a: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一：  华南石油化工股份有限公司治理结构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二：  华北汽车集团母子公司控制体制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42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二、筹资运作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二：贵州仙酒股份有限公司的改制上市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三：</a:t>
                      </a: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2001</a:t>
                      </a: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年中国长江三峡工程开发总公司企             业债券发行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四：    吴越仪表发行可转换债券 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01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三、资产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五：     绿远公司固定资产投资可行性评价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八：   东亚石化集团财务公司内部结算中心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四、企业内部控制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六   上海胜华制药有限公司企业内部控制制度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二、教学内容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85800" y="1397160"/>
          <a:ext cx="8153280" cy="4876560"/>
        </p:xfrm>
        <a:graphic>
          <a:graphicData uri="http://schemas.openxmlformats.org/drawingml/2006/table">
            <a:tbl>
              <a:tblPr/>
              <a:tblGrid>
                <a:gridCol w="2362320"/>
                <a:gridCol w="5790960"/>
              </a:tblGrid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教学内容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文字教材案例名称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五、盈利分配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九：    凌波石化目标利润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一：  川江控股股份有限公司股利分配方案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六、业绩评价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：    中国华资集团的业绩评价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七、资产重组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三：  兰岛啤酒集团购并扩张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八、预算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d0e1d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七：    山东新华集团全面预算管理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九、财务战略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d0e1d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案例十四：   深科新出售深佳和</a:t>
                      </a: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58c"/>
                </a:solidFill>
                <a:latin typeface="Tahoma"/>
              </a:rPr>
              <a:t>三、教学媒体使用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文字教材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本课程的文字教材是汤谷良编著的《财务案例研究》，中央广播电视大学出版社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2002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年出版。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音像教材 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    音像教材为录像教材，共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课时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006699"/>
                </a:solidFill>
                <a:latin typeface="Tahoma"/>
              </a:rPr>
              <a:t>    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c1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66"/>
                </a:solidFill>
                <a:latin typeface="Tahoma"/>
              </a:rPr>
              <a:t>四、教学环节</a:t>
            </a:r>
            <a:r>
              <a:rPr b="0" lang="zh-CN" sz="4400" spc="-1" strike="noStrike">
                <a:solidFill>
                  <a:srgbClr val="0066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自学及 学习小组活动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    </a:t>
            </a: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《财务案例研究》是在本科阶段高年级开设的一门理论性与实践性较强的课程，带有一定的研究性质。同学们在这门课程的学习过程中，要充分发挥学习的自主性，进行研究性学习，同时，希望大家很好地利用学习小组活动，进行充分的讨论和交流，以期共同提高。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学习 财务案例</cp:keywords>
  <dc:language>en-US</dc:language>
  <cp:lastModifiedBy/>
  <cp:revision>0</cp:revision>
  <dc:subject/>
  <dc:title/>
</cp:coreProperties>
</file>