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747-3550-417C-B82B-538E8301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0DD-9B3E-4D5E-97D7-4DDFECA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853-C63F-4D1D-B4A3-5CF9F472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96E-7799-41B9-96E7-A7767EAD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266-E59A-40FE-9743-7A603A24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567-3714-4CF1-B2F6-15134B3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30D-E2CD-4B7B-BE99-2FF79A8A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AF05-53C2-4FEF-8021-790DF4AA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36C2-FD0A-45E9-A903-68F4DD2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0914-DA28-466F-BB0E-12B8002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AD7-629D-4F7D-BC1C-5DA3AB6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355-F2F0-4E63-9CF6-D1B5889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E16-48D1-4B9C-8A5D-59521D5F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8537-28F1-4037-B28D-29861F2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E72-D0B9-4014-B85B-B3E07E2F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148-7E9A-488A-AF2F-DC12A51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BCB-F7E7-4B27-A583-8B0FB631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51E-BA16-4233-9BB2-A9BE6682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A90-5CBD-42C4-8610-6F8D253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201-3FB0-4641-BF1A-8EB288E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BC3-9F19-41F2-84E7-7FD1015F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3E4-D8F4-4623-9461-236FD46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044-7FB4-446B-BF37-B5A4BCBA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A87-087A-4F53-AA98-34E1A04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C02-429D-4FAB-B5D6-E862252B700B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0FE-B234-43DE-AE1F-C2AE4AE4E0C7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標楷體"/>
                <a:ea typeface="標楷體"/>
              </a:rPr>
              <a:t>認知心理學導論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定義與內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誕生經過及重要人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本學期課程介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如果情緒和理智打架，那邊會佔上風？我們的心情和感受如何影響我們對訊息的判斷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之內涵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67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感覺、知覺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注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記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理解、思維、語言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決策、問題解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動機、意識、情緒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認知心理學的誕生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716280"/>
            <a:ext cx="1800000" cy="1224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哲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414972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645000"/>
            <a:ext cx="1873080" cy="1368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心理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92720" y="4257360"/>
            <a:ext cx="819720" cy="216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789360"/>
            <a:ext cx="1871640" cy="1152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認知心理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1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哲學的淵源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025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哲學：人的知識從何而來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55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2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心理學的基礎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心理學：透過科學的方法，以瞭解人類心智結構，運作歷程，以及學習的機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不同心理學派典：結構論，功能論，連結論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                  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行為學 派…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3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正式登場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1960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年代末 </a:t>
            </a:r>
            <a:r>
              <a:rPr b="0" lang="zh-TW" sz="3600" spc="-1" strike="noStrike" u="sng">
                <a:solidFill>
                  <a:srgbClr val="cc00cc"/>
                </a:solidFill>
                <a:uFillTx/>
                <a:latin typeface="Times New Roman"/>
                <a:ea typeface="標楷體"/>
              </a:rPr>
              <a:t>認知心理學勢力抬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692360" y="2781000"/>
            <a:ext cx="380880" cy="6094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500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967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第一本認知心理學的教科書出版，作者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U.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的研究方法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實驗室實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生理測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案主自我報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個案研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自然觀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電腦模擬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/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工智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本學期課程簡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2492280"/>
            <a:ext cx="50101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定義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認知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cognition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    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--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類思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認知心理學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cognitive psychology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--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探討人類如何處理知覺，學習，記憶，和思考的科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我們會對有些人，事，物的記憶特別深刻？有些又忘得很快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人家說：眼見為憑。請問：車禍目擊者的說法是否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％正確，足以採信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人會「看走眼」？明明是「接骨所」卻誤以為是「排骨店」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很普通的女人，可以造出高挑又美麗的模特兒造型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846920" cy="18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會下棋的高手和初學者記憶棋子和思索下棋步驟的方式有何差別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類怎麼學會語言的？或是語言的習得是天生能力的？語言會不會影響一個人的思考方式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可不可以造出和人腦一樣聰明的機器人，讓他們具有人工智慧（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AI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大腦的功能和運作對我們的思考和行為產生什麼影響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認知 心理學 導論</cp:keywords>
  <dc:language>en-US</dc:language>
  <cp:lastModifiedBy/>
  <cp:revision>0</cp:revision>
  <dc:subject/>
  <dc:title/>
</cp:coreProperties>
</file>