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9E8-152E-496B-9C36-2F81AD09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454-E402-4152-B7AD-22598E02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12D-36B2-4565-A507-D03F8599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45D-4744-42AE-8F20-BE958E1C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DE1-40F9-41FC-A608-6F8482D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4BE-29E4-4F10-8D75-3F2AD30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30E-A538-409C-B94E-34DC7D2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549-9B96-4FB0-A3F9-D65E659F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1E5-4F6F-4A68-A65F-E991BE8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748-5B99-4ACB-9651-56DC38E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160-04F7-4414-9BBC-F5783E7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300-AC10-4F79-BF37-45727D1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5B76-B6D6-4749-A95D-C1694B29154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四标一体化管理体系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的建立与实施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508640"/>
            <a:ext cx="8136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国际工程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培训用教材）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.X.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三、一体化管理体系的基本框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体化管理体系的含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体化管理体系的模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标准的共同点与不同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H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SO140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OHSM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个标准的名称及构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个标准的文件结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标一体化管理体系总体构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24360" y="3141720"/>
            <a:ext cx="3168720" cy="345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四、国际工程公司</a:t>
            </a: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QOHSE</a:t>
            </a: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体系构成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顾客为关注焦点的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八项质量原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基础。采用以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过程为基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管理体系模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质量管理体系为基础框架，采取“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兼容共性、互补个性”的原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兼容其他三个体系要求，经整合成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大功能块，形成以管理职责、资源管理、涉外商务管理实现、测量分析改进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的四大过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文件化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件结构简化为两极管理。第一级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管理手册，其中含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程序文件；第二级为作业文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文件整合中，将满足顾客要求</a:t>
            </a:r>
            <a:r>
              <a:rPr b="0" lang="zh-CN" sz="3200" spc="-1" strike="noStrike">
                <a:solidFill>
                  <a:srgbClr val="99ff33"/>
                </a:solidFill>
                <a:latin typeface="Arial"/>
              </a:rPr>
              <a:t>扩展为满足员工、社会和其他相关方要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将危险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境因素识别与评价的控制、变更管理等纳入第四章策划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将国外石油工程的开发实施、进出口业务、外包工程控制管理、应急与响应管理纳入第七章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将办公、生活区的职业安全健康与环境管理纳入第六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应用过程方法、管理的系统方法、采用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PDCA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循环的三级监控机制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而形成持续改进的一体化管理体系的模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701"/>
                </a:solidFill>
                <a:latin typeface="Arial"/>
              </a:rPr>
              <a:t>五、一体化管理体系方针、目标和领导承诺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59640" y="3213000"/>
            <a:ext cx="2484360" cy="364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213372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准对方针的要求是 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领导承诺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管理方针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含义是如何解释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联系本职工作你是如何理解和落实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89308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e701"/>
                </a:solidFill>
                <a:latin typeface="Arial"/>
              </a:rPr>
              <a:t>一体化管理体系的运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529080" cy="3108240"/>
          </a:xfrm>
          <a:prstGeom prst="rect">
            <a:avLst/>
          </a:prstGeom>
          <a:ln w="0">
            <a:noFill/>
          </a:ln>
        </p:spPr>
      </p:pic>
      <p:sp>
        <p:nvSpPr>
          <p:cNvPr id="74" name="UpRibbonSharp"/>
          <p:cNvSpPr/>
          <p:nvPr/>
        </p:nvSpPr>
        <p:spPr>
          <a:xfrm>
            <a:off x="1979640" y="333360"/>
            <a:ext cx="5040360" cy="1219320"/>
          </a:xfrm>
          <a:custGeom>
            <a:avLst/>
            <a:gdLst>
              <a:gd name="textAreaLeft" fmla="*/ 1260000 w 5040360"/>
              <a:gd name="textAreaRight" fmla="*/ 3780360 w 504036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ahoma"/>
              </a:rPr>
              <a:t>第三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一、理念上的转变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写你所做，作你所写，做要留有证据，做要持续有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第一件事就做对，做对每件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纠正不合格的、预防潜在的不合格、跟踪验证、持续改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各司其职，各负其则。按标准执行，按程序办事。实施一把手工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二、需做的工作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分层次培训体系文件。各职能部门负责人组织学习（作培训计划，留有证据）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看职责、查职能分配表、按主管程序的活动内容、填写记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识别过程，明确职责，分解管理目标、指标、管理方案，（制定工作质量达标的标准）落实到岗。检查到位，纠正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预防，跟踪验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作好基础工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82072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              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谢谢合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473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00"/>
                </a:solidFill>
                <a:latin typeface="Arial"/>
              </a:rPr>
              <a:t>值得思考的几个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65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为什么要建立一体化的管理体系？建立实施的作用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国际工程公司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QOHS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体系如何策划？基本框架及结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本行业产品、服务特征是什么？服务过程的控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一体化管理体系的如何运行？你应做那些工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62840" y="2492280"/>
            <a:ext cx="20811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9840" y="249192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建立一体化管理体系的意义和作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UpRibbonSharp"/>
          <p:cNvSpPr/>
          <p:nvPr/>
        </p:nvSpPr>
        <p:spPr>
          <a:xfrm>
            <a:off x="1619280" y="549360"/>
            <a:ext cx="5977080" cy="1218960"/>
          </a:xfrm>
          <a:custGeom>
            <a:avLst/>
            <a:gdLst>
              <a:gd name="textAreaLeft" fmla="*/ 1494360 w 5977080"/>
              <a:gd name="textAreaRight" fmla="*/ 4483080 w 5977080"/>
              <a:gd name="textAreaTop" fmla="*/ 0 h 1218960"/>
              <a:gd name="textAreaBottom" fmla="*/ 1066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003366"/>
                </a:solidFill>
                <a:latin typeface="Tahoma"/>
              </a:rPr>
              <a:t>第一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84720" y="3314880"/>
            <a:ext cx="4859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701"/>
                </a:solidFill>
                <a:latin typeface="Arial"/>
              </a:rPr>
              <a:t>一、体系的作用和特征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通过体系认识世界、通过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管理企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体系的特征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701"/>
                </a:solidFill>
                <a:latin typeface="Arial"/>
              </a:rPr>
              <a:t>总体性、关联性、有序性、动态性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35640" y="4724280"/>
            <a:ext cx="3384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Arial"/>
              </a:rPr>
              <a:t>二、体系、管理体系的含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体系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相互关联或相互作用的一组要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管理体系：建立方针和目标并实现这些目标的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质量管理体系：在质量方面指挥和控制组织的管理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质量健康安全环境管理体系：在质量健康安全环境方面指挥和控制组织的管理体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Arial"/>
              </a:rPr>
              <a:t>三、</a:t>
            </a: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实施</a:t>
            </a: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QOHSE</a:t>
            </a: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的意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 企业应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T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求，提高核心竞争力的必由之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建立一体化管理体系是适应国际一体化认证的需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建立一体化管理体系是强化企业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的需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、实现可持续发展的需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84720" y="3314880"/>
            <a:ext cx="4859280" cy="354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2205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际工程公司一体化管理体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策划、基本框架和结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UpRibbonSharp"/>
          <p:cNvSpPr/>
          <p:nvPr/>
        </p:nvSpPr>
        <p:spPr>
          <a:xfrm>
            <a:off x="1619280" y="549360"/>
            <a:ext cx="5977080" cy="1218960"/>
          </a:xfrm>
          <a:custGeom>
            <a:avLst/>
            <a:gdLst>
              <a:gd name="textAreaLeft" fmla="*/ 1494360 w 5977080"/>
              <a:gd name="textAreaRight" fmla="*/ 4483080 w 5977080"/>
              <a:gd name="textAreaTop" fmla="*/ 0 h 1218960"/>
              <a:gd name="textAreaBottom" fmla="*/ 1066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003366"/>
                </a:solidFill>
                <a:latin typeface="Tahoma"/>
              </a:rPr>
              <a:t>第二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一、涉外商务的产品特性</a:t>
            </a:r>
            <a:br>
              <a:rPr sz="4400"/>
            </a:b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和经营特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国际石油工程开发与实施过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进出口贸易服务过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701"/>
                </a:solidFill>
                <a:latin typeface="Times New Roman"/>
              </a:rPr>
              <a:t>二、对服务过程控制的策划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32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cc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e701"/>
                </a:solidFill>
                <a:latin typeface="Arial"/>
              </a:rPr>
              <a:t>服务市场开发过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从顾客与供方的接触面而来考虑问题，识别和确定服务需要。如人、财、物、经营经验、市场宣传等来提出了一个完整的服务提要。说明本企业要进行什么类型的服务，什么规模的服务，什么档次的服务以及什么质量的服务等。 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体系 建立</cp:keywords>
  <dc:language>en-US</dc:language>
  <cp:lastModifiedBy/>
  <cp:revision>0</cp:revision>
  <dc:subject/>
  <dc:title/>
</cp:coreProperties>
</file>