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5B9F-543D-4197-826F-DC6D6EA6B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00E0-B008-415C-9D20-9C79862CF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CFC4-A4BA-45C6-835C-494546CD2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D516-C762-47EC-A602-2C7807904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4C78-599B-4842-95DF-35DDDE44C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36E2-3855-45CB-BB75-CB336F42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3EF9-5E6A-4107-AEB6-00B36A00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1B33-D9F2-4654-878E-6910626F3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70E2-9C96-4A02-B466-98F9204D2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D867-A12E-4286-8F0D-B0BDC716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EF57-8A39-42D0-AD1D-794C84BF5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0CD0-037A-4FF8-9BA1-A17B86D3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AF3E-193D-4674-A04D-971692DE61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133720" y="3048120"/>
            <a:ext cx="46479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市场交易的原则</a:t>
            </a:r>
            <a:endParaRPr b="0" lang="en-US" sz="60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2743200" cy="3581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7200" y="3049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（一）市场交易原则的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1430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市场交易原则是市场交易活动中必须遵守的规则和秩序的根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市场交易原则的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09680" y="3352680"/>
            <a:ext cx="693432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）保证市场交易活动有秩序、按规则进行的基本条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）规范经营者和消费者交易活动的章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66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10552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04920" y="3049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4572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)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市场交易原则的内容——自愿、平等、公平、诚实信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520" y="1981080"/>
            <a:ext cx="3200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自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4d4d4d"/>
                </a:solidFill>
                <a:uFillTx/>
                <a:latin typeface="Times New Roman"/>
                <a:ea typeface="黑体"/>
              </a:rPr>
              <a:t>平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公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4d4d4d"/>
                </a:solidFill>
                <a:uFillTx/>
                <a:latin typeface="Times New Roman"/>
                <a:ea typeface="黑体"/>
              </a:rPr>
              <a:t>诚实信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523880" y="1390680"/>
          <a:ext cx="6097680" cy="407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390680"/>
                    <a:ext cx="609768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ff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2209680"/>
            <a:ext cx="2514600" cy="3276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" y="83808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（三）坚持市场交易原则的必要性及现实情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533520" y="2133720"/>
            <a:ext cx="77691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商品是天生的平等派</a:t>
            </a:r>
            <a:endParaRPr b="0" lang="en-US" sz="7200" spc="1" strike="noStrike">
              <a:ln w="19080">
                <a:solidFill>
                  <a:srgbClr val="00ff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4191120"/>
            <a:ext cx="9144000" cy="269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181480" y="5257800"/>
            <a:ext cx="259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马克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828800" y="685800"/>
            <a:ext cx="67057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9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县城乡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村农民于某买了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斤“秋光”稻种，因为误买的是伪劣种子，秋收时，每亩减产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斤，造成损失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44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；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村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二十几户农民，种下了从锦州义县购进的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5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公斤玉米种，秋收时竟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0%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结玉米棒，造成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亩地歉收，经济损失达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9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春节期间，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省假酒案又有上百人受害，多人失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u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市场 交易 原则</cp:keywords>
  <dc:language>en-US</dc:language>
  <cp:lastModifiedBy/>
  <cp:revision>0</cp:revision>
  <dc:subject/>
  <dc:title/>
</cp:coreProperties>
</file>