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D8C-1A49-44B0-BC39-01B1D4E5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423-C141-4F1A-8D5E-38268D7E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A03-3056-4325-B01F-DF3DA9F5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004-C8DE-4C46-9388-A5F64A5F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C0DD-3347-4BB1-A2CF-1637C91E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F2B5-4B79-453E-B63B-D4C8ABE2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63CB-E488-4E30-B546-D242A6E3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AF09-BE4C-4E1A-8E2E-63AD6DE6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B0F7-E98F-4A03-A3FC-1F6D891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45E2-12B0-461E-AEB0-43621CEB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E871-297C-447A-B08D-E95D9D6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50C5-3C2D-4AD2-8067-55A2A4B3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E3A4-526E-4BE0-A287-041ECBEA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32A8-13C7-42F2-90CC-A8989651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88A5-F61E-464D-9932-8BCCBD40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D623-087E-4F11-97BE-F453F8DEF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8F08-911F-4E5E-8514-04CD795F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56C-427B-4046-9676-8AE654E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404-E9AD-4D9D-80CD-4F5F34CB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A76-2F61-4703-A9C5-D8AE085F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321-16A8-4F26-8DA0-3B2E013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2F1-BBAE-449A-86E2-9BC12E5D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74E-0B1F-45A4-A467-DE90F65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A31-428A-4F24-94F4-9EB94C5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72E5-D551-46F2-9107-C79BCCF533F4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819-40FC-4B15-BF9A-6AB75EC982EC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2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66"/>
                </a:solidFill>
                <a:latin typeface="Tahoma"/>
              </a:rPr>
              <a:t>XXX</a:t>
            </a:r>
            <a:r>
              <a:rPr b="0" lang="zh-CN" sz="5400" spc="-1" strike="noStrike">
                <a:solidFill>
                  <a:srgbClr val="660066"/>
                </a:solidFill>
                <a:latin typeface="Tahoma"/>
              </a:rPr>
              <a:t>市场商情数据库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5472"/>
                </a:solidFill>
                <a:latin typeface="Tahoma"/>
                <a:ea typeface="隶书"/>
              </a:rPr>
              <a:t>图书馆情报咨询部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金融市场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金融市场刊物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有关金融证券的出版物，如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DRC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国研金融聚焦、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Stock Market Statistics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、深交所月度统计报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市场指数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：提供上交所、深交所的证券市场指数行情列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符号查询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输入股票代码，可查看该股票行情及走势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法规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法律法规刊物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关于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国法律法规的报刊和全文数据库，如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XX</a:t>
            </a:r>
            <a:r>
              <a:rPr b="0" lang="zh-CN" sz="3200" spc="-1" strike="noStrike">
                <a:solidFill>
                  <a:srgbClr val="6600ff"/>
                </a:solidFill>
                <a:latin typeface="宋体"/>
              </a:rPr>
              <a:t>国法律法规数据库、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China Law and Practice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EIU Politics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法律新闻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中外重要报刊的法律新闻，如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人民日报、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  <a:ea typeface="Arial"/>
              </a:rPr>
              <a:t>Asia Times</a:t>
            </a:r>
            <a:r>
              <a:rPr b="0" lang="zh-CN" sz="3200" spc="-1" strike="noStrike">
                <a:solidFill>
                  <a:srgbClr val="6600ff"/>
                </a:solidFill>
                <a:latin typeface="Times New Roman"/>
              </a:rPr>
              <a:t>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研究报告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检索界面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报告类型、语种、公司、行业及研究机构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个检索字段组配检索，词间为逻辑算符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And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关系。在下拉菜单中选择检索内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研究刊物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研究刊物列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推荐重要研究报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检索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查询关于鞍钢新轧钢的中英文研究报告</a:t>
            </a:r>
            <a:br>
              <a:rPr sz="3200"/>
            </a:b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查询有关教育服务业和文化娱乐业的行业分析报告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信息来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刊物查询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对刊物的名称进行检索，出版物包括新闻报刊、证券报告、调查报告、政府报告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宋体"/>
              </a:rPr>
              <a:t>按出版机构划分刊物</a:t>
            </a:r>
            <a:r>
              <a:rPr b="0" lang="zh-CN" sz="3200" spc="-1" strike="noStrike">
                <a:solidFill>
                  <a:srgbClr val="545472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6600ff"/>
                </a:solidFill>
                <a:latin typeface="Tahoma"/>
              </a:rPr>
              <a:t>提供出版机构下拉列表，查看该机构的出版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将出版机构分成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13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大类，选择类别查看出版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检索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全面检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为默认检索界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在检索框中可输入检索词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在三个下拉菜单中，对国家、语种、文献类型进行限定，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Shift+</a:t>
            </a: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为连选， 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  <a:ea typeface="Arial"/>
              </a:rPr>
              <a:t>Ctrl+</a:t>
            </a: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为跳选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可对检索内容进行时间限定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刊物查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Arial"/>
              </a:rPr>
              <a:t>可对一个或几个刊物的内容进行检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宋体"/>
              </a:rPr>
              <a:t>需独立检索的刊物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查询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可在</a:t>
            </a: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12</a:t>
            </a:r>
            <a:r>
              <a:rPr b="0" lang="zh-CN" sz="2400" spc="-1" strike="noStrike">
                <a:solidFill>
                  <a:srgbClr val="545472"/>
                </a:solidFill>
                <a:latin typeface="Tahoma"/>
              </a:rPr>
              <a:t>个刊物和数据库内进行检索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447920" y="1828800"/>
            <a:ext cx="64767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Lithograph"/>
              </a:rPr>
              <a:t>THANK  YOU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Lithograph"/>
              <a:ea typeface="Lithograp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简  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涉及经济、金融、市场、法律等领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市场范围为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52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个国家和地区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信息来源于全球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4400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多种重要的媒体、政府部门、金融证券、咨询研究等信息机构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中文信息的主要来源，如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XXX</a:t>
            </a:r>
            <a:r>
              <a:rPr b="0" lang="zh-CN" sz="3200" spc="-1" strike="noStrike">
                <a:solidFill>
                  <a:srgbClr val="545472"/>
                </a:solidFill>
                <a:latin typeface="Tahoma"/>
              </a:rPr>
              <a:t>等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九大主题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新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公司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行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宏观经济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金融市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法律法规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研究报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信息来源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5472"/>
                </a:solidFill>
                <a:latin typeface="Tahoma"/>
              </a:rPr>
              <a:t>MyISI</a:t>
            </a:r>
            <a:r>
              <a:rPr b="1" lang="zh-CN" sz="2400" spc="-1" strike="noStrike">
                <a:solidFill>
                  <a:srgbClr val="545472"/>
                </a:solidFill>
                <a:latin typeface="Tahoma"/>
              </a:rPr>
              <a:t>（我馆未购买）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934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新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新闻刊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: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中外关于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XX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国市场的重要经济和行业报刊，可查看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当日最新内容和历史资料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按刊物最近新闻：</a:t>
            </a:r>
            <a:r>
              <a:rPr b="1" i="1" lang="zh-CN" sz="3200" spc="-1" strike="noStrike">
                <a:solidFill>
                  <a:srgbClr val="6600ff"/>
                </a:solidFill>
                <a:latin typeface="Arial"/>
              </a:rPr>
              <a:t>可分刊物浏览今日和近三天的中英文新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Newswatch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今日要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行业分类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：可依据行业浏览新闻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新发布刊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最新市场商情出版物，如行业研究报告、统计图表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ISI</a:t>
            </a:r>
            <a:r>
              <a:rPr b="1" i="1" lang="zh-CN" sz="3200" spc="-1" strike="noStrike">
                <a:solidFill>
                  <a:srgbClr val="545472"/>
                </a:solidFill>
                <a:latin typeface="Arial"/>
              </a:rPr>
              <a:t>特色刊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:</a:t>
            </a:r>
            <a:r>
              <a:rPr b="0" lang="zh-CN" sz="3200" spc="-1" strike="noStrike">
                <a:solidFill>
                  <a:srgbClr val="545472"/>
                </a:solidFill>
                <a:latin typeface="Arial"/>
                <a:ea typeface="Arial"/>
              </a:rPr>
              <a:t> ISI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</a:rPr>
              <a:t>推荐的刊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公司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提供公司名称、公司名称首字母、公司所在行业三种检索途径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公司刊物</a:t>
            </a:r>
            <a:r>
              <a:rPr b="0" lang="zh-CN" sz="3600" spc="-1" strike="noStrike">
                <a:solidFill>
                  <a:srgbClr val="545472"/>
                </a:solidFill>
                <a:latin typeface="Arial"/>
                <a:ea typeface="Arial"/>
              </a:rPr>
              <a:t>: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提供关于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XX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国企业的报刊、研究报告和数据库等出版物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Arial"/>
              </a:rPr>
              <a:t>最近公司分析：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关于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XX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国企业的最新分析报告</a:t>
            </a: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举  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ahoma"/>
              </a:rPr>
              <a:t>在企业主题中用上述三种途径检索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1" i="1" lang="zh-CN" sz="3600" spc="-1" strike="noStrike">
                <a:solidFill>
                  <a:srgbClr val="6600ff"/>
                </a:solidFill>
                <a:latin typeface="Tahoma"/>
              </a:rPr>
              <a:t>保险公司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关于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保险的新闻报道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7696080" cy="47246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38080" y="4114800"/>
            <a:ext cx="609840" cy="2209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286000"/>
            <a:ext cx="1828800" cy="914400"/>
          </a:xfrm>
          <a:prstGeom prst="wedgeRoundRectCallout">
            <a:avLst>
              <a:gd name="adj1" fmla="val -152865"/>
              <a:gd name="adj2" fmla="val 194967"/>
              <a:gd name="adj3" fmla="val 166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可选择多条新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2520" y="4191120"/>
            <a:ext cx="3429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9920" y="2971800"/>
            <a:ext cx="1752480" cy="762120"/>
          </a:xfrm>
          <a:prstGeom prst="wedgeRoundRectCallout">
            <a:avLst>
              <a:gd name="adj1" fmla="val -65490"/>
              <a:gd name="adj2" fmla="val 92500"/>
              <a:gd name="adj3" fmla="val 16667"/>
            </a:avLst>
          </a:prstGeom>
          <a:solidFill>
            <a:srgbClr val="66ff33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也可直接点击阅读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行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行业刊物：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提供各个行业的重要中英文报刊及行业研究和统计报告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45472"/>
                </a:solidFill>
                <a:latin typeface="Tahoma"/>
              </a:rPr>
              <a:t>行业简介：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将行业分成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11</a:t>
            </a:r>
            <a:r>
              <a:rPr b="0" lang="zh-CN" sz="3600" spc="-1" strike="noStrike">
                <a:solidFill>
                  <a:srgbClr val="6600ff"/>
                </a:solidFill>
                <a:latin typeface="Tahoma"/>
              </a:rPr>
              <a:t>大类，可进行分类检索，查看某行业的公司、新闻、分析报告和统计预测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宏观经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宏观经济刊物：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提供经济方面的重要刊物及机构对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国宏观经济的统计、分析和预测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宏观统计：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提供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90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年代以来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XX</a:t>
            </a:r>
            <a:r>
              <a:rPr b="0" lang="zh-CN" sz="2800" spc="-1" strike="noStrike">
                <a:solidFill>
                  <a:srgbClr val="6600ff"/>
                </a:solidFill>
                <a:latin typeface="Tahoma"/>
              </a:rPr>
              <a:t>国地区的宏观经济指标的实际值、共识预测以及宏观经济指标的界定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545472"/>
                </a:solidFill>
                <a:latin typeface="Arial"/>
              </a:rPr>
              <a:t>大宏观经济指标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</a:rPr>
              <a:t>：人口就业信息、经济结构、价格与通货膨胀、财政信息、货币数据、金融体系、国际收支、债务及资本流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可将上述指标数据以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excel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格式输出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商情</cp:keywords>
  <dc:language>en-US</dc:language>
  <cp:lastModifiedBy/>
  <cp:revision>0</cp:revision>
  <dc:subject/>
  <dc:title/>
</cp:coreProperties>
</file>