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A6B-B490-4202-96C6-BB9406FF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4E5-79B1-496F-911A-7A7504F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D34-9912-487C-B831-7FE959E3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714-7552-40C1-BBF6-362915F5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2E8C-AC34-45A6-997C-BDEC3703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349-472E-4087-8A57-B9146E3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0CF3-A58C-4653-8503-0422D39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1441-5FCC-4D38-BAD7-4660F29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1B2D-8EB9-4EFC-8735-5C8041D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D14-2557-44FA-A06C-A227DE1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3363-71FC-4836-8134-EF66237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2BA-F941-4D7E-983B-1C3E131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620F-415B-4881-B3F8-EAFD083C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2186-5968-4A3B-8A18-909E7BA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6689-513E-40B7-B4C9-4BEFE9F7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07AA-1114-4524-A039-99005C55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31F0-72E7-4022-BFBF-9DBC413B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E6B-65C0-4775-B29D-199F0F74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A4C-BECF-40CE-AEA0-11B1324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F1C-B61A-45B4-8377-6A5A1BF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E62-869D-4544-9F02-0E621D5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76F-59EA-4C65-B411-1B9F880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F5E-35DA-4794-94C4-816F833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527-B5A2-4961-B5A3-5C82654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2A21-0B56-4886-931D-1EC8C75D940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0E2-7768-4939-A6C8-886E074AF367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1557000"/>
            <a:ext cx="6192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6699"/>
                </a:solidFill>
                <a:latin typeface="Verdana"/>
                <a:ea typeface="华文行楷"/>
              </a:rPr>
              <a:t>第八章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68360" y="3789360"/>
            <a:ext cx="8424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Verdana"/>
                <a:ea typeface="黑体"/>
              </a:rPr>
              <a:t>市场营销管理过程</a:t>
            </a:r>
            <a:endParaRPr b="1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xh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1927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Verdana"/>
                <a:ea typeface="华文琥珀"/>
              </a:rPr>
              <a:t>第一节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5640" y="3933720"/>
            <a:ext cx="75200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33"/>
                </a:solidFill>
                <a:latin typeface="黑体"/>
                <a:ea typeface="黑体"/>
              </a:rPr>
              <a:t>企业战略规划与战略性营销规划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xh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一、战略性营销规划是企业战略规划的基础和重要组成部分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二、战略性市场营销规划又是企业其他相关规划的基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三、企业战略规划中的市场营销活动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xh" descr=""/>
          <p:cNvPicPr/>
          <p:nvPr/>
        </p:nvPicPr>
        <p:blipFill>
          <a:blip r:embed="rId1"/>
          <a:stretch/>
        </p:blipFill>
        <p:spPr>
          <a:xfrm>
            <a:off x="324000" y="289080"/>
            <a:ext cx="7189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192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Verdana"/>
                <a:ea typeface="华文琥珀"/>
              </a:rPr>
              <a:t>第二节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02920" y="436536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33"/>
                </a:solidFill>
                <a:latin typeface="Verdana"/>
                <a:ea typeface="黑体"/>
              </a:rPr>
              <a:t>企业营销管理过程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xh" descr=""/>
          <p:cNvPicPr/>
          <p:nvPr/>
        </p:nvPicPr>
        <p:blipFill>
          <a:blip r:embed="rId1"/>
          <a:stretch/>
        </p:blipFill>
        <p:spPr>
          <a:xfrm>
            <a:off x="324000" y="289080"/>
            <a:ext cx="7189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企业营销管理过程由五个步骤组成：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分析企业市场机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研究与选择目标市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ff"/>
                </a:solidFill>
                <a:uFillTx/>
                <a:latin typeface="黑体"/>
                <a:ea typeface="黑体"/>
              </a:rPr>
              <a:t>制定战略性市场营销规划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ff"/>
                </a:solidFill>
                <a:uFillTx/>
                <a:latin typeface="黑体"/>
                <a:ea typeface="黑体"/>
              </a:rPr>
              <a:t>规划与执行市场营销组合策略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实施市场营销控制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xh" descr=""/>
          <p:cNvPicPr/>
          <p:nvPr/>
        </p:nvPicPr>
        <p:blipFill>
          <a:blip r:embed="rId1"/>
          <a:stretch/>
        </p:blipFill>
        <p:spPr>
          <a:xfrm>
            <a:off x="179280" y="246240"/>
            <a:ext cx="576360" cy="590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43640" y="602136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华文隶书"/>
              </a:rPr>
              <a:t>单击进入复习思考题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企业战略性营销分析中，流行的“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SWOT”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分析法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“</a:t>
            </a: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SWOT”</a:t>
            </a: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分析法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S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内部的能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W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的薄弱环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O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来自企业外部的机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T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面临外部的威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xh" descr=""/>
          <p:cNvPicPr/>
          <p:nvPr/>
        </p:nvPicPr>
        <p:blipFill>
          <a:blip r:embed="rId1"/>
          <a:stretch/>
        </p:blipFill>
        <p:spPr>
          <a:xfrm>
            <a:off x="250920" y="317520"/>
            <a:ext cx="57600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04000" y="5950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黑体"/>
              </a:rPr>
              <a:t>单击返回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市场营销组合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企业在选定的目标市场上，综合考虑环境、能力、竞争状况等因素，对企业自身可以控制的因素加以最佳组合和运用，以完成企业的目标与任务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华文隶书"/>
                <a:ea typeface="华文隶书"/>
              </a:rPr>
              <a:t>4P</a:t>
            </a:r>
            <a:r>
              <a:rPr b="0" lang="zh-CN" sz="4000" spc="-1" strike="noStrike">
                <a:solidFill>
                  <a:srgbClr val="cc0099"/>
                </a:solidFill>
                <a:latin typeface="华文隶书"/>
                <a:ea typeface="华文隶书"/>
              </a:rPr>
              <a:t>组合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产品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produ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价格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ric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渠道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lac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促销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romotion)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xh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11280" cy="617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272360" y="587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华文隶书"/>
              </a:rPr>
              <a:t>单击返回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Verdana"/>
                <a:ea typeface="黑体"/>
              </a:rPr>
              <a:t>复习思考题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、简述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SWOT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分析法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、简述市场营销组合及特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xh" descr=""/>
          <p:cNvPicPr/>
          <p:nvPr/>
        </p:nvPicPr>
        <p:blipFill>
          <a:blip r:embed="rId1"/>
          <a:stretch/>
        </p:blipFill>
        <p:spPr>
          <a:xfrm>
            <a:off x="250920" y="369720"/>
            <a:ext cx="50472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 管理</cp:keywords>
  <dc:language>en-US</dc:language>
  <cp:lastModifiedBy/>
  <cp:revision>0</cp:revision>
  <dc:subject/>
  <dc:title/>
</cp:coreProperties>
</file>