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0CD-F283-4153-AEB3-77D3866F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0F9-5E24-46D7-8056-93EC6E1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F2F-D307-4A5C-8E7D-BBC0D854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42C-0BB4-4175-A80C-9E890EB5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742-5057-4F40-84C8-6A47C343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9E2-9264-4FB5-A931-BE57414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FD8-9735-43AB-999F-E177F8D4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78A-5062-4983-8853-67FF72AB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6E26-D628-4B5A-8F6E-28A6317E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E6B-25C7-452D-AD63-07ADB68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3BAE-6C93-471E-91BC-0567BBA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D15-0C05-4024-9928-AB3CB4A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E3DA-3A82-4D26-BC2E-7330C09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DC6E-BEED-4B30-948E-9644F66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D398-146C-41C4-872D-6C164E3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83C-8EBD-4217-A72D-4F2F15F7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8AC7-1227-49A2-BED5-6DD23FB1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58D-90A2-4579-8C03-7EE5222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202-C7FF-4A7B-B0C6-46CC19A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BF2-7106-4833-B2E0-DC2AA646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15E-4924-4819-9295-F492DE0D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A92-579D-4030-BEE2-377062B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413-C724-46B3-8335-6102002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D69-082C-4AE0-B53B-6A5AFA3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C1F-F38B-4E1E-8CA5-E180111155D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7F66-969B-437C-A5E9-6B7E73D515D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 场 走 在 前 面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XX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电话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--XXXXXX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95-03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ICSG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供需平衡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611280" y="4424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286000"/>
            <a:ext cx="8991720" cy="4038480"/>
            <a:chOff x="0" y="2286000"/>
            <a:chExt cx="8991720" cy="4038480"/>
          </a:xfrm>
        </p:grpSpPr>
        <p:grpSp>
          <p:nvGrpSpPr>
            <p:cNvPr id="120" name=""/>
            <p:cNvGrpSpPr/>
            <p:nvPr/>
          </p:nvGrpSpPr>
          <p:grpSpPr>
            <a:xfrm>
              <a:off x="3960" y="2290680"/>
              <a:ext cx="8982720" cy="4029120"/>
              <a:chOff x="3960" y="2290680"/>
              <a:chExt cx="8982720" cy="402912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960" y="2290680"/>
                <a:ext cx="898200" cy="1190520"/>
                <a:chOff x="3960" y="2290680"/>
                <a:chExt cx="898200" cy="1190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00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cc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902160" y="2290680"/>
                <a:ext cx="897840" cy="1190520"/>
                <a:chOff x="902160" y="2290680"/>
                <a:chExt cx="897840" cy="11905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96084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0216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800360" y="2290680"/>
                <a:ext cx="898200" cy="1190520"/>
                <a:chOff x="1800360" y="2290680"/>
                <a:chExt cx="898200" cy="1190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5940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0036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98920" y="2290680"/>
                <a:ext cx="897840" cy="1190520"/>
                <a:chOff x="2698920" y="2290680"/>
                <a:chExt cx="897840" cy="11905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75760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9892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97120" y="2290680"/>
                <a:ext cx="898200" cy="1190520"/>
                <a:chOff x="3597120" y="2290680"/>
                <a:chExt cx="898200" cy="11905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5616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9712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495680" y="2290680"/>
                <a:ext cx="897840" cy="1190520"/>
                <a:chOff x="4495680" y="2290680"/>
                <a:chExt cx="897840" cy="11905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55436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68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393520" y="2290680"/>
                <a:ext cx="898200" cy="1190520"/>
                <a:chOff x="5393520" y="2290680"/>
                <a:chExt cx="898200" cy="1190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5256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39352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292080" y="2290680"/>
                <a:ext cx="897840" cy="1190520"/>
                <a:chOff x="6292080" y="2290680"/>
                <a:chExt cx="897840" cy="1190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35076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29208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190280" y="2290680"/>
                <a:ext cx="898200" cy="1190520"/>
                <a:chOff x="7190280" y="2290680"/>
                <a:chExt cx="898200" cy="1190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24932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9028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8088840" y="2290680"/>
                <a:ext cx="897840" cy="1190520"/>
                <a:chOff x="8088840" y="2290680"/>
                <a:chExt cx="897840" cy="1190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4788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（</a:t>
                  </a: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-10</a:t>
                  </a: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月）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884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60" y="3481200"/>
                <a:ext cx="898200" cy="946080"/>
                <a:chOff x="3960" y="3481200"/>
                <a:chExt cx="898200" cy="946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300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精铜产量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6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02160" y="3481200"/>
                <a:ext cx="897840" cy="946080"/>
                <a:chOff x="902160" y="3481200"/>
                <a:chExt cx="897840" cy="946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6084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183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0216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800360" y="3481200"/>
                <a:ext cx="898200" cy="946080"/>
                <a:chOff x="1800360" y="3481200"/>
                <a:chExt cx="898200" cy="946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85940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66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0036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698920" y="3481200"/>
                <a:ext cx="897840" cy="946080"/>
                <a:chOff x="2698920" y="3481200"/>
                <a:chExt cx="897840" cy="946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75760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4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69892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597120" y="3481200"/>
                <a:ext cx="898200" cy="946080"/>
                <a:chOff x="3597120" y="3481200"/>
                <a:chExt cx="898200" cy="946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5616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07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9712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495680" y="3481200"/>
                <a:ext cx="897840" cy="946080"/>
                <a:chOff x="4495680" y="3481200"/>
                <a:chExt cx="897840" cy="9460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5436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54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9568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393520" y="3481200"/>
                <a:ext cx="898200" cy="946080"/>
                <a:chOff x="5393520" y="3481200"/>
                <a:chExt cx="898200" cy="9460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45256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77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9352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292080" y="3481200"/>
                <a:ext cx="897840" cy="946080"/>
                <a:chOff x="6292080" y="3481200"/>
                <a:chExt cx="897840" cy="946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35076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63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29208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190280" y="3481200"/>
                <a:ext cx="898200" cy="946080"/>
                <a:chOff x="7190280" y="3481200"/>
                <a:chExt cx="898200" cy="946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24932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35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19028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8088840" y="3481200"/>
                <a:ext cx="897840" cy="946080"/>
                <a:chOff x="8088840" y="3481200"/>
                <a:chExt cx="897840" cy="94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14788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60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8884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60" y="4427280"/>
                <a:ext cx="898200" cy="946440"/>
                <a:chOff x="3960" y="4427280"/>
                <a:chExt cx="898200" cy="946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00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精铜消费量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6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02160" y="4427280"/>
                <a:ext cx="897840" cy="946440"/>
                <a:chOff x="902160" y="4427280"/>
                <a:chExt cx="897840" cy="946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6084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04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216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00360" y="4427280"/>
                <a:ext cx="898200" cy="946440"/>
                <a:chOff x="1800360" y="4427280"/>
                <a:chExt cx="898200" cy="946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85940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58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0036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98920" y="4427280"/>
                <a:ext cx="897840" cy="946440"/>
                <a:chOff x="2698920" y="4427280"/>
                <a:chExt cx="897840" cy="946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75760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09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9892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597120" y="4427280"/>
                <a:ext cx="898200" cy="946440"/>
                <a:chOff x="3597120" y="4427280"/>
                <a:chExt cx="898200" cy="946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65616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47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9712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495680" y="4427280"/>
                <a:ext cx="897840" cy="946440"/>
                <a:chOff x="4495680" y="4427280"/>
                <a:chExt cx="897840" cy="946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55436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2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68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393520" y="4427280"/>
                <a:ext cx="898200" cy="946440"/>
                <a:chOff x="5393520" y="4427280"/>
                <a:chExt cx="898200" cy="94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45256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13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9352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292080" y="4427280"/>
                <a:ext cx="897840" cy="946440"/>
                <a:chOff x="6292080" y="4427280"/>
                <a:chExt cx="897840" cy="946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35076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89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9208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7190280" y="4427280"/>
                <a:ext cx="898200" cy="946440"/>
                <a:chOff x="7190280" y="4427280"/>
                <a:chExt cx="898200" cy="946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24932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13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9028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8088840" y="4427280"/>
                <a:ext cx="897840" cy="946440"/>
                <a:chOff x="8088840" y="4427280"/>
                <a:chExt cx="897840" cy="946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814788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96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08884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960" y="5373720"/>
                <a:ext cx="898200" cy="946080"/>
                <a:chOff x="3960" y="5373720"/>
                <a:chExt cx="898200" cy="9460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300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供求缺口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6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902160" y="5373720"/>
                <a:ext cx="897840" cy="946080"/>
                <a:chOff x="902160" y="5373720"/>
                <a:chExt cx="897840" cy="946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96084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21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0216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800360" y="5373720"/>
                <a:ext cx="898200" cy="946080"/>
                <a:chOff x="1800360" y="5373720"/>
                <a:chExt cx="898200" cy="946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85940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80036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698920" y="5373720"/>
                <a:ext cx="897840" cy="946080"/>
                <a:chOff x="2698920" y="5373720"/>
                <a:chExt cx="897840" cy="946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75760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39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9892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97120" y="5373720"/>
                <a:ext cx="898200" cy="946080"/>
                <a:chOff x="3597120" y="5373720"/>
                <a:chExt cx="898200" cy="946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65616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60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59712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495680" y="5373720"/>
                <a:ext cx="897840" cy="946080"/>
                <a:chOff x="4495680" y="5373720"/>
                <a:chExt cx="897840" cy="946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55436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6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568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93520" y="5373720"/>
                <a:ext cx="898200" cy="946080"/>
                <a:chOff x="5393520" y="5373720"/>
                <a:chExt cx="898200" cy="946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5256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35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9352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292080" y="5373720"/>
                <a:ext cx="897840" cy="946080"/>
                <a:chOff x="6292080" y="5373720"/>
                <a:chExt cx="897840" cy="946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35076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73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9208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190280" y="5373720"/>
                <a:ext cx="898200" cy="946080"/>
                <a:chOff x="7190280" y="5373720"/>
                <a:chExt cx="898200" cy="946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24932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1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9028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088840" y="5373720"/>
                <a:ext cx="897840" cy="946080"/>
                <a:chOff x="8088840" y="5373720"/>
                <a:chExt cx="897840" cy="946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14788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36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8884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0" y="2286000"/>
              <a:ext cx="8991720" cy="4038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611280" y="5097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ICSG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的预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今年产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15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消费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5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缺口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明年产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97.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消费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63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缺口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8.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铜精矿供应是供给的焦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关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C/RC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的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ICSG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下调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0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年铜矿、冶炼和精炼的生产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03-07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年铜矿生产能力将增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67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其中铜精矿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6.9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（不包括现有的闲置能力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阶段的变化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供求形势，市场人气明显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基金逐渐退居次要地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但经济形势依然强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5800" y="762120"/>
          <a:ext cx="8001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8001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阶段的认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铜价处于历史上相对的高位区，正在逐步脱离基本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铜价正处于加速上扬阶段，此阶段还没有结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由战略做多逐步向战术做多过渡，市场走在前面的特性将进一步趋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永远不要随波逐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－－伯纳德 巴鲁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事实是随波逐流真惬意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</a:t>
            </a: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－－亚当 史密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LME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三月铜走势凶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8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供给面的担忧助推期铜的上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近期的上涨除了经济面和汇率的支持外，供给面的助燃作用非常明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由于事故和故障，铜产量将下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罢工和罢工威胁时常浮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国自由港旗下的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Grasberg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金矿由于两次塌方，在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月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日再次宣布因不可抗力无限期延后运行，同时下修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0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产量从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至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其减少量为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约合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8.1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国家的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OK Tedi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矿由于机械故障，铜精矿产量在未来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8-1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周也将减少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％。按照稍早公布的产量数据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67.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铜精矿，含铜量为近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计算，这相当于损失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-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铜精矿，或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.2-1.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含铜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罢工威胁屡见不鲜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国家的高地铜矿罢工威胁暂时解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全球最大的多元化矿业巨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旗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YYCerro Colorado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矿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周五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开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罢工，该铜矿年产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走在前面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期铜和商品期货运动的规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何理解供给面的担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复产的进程继续推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复产的情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Phelps 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宣布恢复重新启动闲置产能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计划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增产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.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约接近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关于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供应方面的缺口问题，根据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对于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市场的预测，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国际铜市场的消费缺口预计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根据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CRU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的调查显示，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～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市场由于价格低迷而被迫减产的产能约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7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，其中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已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3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恢复生产，剩下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产能中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～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是不可恢复的产能，其余部分中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Phelps 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占据了这个份额的绝大部分，约占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库存持续快速下降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供给依然紧张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时间上滞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埃斯孔迪达铜矿在准备重新恢复正常生产的计划中，第四阶段扩容工程修建的尾矿坝并未取得预期的水回收速率，因此预计埃斯孔迪达铜矿的选矿厂将会以比正常水平低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－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％的产能生产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库存重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船运紧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</cp:keywords>
  <dc:language>en-US</dc:language>
  <cp:lastModifiedBy/>
  <cp:revision>0</cp:revision>
  <dc:subject/>
  <dc:title/>
</cp:coreProperties>
</file>