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0D3-38E9-4B2F-A035-6F87F859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B1F-2C73-4DE1-8B4F-3F37BC6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4F6-5A08-44B2-83D3-BC8A0E49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B1D-A6B5-486A-B4C0-07B5D423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F10-FE88-4E26-A36E-9DCA61A5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9EB-5057-46B7-9845-AEA21399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206-4F13-41CE-AF5B-471D8724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150-7C35-43EB-9BC4-654A34EB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E33-A880-4BA6-BD5C-B912FA35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358-F330-4136-8972-94775B06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D3C-A533-42F4-95E4-805883CF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07C-3AFA-4B44-977A-1E35507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A437-2EE2-46C0-A280-E36DBE2C05C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830592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1981080"/>
            <a:ext cx="70102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金梅毛顏楷"/>
              </a:rPr>
              <a:t>社會資源之結合與應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會工作師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日期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XX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高雄市中低收入標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收入平均每人每月未達當年度最低生活費用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倍且未超過台灣地區平均每人每月消費支出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倍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,79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元）者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戶土地及房屋價值合計不超過陸佰伍拾萬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戶四口之內（含四口）存款本金不超過壹佰伍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萬元，每增加一人得增加貳拾萬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未領取政府其他補助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支持照顧者的方法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助照顧者察覺個人需求、訓練如何接近病患、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求喘息的機會 。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的利用資源、設立長久照顧計劃、組織家庭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議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持團體：透過對照顧工作心路歷程之分享，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彼此鼓勵及支持，使照顧者得到情緒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疏解及經驗的交流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團體：辦理照顧方法訓練與講習。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倡導團體：自助團體或病友協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資訊性社會資源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how to car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行為問題的處理、就醫問題、藥物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題 。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care with what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經濟、財物、福利等綜合照護資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源手冊、醫院社工諮詢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who to car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家庭分工、機構照護、居家照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情緒性社會資源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支持：肯定、關懷 。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會支持：肯定、關懷、諮詢、建議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壓力調適：接受疾病、合理期待、運用資源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適時喘息、參與支持性團體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工具性社會資源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：家事助理、陪同就醫、關懷服務、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導、個人清潔及疾病看護 。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濟協助：健保保費補助、重病看護費補助、特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津貼、送餐補助、送托補助、殘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手冊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協助：復康公車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心手鍊：申請、緊急協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人關懷、保護服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養、養護諮詢諮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輔具服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屬互助聯誼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財物評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法律諮詢：遺囑、繼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社會福利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照顧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喘息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間照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心手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守護天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獨居老人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人保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期照護機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1295280"/>
            <a:ext cx="525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醫療保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身心障礙手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重大傷病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護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濟扶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低收入戶老人津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低收入戶老人特別照顧津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農生活津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資源聯結與服務提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83808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429000"/>
            <a:ext cx="114300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572000"/>
            <a:ext cx="144468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生活輔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057400"/>
            <a:ext cx="1447920" cy="457200"/>
          </a:xfrm>
          <a:prstGeom prst="wedgeRectCallout">
            <a:avLst>
              <a:gd name="adj1" fmla="val -28949"/>
              <a:gd name="adj2" fmla="val 70138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照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2257560"/>
            <a:ext cx="93960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153040"/>
            <a:ext cx="93996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84200" y="1724040"/>
            <a:ext cx="91224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生活照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0520" y="3124080"/>
            <a:ext cx="91224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健康照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60520" y="4114800"/>
            <a:ext cx="91224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護理之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36480" y="5838840"/>
            <a:ext cx="91224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養機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73760" y="1281240"/>
            <a:ext cx="1913040" cy="135036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培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間托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持團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喘息服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648320"/>
            <a:ext cx="1676160" cy="11653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員訓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品質輔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督導考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構管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91480" y="2819520"/>
            <a:ext cx="1719000" cy="109908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護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復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營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間照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114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5120" y="4038480"/>
            <a:ext cx="7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租借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066680" y="3885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47840" y="2867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源整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23520" y="3657600"/>
            <a:ext cx="6858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2" idx="1"/>
            <a:endCxn id="99" idx="0"/>
          </p:cNvCxnSpPr>
          <p:nvPr/>
        </p:nvCxnSpPr>
        <p:spPr>
          <a:xfrm flipV="1" rot="10800000">
            <a:off x="2780640" y="2499840"/>
            <a:ext cx="710280" cy="91512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99" idx="2"/>
            <a:endCxn id="103" idx="1"/>
          </p:cNvCxnSpPr>
          <p:nvPr/>
        </p:nvCxnSpPr>
        <p:spPr>
          <a:xfrm flipH="1" rot="16200000">
            <a:off x="2363400" y="4345560"/>
            <a:ext cx="1467720" cy="63396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2" idx="0"/>
            <a:endCxn id="104" idx="1"/>
          </p:cNvCxnSpPr>
          <p:nvPr/>
        </p:nvCxnSpPr>
        <p:spPr>
          <a:xfrm flipH="1" flipV="1" rot="5400000">
            <a:off x="4204440" y="1737000"/>
            <a:ext cx="276840" cy="7358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02" idx="2"/>
            <a:endCxn id="105" idx="1"/>
          </p:cNvCxnSpPr>
          <p:nvPr/>
        </p:nvCxnSpPr>
        <p:spPr>
          <a:xfrm flipH="1" rot="16200000">
            <a:off x="4074840" y="2656440"/>
            <a:ext cx="610200" cy="81180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3" idx="0"/>
            <a:endCxn id="106" idx="1"/>
          </p:cNvCxnSpPr>
          <p:nvPr/>
        </p:nvCxnSpPr>
        <p:spPr>
          <a:xfrm flipH="1" flipV="1" rot="5400000">
            <a:off x="3951720" y="4303800"/>
            <a:ext cx="781560" cy="88812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3" idx="2"/>
            <a:endCxn id="107" idx="1"/>
          </p:cNvCxnSpPr>
          <p:nvPr/>
        </p:nvCxnSpPr>
        <p:spPr>
          <a:xfrm flipH="1" rot="16200000">
            <a:off x="4165200" y="5385240"/>
            <a:ext cx="429480" cy="9644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4" idx="3"/>
            <a:endCxn id="108" idx="1"/>
          </p:cNvCxnSpPr>
          <p:nvPr/>
        </p:nvCxnSpPr>
        <p:spPr>
          <a:xfrm>
            <a:off x="6170760" y="1967040"/>
            <a:ext cx="58968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5" idx="3"/>
            <a:endCxn id="110" idx="1"/>
          </p:cNvCxnSpPr>
          <p:nvPr/>
        </p:nvCxnSpPr>
        <p:spPr>
          <a:xfrm>
            <a:off x="6246360" y="3367080"/>
            <a:ext cx="631080" cy="15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6" idx="3"/>
            <a:endCxn id="109" idx="0"/>
          </p:cNvCxnSpPr>
          <p:nvPr/>
        </p:nvCxnSpPr>
        <p:spPr>
          <a:xfrm>
            <a:off x="6246720" y="4357440"/>
            <a:ext cx="1526400" cy="2768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7" idx="3"/>
            <a:endCxn id="109" idx="2"/>
          </p:cNvCxnSpPr>
          <p:nvPr/>
        </p:nvCxnSpPr>
        <p:spPr>
          <a:xfrm flipV="1">
            <a:off x="6323040" y="5855400"/>
            <a:ext cx="1450080" cy="2264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33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居家護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內容：身體評估、更換或拔除鼻胃管、氣切管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留置導尿管及尿袋、膀胱灌洗、訓練，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般傷口護理、大小腸灌腸、其他 之護理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對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患者能維持有限之自我照顧能力，清醒時間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 ﹪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活動限制在床上或椅子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明確之醫療與護理服務項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情穩定能在家中進行醫療措施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備文件：健保給付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﹪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部份負擔自付及車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雄市政府社會局居家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2860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高雄市政府社會局居家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        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日常功能受損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以上或領有身心障礙手冊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輕度失能是指巴氏量表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至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DR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達一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者，中重度失能為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以下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DR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達二分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內容：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家務及日常生活照顧：居家環境改善、餐飲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家務及文書服務、換洗衣物、陪同就醫或聯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醫療機構、陪同或代購生活必須用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身體照顧服務：協助沐浴、協助穿脫衣服、協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翻身拍背協助使用生活輔助器具、進食、肢體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節活動、上下床、服藥、陪同散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理申請單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人照顧管理中心：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27-239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71005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轉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103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會局三科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373376-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請文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請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民身分證正、背面影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診斷失智症之證明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高雄市政府社會局居家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廣義：指一切自然資源及人為的社會文化制度，含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會經濟、政治、法律、教育、宗教、醫療及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利資源，能用來滿足人類生活需求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狹義：指社會福利資源，含金錢、財物、職業訓練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諮商協談、心理治療、醫護療養、婚姻諮商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福利服務、生活扶助、安寧照顧等，以能滿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社會福利體系中案主的需求而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社會資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居家服務補助標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64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990720"/>
          <a:ext cx="8261280" cy="559116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981080"/>
                <a:gridCol w="1403640"/>
                <a:gridCol w="1447560"/>
              </a:tblGrid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服務對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失能程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補助標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補助額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付額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低收入戶或身心障礙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月最高補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低收入老人津貼或身心障礙生活補助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輕度失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-2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-6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重度失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-3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7-6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般老人或身心障礙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輕度失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-2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重度失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-3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094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高雄市老人喘息（暫托）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目        的：提供家庭照護者短暫休息機會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        象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以上生活無法自理的居家老人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構臨托：每案每日補助給護理之家一千元費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年至多七日，消耗品需自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：每四小時補助居家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元，一年至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 ，行政費需自付。                                    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理單位：高雄市長期照護管理示範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272394-5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單位：獎卿護理之家、聖功醫院、濟興長青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金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  <a:ea typeface="標楷體"/>
              </a:rPr>
              <a:t>長期照護管理示範中心的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諮詢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電話問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定時探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喘息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居家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轉介其他機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失智病患日照照顧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、長青日間照顧中心：苓雅區四維二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F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辦民營、收費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,500 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、聖功醫院日間照顧中心：苓雅區建國一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5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        民營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、濟眾養護中心日照中心：楠梓區加昌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98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394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左營老人日間照顧：左營區蓮潭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公辦民營、收費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,152 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安心手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應備文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聯絡人身份證正反面影本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身心障礙手冊、診斷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申請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服務單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雄市：社會局長青綜合服務中心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710055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雄縣：鳳山市平等路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7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號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48180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81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緊急救援通報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服務對象：中低收入戶年滿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歲以上經日常生活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動功能評估失能的老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福利內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置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小時監控服務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家中安裝緊急主機及隨身攜帶按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隨時受理用戶緊急事件通報及處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辦理單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社會局三科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373377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長青綜合服務中心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71005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3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95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關懷獨居老人活動：</a:t>
            </a:r>
            <a:br>
              <a:rPr sz="3200"/>
            </a:b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定期提供電話問安、關懷訪視，民間團體分區認養</a:t>
            </a:r>
            <a:br>
              <a:rPr sz="2800"/>
            </a:b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老人保護服務專線：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0800-095-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金梅毛顏楷"/>
              </a:rPr>
              <a:t>保護服務：</a:t>
            </a:r>
            <a:br>
              <a:rPr sz="20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查證及評估有老人疏於照料、虐待、遺棄、獨居且無法自我照顧者，其他需要接受保護服務者可向責任區受理單位舉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金梅毛顏楷"/>
              </a:rPr>
              <a:t>服務內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訪視以瞭解與評估實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供緊急保護安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轉介相關資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中低收入老人特別照顧津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福利：每月補助特別照顧津貼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醫院証明罹患長期慢性病，日常生活活動功能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估為重度以上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DL 6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以下」，需家人 照顧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和被照顧者實際居住並設籍同一行政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有工作能力而未就業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領有中低收入老人生活津貼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未接受收容安置或居家、日間照顧服務補助，且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未獲補助老人重病住院看護費用補助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外籍看護工：</a:t>
            </a: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ADL 30</a:t>
            </a: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分以下、仲介或勞工局</a:t>
            </a:r>
            <a:br>
              <a:rPr sz="3200"/>
            </a:b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            有申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期照護機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養護中心：（中後期行動不便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護理之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信義醫院方舟養護之家失智區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F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苓雅區華新街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6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,000-30,00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元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床全日、失智專線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331859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機構：各縣市長期照顧管理示範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如何選擇機構式照護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停：一思思考一下您的家人所需要的照顧內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思思考照顧失能家人在人力及財力上能否負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思物道聽塗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聽：聽聽專業人員及過來人的經驗談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看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政府合法立案有「立案證書」或是「開業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」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共安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境衛生與設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人員素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內容與品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676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新世紀社會福利供給講求：</a:t>
            </a: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多元化、社區化、小型化、 人性化、 民營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金梅毛顏楷"/>
              </a:rPr>
              <a:t>照顧方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性支持：病痛照顧、提供交通、住家整潔維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物質性支持：金錢、物質採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情感性支持：聊天慰藉、提供資訊、外出旅遊陪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380880"/>
            <a:ext cx="8458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身心障礙鑑定—</a:t>
            </a:r>
            <a:r>
              <a:rPr b="0" lang="zh-TW" sz="3200" spc="-1" strike="noStrike" u="sng">
                <a:solidFill>
                  <a:srgbClr val="3333cc"/>
                </a:solidFill>
                <a:uFillTx/>
                <a:latin typeface="Times New Roman"/>
                <a:ea typeface="金梅毛顏楷"/>
              </a:rPr>
              <a:t>失智症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標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10480" cy="556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極重度：記憶力極度喪失，僅剩殘缺片斷記憶，語言能力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解，僅餘咕嚕聲，判斷力喪失，對人、時、地之定向力完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喪失，大、小便失禁，自我照顧能力完成喪失，需完全依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養護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重度：記憶力重度喪失，記事能力全失，判斷力喪失，對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地之定向力喪失，對親人之認知功能開始出現障礙，大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便失禁，自我照顧能力喪失，開始出現簡單日常生活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障礙，需完全依賴他人養護者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度：記憶中度喪失，記事記憶困難，判斷力障礙，對時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之定向力喪失，自我照顧能力缺損，且有明顯複雜性日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生活功能障礙，需完全依賴他人養護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輕度：記憶輕度喪失，記事記憶局部障礙，判斷力障礙，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時間之定向力障礙，自我照顧能力部份缺損，且複雜日常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活功能開始出現障礙，需在監督下生活。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身心障礙福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低收入生活補助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輔具補助：身心障礙手冊、診斷書、購買收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雄市身心障礙者輔具租借維修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15441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154280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優惠：康復巴士、專用停車識別證、牌照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免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所得稅減免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、收容養護補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尋求資源協助的障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、資訊取得的障礙：相關資訊不普及、資訊氾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普及、因為照顧沒有時間去探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、醫療體系的使用障礙：被動的醫療體系、重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術、輕照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、安養機構的使用障礙：養護機構拒收失智老人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費用的壓力、品質不佳、老人沒有尊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專門機構：太遠、太少、緩不濟急、不符需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、日托服務的障礙： 人力不足拒收、定點少、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間難配合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六、僱請外傭的障礙：拒絕服務、溝通障礙、擔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人安全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七、資格限定上的障礙： 中低收入的資格門檻難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571356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670200" y="2540160"/>
            <a:ext cx="1803600" cy="1777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862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敬請指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社會資源的種類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381880" cy="5105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力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物力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財力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文獻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組織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0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服務使用的障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81080"/>
            <a:ext cx="2971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供給的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需求的產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1447920"/>
            <a:ext cx="3581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需求的認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瞭解服務的內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瞭解申請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到申請的管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負擔得起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符合病患的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喜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歧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有使用的意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的使用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6400800"/>
            <a:ext cx="4038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03812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038120" y="3657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3812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14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如何有效的運用社會資源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充分了解社區的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界定問題與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瞭解本身機構內在資源及功能限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瞭解轉介機構之功能性質、服務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徵求當事人或機構意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掌握時效、程序、責任、關係之轉案行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追蹤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社會資源菱形圖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4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標楷體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286000"/>
            <a:ext cx="3346200" cy="275256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3048120"/>
            <a:ext cx="1600200" cy="1295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源使用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371600"/>
            <a:ext cx="1981080" cy="8380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第一部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3040" y="3276720"/>
            <a:ext cx="1982880" cy="8380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利部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第二部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5105520"/>
            <a:ext cx="1982880" cy="8380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非正式組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276720"/>
            <a:ext cx="1982880" cy="8380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非營利組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第三部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333760" y="365760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819520" y="365760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2286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服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私人企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志願性機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助性團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449568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鄰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親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家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社會資源與個人關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458200" cy="4952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緩衝、調解壓力對個人的影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增加個人對挫折的忍受力及克服挫折、解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問題的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助於個人的正向適應及發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個人健康有直接影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10666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經濟補助考量的因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情、預後及治療計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醫療費用總額與治療期間之估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癒後之工作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中工作人口與依賴人口之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在家中之地位與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收入及負債情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借貸與還債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能獲得之社會資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案主之個性、辦事能力、與社會關係等情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臨時急難之狀況與必須及時解決之實際問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资源 应用</cp:keywords>
  <dc:language>en-US</dc:language>
  <cp:lastModifiedBy/>
  <cp:revision>0</cp:revision>
  <dc:subject/>
  <dc:title/>
</cp:coreProperties>
</file>