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10A-A0EA-4584-AC04-138C07D2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0C6-6C74-4DB9-961E-5CE72C23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6CB-76C6-4C13-A7AF-9F0AC24C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E67-8E20-4843-9F1E-4EBAEE47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097-96F3-414E-B45F-2C2AB5F2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5939-03D0-4C1B-B426-73A4566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A46D-B0BC-4B53-A17D-429CB35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818-BE7D-41BE-82EC-E2DBDC3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9B5-4156-459E-B222-73AB33D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E04-2108-4538-8198-6617E67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231-7949-477B-9B92-61C4155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179-3A57-462A-AB91-17471083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BD9-030E-4F14-92C2-FC56FBB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E1EE-3BA8-4D06-9AD0-B336778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D63-8C97-4101-BDFB-7740FCE1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9314-B32F-4B62-ADAA-E15D526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A310-AF02-4068-B570-D6CB6A62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20C-A445-4BED-A9BD-365512C3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4AA-9736-4949-BD5E-93E4472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4FE-E04B-4871-AB3D-76F1964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903-D5C9-4E4B-8A91-69B2FB4A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808-EE08-4DC4-BC95-C056AA2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03F-4EFB-4E6A-AB09-82407A3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536-A5DC-4A7A-BA71-03BB1FE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42D4-F4B5-4645-8DE6-74F149410BD5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F5A-3902-411D-B27D-571CBFDB2C6C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龙</cp:keywords>
  <dc:language>en-US</dc:language>
  <cp:lastModifiedBy/>
  <cp:revision>0</cp:revision>
  <dc:subject/>
  <dc:title/>
</cp:coreProperties>
</file>