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3F4-37E2-423D-B679-A2D289A3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D92-0AF3-4B3E-A3B4-9B1DA9B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76F-0200-4620-AB37-DECBBA0D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D53-7C56-4910-8104-95DBBD69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F3FF-AF7D-4424-844B-11919DD8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FC5-784F-42AC-A146-42A5E42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C132-187D-4275-8F3C-2788BC4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9C78-AE1B-4F45-9BEB-C0E5E69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AAD-D480-486F-82EF-75A2811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112-CD36-4D9B-8B82-37663D3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D421-661D-48D0-83D4-D5BBC32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B8B-053C-4473-BC48-D563BA8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73D-77A2-40F9-B082-214C8A4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0CA-635E-4674-82E4-11C499B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8E2F-9C22-4B37-9B57-BD376AC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BE29-CECE-4AAE-947A-A3FCA2AE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57D0-EF54-485C-A8F4-BC3A626F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F8FB-ABFB-412F-B348-7D43533D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E4E6-174F-4E52-ACBC-ABEA0044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7603-5BDA-4EB7-A7B3-2009AB6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C0C9-306F-4075-B71A-D574C9F6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90A0-CF0A-46CC-84DB-443EDA02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D1C-5D44-4792-9E5C-363C5CD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6130-9D41-439F-9FE6-AFFF5F61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73F7-9006-4010-B83F-BAE4876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3A03-E886-4FFE-954F-0DB4F83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4135-88A5-4AEF-913B-8E389C2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A6FD-E347-4F88-87D9-D9D1CD7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1090-F485-4730-A828-107F5323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BBDC-C712-423F-B854-1F69E94A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8E359-858E-4BBA-A7AE-EF7A98EB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E22F-31FC-46B2-B578-DEEBE1D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C373-979F-4FBE-9E4D-DA13E23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BCF-150E-42DF-92AF-88A7B18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9D85-0B09-470F-AEB1-828B0E4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7CAB-D9F1-4178-87BE-DDA4FB49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0534-9415-44A9-9C96-3FC07FB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572B-7324-4736-87B9-2C819BC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01D4-EFF5-469D-A18C-4A89582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C6AC-AE41-4390-94E4-38BF9BB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E54D-0BB7-405C-BCCA-3853194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4A8F-BC8E-4C9C-B592-2C7FD3F5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A4F2-5D6F-403C-9004-083DFC04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F444-FEF0-4F93-AE51-B98C165D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DDD-4ED7-4BFA-A09E-159EF6D4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9550-851C-4CC0-8D2F-F6C3570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ECF2-4DD1-4426-A50F-5D731A3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200C-77FC-420A-90FE-8043BB1F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CB14-60B4-4E4C-B401-B46AE4F5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9D83-6ADE-4C21-9EDB-3F6D9317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F3EA-5E0C-4B0A-A49F-09B529B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8AEE-625B-4AB1-B7B9-0343B7A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1697-A4B7-41BB-A4F2-C2431C6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9B11-223A-46D0-A820-0C20700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1FEF-B8FB-49B9-92D9-2379ABBB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AAA-EE37-4FE0-9198-C9EF9E61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8B75-DF47-404B-AAE1-63723BF9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717-2293-4626-A567-43A5A3C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028-A1B9-4196-9EB2-1C2117E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A2B-621E-4903-BE8B-4C8B754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5C2-4095-4479-A9BD-D4D36886E6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CD6-B6D4-4C9E-91BA-129C792B0E9F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C15-FFE7-4AB5-AF6E-80FF0343F37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350-6149-466A-9C6A-6BC72908005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A2F-4763-45AC-B6F8-D2182B32326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世界历史引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3200" y="2895480"/>
            <a:ext cx="74991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一、历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二、历史学：往事的追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三、世界历史的宏观框架和演进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四、余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9220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512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227664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什么是历史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什么是历史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历史学是不是科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08360" y="386064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历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悠悠岁月之如烟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33080" y="620640"/>
            <a:ext cx="48805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二、历史学：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往事的追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认识过程的哲学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两种认识及其相互关系：感性认识与理性认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形而下层面的认识与形而上层面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上述哲学原则的历史学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貌似零乱的历史现象即史料与史实，属形而下层面的感性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内在的联系与客观的规律，属形而上层面的理性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换言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遵循从个别到一般和从具体到抽象的思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在对于史料和史实加以分析归纳和演绎推理的基础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实现认识的升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史料的考证和史实的罗列只是形而下和感性层面的初步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9640" y="333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萨的金字塔与底比斯的神庙构成古代埃及历史的缩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古王国时期法老的统治到新王国时期僧侣势力膨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349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紫禁城构成中国封建社会历史的缩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皇帝至高无上的地位以及统治者与民众之间的隔绝   状态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95280" y="2205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统民居的四合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贵贱尊卑的社会现象，封闭倾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40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11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飞机与纽约世贸大厦撞击的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矛盾的对抗与文明的冲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65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8360" y="476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三、世界历史的宏观框架和演进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39640" y="1125360"/>
          <a:ext cx="8064720" cy="3911760"/>
        </p:xfrm>
        <a:graphic>
          <a:graphicData uri="http://schemas.openxmlformats.org/drawingml/2006/table">
            <a:tbl>
              <a:tblPr/>
              <a:tblGrid>
                <a:gridCol w="1162080"/>
                <a:gridCol w="6902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生产工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石器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青铜器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铁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经济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攫取性经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生产性经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传统农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现代工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个体小生产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化大生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所有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原始公有制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私有制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主义公有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经济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自然经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商品经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历史格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分散的历史和相对孤立的文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全球化的进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矛盾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游牧群体与定居社会的冲突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发达地区与现代化边缘世界的对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历史时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野蛮时代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文明时代（传统文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现代文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原始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奴隶制社会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封建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资本主义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主义社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……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共产主义社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53751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一言以蔽之，所谓的世界历史，其实质是人类走向解放的漫长道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即人类告别野蛮时代走向文明，继而摆脱传统社会的依附状态走向自由的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生产的进步和财富的积累抑或从贫困走向富庶，构成历史演进的深层次背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700360" y="1268280"/>
            <a:ext cx="3600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四、 余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"/>
          <p:cNvSpPr/>
          <p:nvPr/>
        </p:nvSpPr>
        <p:spPr>
          <a:xfrm>
            <a:off x="2809440" y="2936880"/>
            <a:ext cx="37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历史学作为社会科学的分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旨在从特定的角度探讨和揭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人类社会的运动轨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学习历史和研究历史的目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在于认识社会和服务社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世界 历史 引论</cp:keywords>
  <dc:language>en-US</dc:language>
  <cp:lastModifiedBy/>
  <cp:revision>0</cp:revision>
  <dc:subject/>
  <dc:title/>
</cp:coreProperties>
</file>