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type.wav" ContentType="audio/x-wav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1587-2313-4BFA-A3D5-449AA72E7E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14C-971C-46D9-88BA-A191F3F4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C4A-E50C-4AD4-8FC8-AD6CB0B8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45E-8F55-4D5E-B7B6-8ECCB136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B29-86A3-46C8-9C0F-CD8DB62D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A104-A4DC-45DE-9084-38AD38B5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FECF-A19A-4F50-9580-B0626185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2005-75DE-4A05-A64B-76F420CF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73A2-90AC-48D3-B189-7CF44670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4FFE-6992-41D9-81B2-EC6F1D5F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86C8-9892-4F38-9498-E3DA0196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6FBE-8455-451A-B59F-C4986A18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1C2-C941-45AF-8F0B-1241794D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87D0-3368-475E-9A90-80819C5C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9252-30B6-46B6-ACB6-BB14C385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7DAE-44D9-49E8-9958-B1945BEE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64B8-059A-4274-AE2B-F6C89DF1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873F-FFB6-40BA-8897-C37A5817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B56-5ED6-42BD-80A6-7890EBF0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385-19F4-4EE9-A09B-5B82A579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B331-18DC-4E1E-A617-0C23E4AD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52EE-59AA-404A-ADE8-35324262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BA7-9375-4275-BF03-13207F00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1AA-0DC2-44C9-A93C-1128291A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2F8-85AD-4E27-82BB-9EDD4264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40C0-10B4-462C-8EFF-267D51C985F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8B95-53B0-49F4-AFF2-84B0C4ABB2A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税收和纳税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4000" y="2349000"/>
            <a:ext cx="701964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宋体"/>
              </a:rPr>
              <a:t>一</a:t>
            </a:r>
            <a:r>
              <a:rPr b="0" lang="zh-CN" sz="4400" spc="-1" strike="noStrike">
                <a:solidFill>
                  <a:srgbClr val="ffff00"/>
                </a:solidFill>
                <a:latin typeface="宋体"/>
              </a:rPr>
              <a:t>.</a:t>
            </a:r>
            <a:r>
              <a:rPr b="0" lang="zh-CN" sz="4400" spc="-1" strike="noStrike">
                <a:solidFill>
                  <a:srgbClr val="ffff00"/>
                </a:solidFill>
                <a:latin typeface="宋体"/>
              </a:rPr>
              <a:t>税收及其基本特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77080" y="2852640"/>
            <a:ext cx="2514600" cy="3810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2133360"/>
            <a:ext cx="883908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cc66"/>
                </a:solidFill>
                <a:latin typeface="宋体"/>
              </a:rPr>
              <a:t>）无偿性：不具有偿还性、返还性。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9647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）固定性：是指在征税之前就通过法律形式，预先规定了征税对象和征收数额之间的数量比例，不经国家批准不能随意变更。既是对国家，也是对纳税人的约束。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79640" y="19886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税收的固定性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）税收三个基本特征的关系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三者紧密相连。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A.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税收的无偿性要求它具有强制性。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B.</a:t>
            </a: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税收的强制性和无偿性决定了它必须具有固定性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152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0" y="91404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</a:rPr>
              <a:t>议一议： 在经济生活中，税收、罚款、没收财产都形成财政收入，但就特征而言，税收与后两者有哪些相同点和不同点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它们都形成财政收入，都具有强制性、无偿性，但是罚款、没收财产不具有固定性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违反国家税法行为的表现和处理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609480"/>
            <a:ext cx="8588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）处理：如果纳税人偷税、欠税、骗税、抗税，税务机关就要追缴税款、处以罚款，有的还要由司法机关予以刑事处罚。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95280" y="333360"/>
            <a:ext cx="828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表现：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偷税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定义：是纳税人有意违反税法规定，用欺骗、隐瞒等方式逃避纳税的行为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内容：伪造、涂改、销毁帐簿和票据；少报应税项目、销售收入和经营利润等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 处理：依法制裁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76500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议一议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有人认为，如果是为了使工厂走出困境，工人能发工资，所偷税款没有装进个人腰包，就不构成犯罪。你是怎样看的？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320040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税收的基本含义    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(1)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定义 ：国家为了实现其职能，凭借政治权力，依法无偿取得财政收入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的基本形式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343400" y="3200400"/>
          <a:ext cx="3808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200400"/>
                    <a:ext cx="3808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765000"/>
            <a:ext cx="81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B.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欠税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。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       定义：是纳税人超过税务机关核定的纳税期限，没有按时缴纳而拖欠税款的行为。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       内容：应税项目的纳税期限，是指税法规定的从事了应税活动或取得了应税收入，需在多长时间内完成纳税行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58920" y="1628640"/>
            <a:ext cx="67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处理：限期缴纳、加收千分之二的滞纳金；强制扣缴；扣押、查封、拍卖抵缴税款和滞纳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26920" y="765000"/>
            <a:ext cx="7197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C.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骗税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。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      定义：是纳税人用欺骗手段获得国家税收优惠的行为。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      内容：在我国，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骗取国家出口退税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还有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骗取国家税收优惠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的行为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81547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处理：我国刑法规定：数额较大的，处五年以下徒刑或者拘役，数额巨大情节严重的，处五年以上十年以下徒刑并处以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至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倍罚金；数额特别巨大情节特别严重的，处十年以上或无期徒刑并处以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至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倍罚金。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304560"/>
            <a:ext cx="8227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ffcc66"/>
                </a:solidFill>
                <a:latin typeface="宋体"/>
              </a:rPr>
              <a:t>骗税与偷税的主要区别在于</a:t>
            </a: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：    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宋体"/>
              </a:rPr>
              <a:t>前者是骗得税收优惠，后者是设法隐瞒应税项目和应税收入。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105264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D.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抗税。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定义：是纳税人以暴力、威胁方法拒不缴纳税款的行为。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内容：拒不执行税法规定、不纳税；拒绝接受检查；聚众闹事、威胁、殴打、围攻等行为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处理：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处三年以下徒刑或拘役，并处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1-5</a:t>
            </a: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倍罚金；情节严重的，处三年至七年徒刑，并处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1-5</a:t>
            </a: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倍罚金；以暴力方式抗税，致人重伤或死亡的，依法按伤害罪、杀人罪处罚，并处以罚金。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57200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7920" y="4495680"/>
            <a:ext cx="6324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62864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想一想</a:t>
            </a:r>
            <a:r>
              <a:rPr b="0" lang="zh-CN" sz="4400" spc="-1" strike="noStrike">
                <a:solidFill>
                  <a:srgbClr val="ffff00"/>
                </a:solidFill>
                <a:latin typeface="宋体"/>
              </a:rPr>
              <a:t>：</a:t>
            </a: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                                                纳税人偷税、欠税、骗税、抗税要受到法律制裁，这与税收的特征有什么联系？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71640" y="1052640"/>
            <a:ext cx="748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这说明税收具有强制性。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税收的强制性是指税收是依靠国家的政治权力而强制征收的。征税必须有法律依据，纳税人必须依法纳税，否则将受到法律的制裁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含义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税收      基本特征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        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                   违法表现和处理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08400" y="2133720"/>
            <a:ext cx="685800" cy="2590560"/>
          </a:xfrm>
          <a:custGeom>
            <a:avLst/>
            <a:gdLst>
              <a:gd name="textAreaLeft" fmla="*/ 438120 w 685800"/>
              <a:gd name="textAreaRight" fmla="*/ 686160 w 6858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宋体"/>
              </a:rPr>
              <a:t>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内容：是国家征收的货币和实物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A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商品货币关系不发达时，税收主要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征收实物。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3876840" cy="3240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1197000"/>
            <a:ext cx="774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综合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                              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一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比较题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   税收与其他财政收入形式的主要区别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4360" y="620640"/>
            <a:ext cx="748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提示：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1.(1)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财政收入是国家通过一定的形式和渠道集中起来的资金。包括税、利、债、费、各种罚没收入、国际捐款等。</a:t>
            </a:r>
            <a:br>
              <a:rPr sz="4000"/>
            </a:b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(2)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税收是国家凭借政治权力依法无偿取得财政收入的形式，具有强制性、无偿性、固定性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2.(1)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国有企业上缴的利润有无偿性和一定的强制性，但没有固定性；债务收入根本没有税收的三个特征；国家机关的收费有固定性，但它以国家机关提供服务为前提，不具有无偿性；罚没收入有强制性，但没有固定性；国际捐款有无偿性，但没有强制性和固定性。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(2)</a:t>
            </a:r>
            <a:r>
              <a:rPr b="0" lang="zh-CN" sz="4400" spc="-1" strike="noStrike">
                <a:solidFill>
                  <a:srgbClr val="ffcc66"/>
                </a:solidFill>
                <a:latin typeface="宋体"/>
              </a:rPr>
              <a:t>而税收是强制性、无偿性、固定性的统一，缺一不可。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54040" y="2563920"/>
            <a:ext cx="24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再          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256500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B.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在发达的商品经济条件下，主要征收货币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381560" y="3195720"/>
          <a:ext cx="38088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3195720"/>
                    <a:ext cx="3808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381560" y="3195720"/>
          <a:ext cx="38088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560" y="3195720"/>
                    <a:ext cx="3808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381560" y="3195720"/>
          <a:ext cx="38088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81560" y="3195720"/>
                    <a:ext cx="38088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）税收的法律依据：税法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964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）税收的立法和政策制定机关、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征收机关                             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A.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立法和政策制定机关：               各级人大及常委会、国务院及财政部、国务院关税税则委员会、国家税务总局等    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518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B.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税收的征收机关：                各级国家税务局和地方税务局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77300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税收的基本特征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                                   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(1)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强制性 ：是依靠国家的政治权力而强制征收的。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75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148392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列宁：所谓赋税，就是国家不付任何报酬而向居民取得东西。这说明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税收 纳税人</cp:keywords>
  <dc:language>en-US</dc:language>
  <cp:lastModifiedBy/>
  <cp:revision>0</cp:revision>
  <dc:subject/>
  <dc:title/>
</cp:coreProperties>
</file>