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27D-0950-4305-95C1-D7EFACB3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1C2-C381-4D2E-9BBB-4B671998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078-0417-4DE6-BD60-322E0616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932-0933-412B-B54E-57DE724D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EAC6-E21C-4608-9D92-DDECA0EC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455C-2FAD-41FF-AEEB-CAEE3930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E7F4-4C70-442F-9F5C-3F3F3042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8D1C-3112-49B7-866A-F2490362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8515-F0CB-48C7-A531-A6283D09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5798-E9C0-46C9-8C1B-D7F70BB7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3F47-28A7-47F1-91D6-EF3CFCAE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102-135A-4C2E-9D8C-82868554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BD10-8859-453F-A558-4D9ECA4B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8F3C-30D5-4677-9187-6C37922F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9D08-A455-4808-8C81-D5E9E72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3D83-6661-4505-9A30-B34900A0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FCE-B8FA-4D89-8BDD-4EF78806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EF0-5679-4024-8B15-CDBE8651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F87-7484-42C8-9358-9BEA762D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EEE-B224-48D4-8125-A60085C5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30C-20F6-49E9-9908-FB94183F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CF9-130E-4F30-B544-05AC4710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A69-2A88-4F71-91FE-2FC4A86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E0F-8C57-4827-95D8-3CBCE8FF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6BDD-A94A-48C7-82D2-E66BA91F53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3501-DB7F-4006-B67D-5C48DFD41C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第一课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锻炼心理品质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加强品格修养</a:t>
            </a: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_x000b__x000c_,Arial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塑造良好道德，培育健康心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90720" y="2133720"/>
            <a:ext cx="7010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66680"/>
            <a:ext cx="739152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锻炼心理品质首先要全面、客观地了解自己，只有对自己认识清楚了，锻炼才有实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华文细黑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ff5050"/>
                </a:solidFill>
                <a:latin typeface="华文细黑"/>
                <a:ea typeface="华文细黑"/>
              </a:rPr>
              <a:t>、</a:t>
            </a:r>
            <a:r>
              <a:rPr b="0" lang="zh-CN" sz="3600" spc="-1" strike="noStrike" u="sng">
                <a:solidFill>
                  <a:srgbClr val="e5d093"/>
                </a:solidFill>
                <a:uFillTx/>
                <a:latin typeface="华文细黑"/>
                <a:ea typeface="华文细黑"/>
              </a:rPr>
              <a:t>要了解自己的心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华文细黑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ff5050"/>
                </a:solidFill>
                <a:latin typeface="华文细黑"/>
                <a:ea typeface="华文细黑"/>
              </a:rPr>
              <a:t>、</a:t>
            </a:r>
            <a:r>
              <a:rPr b="0" lang="zh-CN" sz="3600" spc="-1" strike="noStrike" u="sng">
                <a:solidFill>
                  <a:srgbClr val="e5d093"/>
                </a:solidFill>
                <a:uFillTx/>
                <a:latin typeface="华文细黑"/>
                <a:ea typeface="华文细黑"/>
              </a:rPr>
              <a:t>要掌握正确的锻炼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6095880"/>
            <a:ext cx="10666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5d093"/>
                </a:solidFill>
                <a:uFillTx/>
                <a:latin typeface="Times New Roman"/>
                <a:ea typeface="华文细黑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09480" y="30492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若你遇到有下面两种情境，你会怎么想或做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2057400"/>
            <a:ext cx="7772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情境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运动会上，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4 100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米接力正在进行，突然，本班的一名运动员摔倒了，这时你会怎么想（或怎么做）？由于摔倒耽误了时间，影响了比赛成绩，奖牌落入其他班，你又会怎么想（或怎么做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4495680"/>
            <a:ext cx="79246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情境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参加了一天的义务劳动，已经很累了，在回家乘车时，很幸运的得到了一个座位，可是刚坐下不久，便发现一位满头白发的老者站在你身边。（希望说出真实的想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066680" y="76212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了解自己的心理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通过比较来了解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通过他人的评价来了解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2590920"/>
            <a:ext cx="85345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与周围的同学互相评价对方的性格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提问：通过同学对你的评价，你是不是对自己性格方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面的特点更清楚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518148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此外，还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通过心理测试来了解自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71720" y="2590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b5e0e3"/>
                </a:solidFill>
                <a:latin typeface="Times New Roman"/>
              </a:rPr>
              <a:t>做一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010280" y="5826240"/>
            <a:ext cx="914400" cy="498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华文细黑"/>
                <a:ea typeface="华文细黑"/>
              </a:rPr>
              <a:t>        </a:t>
            </a:r>
            <a:r>
              <a:rPr b="0" lang="zh-CN" sz="4000" spc="-1" strike="noStrike">
                <a:solidFill>
                  <a:srgbClr val="cc6600"/>
                </a:solidFill>
                <a:latin typeface="华文细黑"/>
                <a:ea typeface="华文细黑"/>
              </a:rPr>
              <a:t>进行心理品质的锻炼，还要掌握正确的方法：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要掌握正确的锻炼方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我们主要提出三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r>
              <a:rPr b="0" lang="zh-CN" sz="2800" spc="-1" strike="noStrike" u="sng">
                <a:solidFill>
                  <a:srgbClr val="e5d093"/>
                </a:solidFill>
                <a:uFillTx/>
                <a:latin typeface="华文细黑"/>
                <a:ea typeface="华文细黑"/>
              </a:rPr>
              <a:t>多读好书，优化心理品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r>
              <a:rPr b="0" lang="zh-CN" sz="2800" spc="-1" strike="noStrike" u="sng">
                <a:solidFill>
                  <a:srgbClr val="e5d093"/>
                </a:solidFill>
                <a:uFillTx/>
                <a:latin typeface="华文细黑"/>
                <a:ea typeface="华文细黑"/>
              </a:rPr>
              <a:t>参加社会活动，锻炼心理品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r>
              <a:rPr b="0" lang="zh-CN" sz="2800" spc="-1" strike="noStrike" u="sng">
                <a:solidFill>
                  <a:srgbClr val="e5d093"/>
                </a:solidFill>
                <a:uFillTx/>
                <a:latin typeface="华文细黑"/>
                <a:ea typeface="华文细黑"/>
              </a:rPr>
              <a:t>参加美育活动，亲近大自然，陶冶心理品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写出你读过的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“好看”的书的书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以四人为一组，谈一谈为什么“好看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然后，准备向全班推荐一本好书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请几位同学向全班介绍一本好书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66"/>
                </a:solidFill>
                <a:latin typeface="Times New Roman"/>
              </a:rPr>
              <a:t>请你做一做：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781680" y="5562720"/>
            <a:ext cx="914400" cy="498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09480" y="23623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参加社会活动，锻炼心理品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古人说过，人世间有两种书，一种是”有字书”，另一种是“无字书”，这后一种就是社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对于我们中学生来说，“有字书”要读，无字书”也要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1523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参加美育活动，亲近大自然，陶冶心理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743200"/>
            <a:ext cx="807696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美育在锻炼心理品质中的作用早已被人们所认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琴、棋、书、画可以修身养性，陶冶性情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情绪不好时，可以唱唱歌、听听音乐，可以使心情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改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经常参加体育活动，心情舒畅，精神振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8600" y="1143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971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锻炼心理品质培养健康心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81080" y="2133720"/>
            <a:ext cx="76212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429000"/>
            <a:ext cx="83844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560" y="1619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要了解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心理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通过比较来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1752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通过他人的评价来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8148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通过心理测试来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572000" y="1066320"/>
            <a:ext cx="60948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5680" y="198108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2057400"/>
            <a:ext cx="7621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9520" y="403848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要掌握正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锻炼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读好书，优化心理品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参加社会活动，锻炼心理品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5105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参加美育活动，陶冶心理品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495680" y="3885840"/>
            <a:ext cx="3812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45720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4800600"/>
            <a:ext cx="5335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塑造 良好 道德 培育 健康 心理</cp:keywords>
  <dc:language>en-US</dc:language>
  <cp:lastModifiedBy/>
  <cp:revision>0</cp:revision>
  <dc:subject/>
  <dc:title/>
</cp:coreProperties>
</file>