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4BF-8D42-4CB1-83BB-304E472D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82B-25CE-4C5F-9B3D-4A25BF0A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4B8-F3F1-47DE-9C63-9460B0A3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E3C-72A8-4375-9640-F77F46EB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BD8-9556-4F62-B743-11967048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3E13-CD8C-4679-934A-64AE6CC9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454-8CE9-4F19-8576-220CFDD7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05F-3F4C-441B-98FB-9DCCAC82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8826-3CB3-49B6-B63A-47473D1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A780-30FE-4E70-8BDF-7E44D27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D22-F8A1-42E1-9154-864851A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FDE-8551-4375-B73D-C20813F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D4E-E28D-455F-BB39-88A6E20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23C-CE25-402B-A023-4D62959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DD1B-F8A3-45AA-AF74-5CAEA8B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13A0-7921-4E5E-845E-8F53A56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B51-7FA1-4166-9A70-FF2E7ADA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F7B-619C-4CF9-B3DE-81A6A23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1FB-3FA3-4333-A15C-BC674A31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932-1EC0-48EB-BF3C-52D679CD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15A-52D6-43DF-A6B3-F81AD8F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004-183E-4C15-ABF8-994C1BC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DBB-D0AA-4190-8B86-FB1131A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4AE-D73F-4300-85F0-6CF08B3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975-3588-42F3-8803-148A08522983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66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3AB-7E24-41FE-AB52-FB3F6863C7C8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27160" algn="ctr">
              <a:spcBef>
                <a:spcPts val="601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大厦</cp:keywords>
  <dc:language>en-US</dc:language>
  <cp:lastModifiedBy/>
  <cp:revision>0</cp:revision>
  <dc:subject/>
  <dc:title/>
</cp:coreProperties>
</file>