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27E-CD53-4A2E-8A06-414D05EE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781-6AF9-49AA-802A-26721284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04C-5CDE-422F-A114-9A6905F7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B52-2B6B-4C40-9BD4-93879798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2AA9-43BB-4BC0-A21D-ABDAAD0E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15D9-8F40-4CBF-B0E1-508346EC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2B11-1870-457C-AB42-65D5B35A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F69-7131-464E-A5CA-4F079D0A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D6F0-05E2-4867-8B3E-20F559EA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E307-941E-4926-B000-5443872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2B06-DB68-47A2-B5A2-8A4A9E0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10A-7F4F-4254-B1B0-962402FA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B9FA-E521-4DD2-BDBB-49F9C84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D516-519D-4B7E-9E59-4FF11210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1396-DF5B-4739-83EC-2DD07A78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C20D-B8AF-4042-8211-27AD9D8E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4F0C-3061-43F5-832F-7910ABAA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BA1-7364-4EFF-A86D-B9A475F7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71B-591B-4B45-9BA2-7A24ED43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B43-C453-4844-854C-6C069EA6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B9B-5245-443D-AC06-AFBD24F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E40-F20F-4F2B-B1E9-38B657D9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831-4312-499F-9A57-CD311AF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327-69AF-4003-9313-E1D9B0B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67F-1DB1-43AB-8B35-035E0749FBD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E865-FB04-4BE7-B326-CA55F0A1892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经济学引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楷体_GB2312"/>
              <a:ea typeface="楷体_GB2312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609120"/>
            <a:ext cx="81406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中国文化产业的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文化产业的发展落后于经济与教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大中小学的艺术教育远远落后与科学与人文教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缺乏政府与社会的投资与赞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累退所得税的价格机制：北京上海的演出价格远高于纽约，中小城市和农村缺乏文化生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商业动机和媚俗现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缺乏文化，经济，与政治的联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中国文化产业的改革建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大力加强大中小学的艺术教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设立文化基金会，给私人和企业的捐款免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价格管理推行非线性价格，鼓励学生与教师增加文化消费的机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改革文化产业的营销体制，发展联营和中长期计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经济学的诞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Ford Foundation’s Arts Program (1957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William Baumol and William Bowen, </a:t>
            </a:r>
            <a:r>
              <a:rPr b="0" i="1" lang="zh-CN" sz="3200" spc="-1" strike="noStrike">
                <a:solidFill>
                  <a:srgbClr val="007a77"/>
                </a:solidFill>
                <a:latin typeface="Arial"/>
              </a:rPr>
              <a:t>Performing Arts: The Economic Dilemma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Twenties Century Fund, New York (1966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Association for Cultural Economics and Journal of Cultural Economics (1970s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艺术产业的特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文化艺术产业的范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娱乐性体育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表演艺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戏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音乐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舞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)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电影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博物馆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画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出版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文化产业的规模与增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欧美文化娱乐支出占人均可支配收入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5-9%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随经济增长而增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520" y="686880"/>
            <a:ext cx="81406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商品的特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支出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消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还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投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文化教育与科学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创造性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商品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私用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兼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公用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显著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外部性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上瘾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投资的规模：歌剧，交响乐，芭蕾，博物馆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成本高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难以靠门票收入支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投资的风险：艺术品的拍卖纪录表明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风险（价格波动）高于国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政策含义：混合经济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政府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盈利机构的支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发展文化产业的关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商品的供求关系与定价方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垄断竞争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而非完全竞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需求曲线斜率向下：降价会刺激需求的增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供给曲线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短期斜率向上（涨价会增加供给）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长期平坦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供给变化时价格不变）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剧院供给曲线垂直向上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座位数固定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产的边际成本不变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》多演出效率不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文化产品的价格为何缺乏弹性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产周期长，价格的信号作用（社会地位），改变定价的成本高（广告，印票，形象），信息复杂与缺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市场的特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教育程度与文化支出正相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收入水平与文化支出正相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欧美妇女的文化支出高于男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欧美文化消费的主力日益年轻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培育年轻一代的文化市场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维也纳剧院给穷学生的保留座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线性定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剧场的学生和中小学教员的折扣，美国专业图书的地域区隔定价，博物馆的免费日，体育大赛的供不应求制造人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产业的赞助模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市场失败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典型：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多数艺术家陷于贫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成本高于收入，公共效益大于票房收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提高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国民的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创造性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竞争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普及艺术教育减少社会差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拉动地区经济发展：文化旅游的增长（意大利，法国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赞助模式：美国以联邦政府与私人基金会为主，法国以中央政府为主，德国以地方政府为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文化多元化与社会公德的选择规则（性，暴力，价值观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文化传统与税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686880"/>
            <a:ext cx="81406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文化营销的新发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4588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提高鉴赏标准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制造公众气氛：艺术节，文化节，国际与国内竞赛（电影，音乐，舞蹈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演出长程（年度）计划与多元艺术的协调配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演出公司与代理人网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地区巡回演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演出售票的系统折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609120"/>
            <a:ext cx="81406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中国文化产业的发展前景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760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XX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国艺术地位的迅速提高：音乐（钢琴，提琴，指挥，声乐的国际大奖），舞蹈，花样滑冰，电影（张艺谋，卧虎藏龙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演艺术和电影的国际化与多元化：美国，西欧，俄国，南非，土耳其，拉丁国家的演出》比美国更多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TV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VC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V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家庭普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音乐教育的迅速发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艺术院校的供不应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文化经济学 引论</cp:keywords>
  <dc:language>en-US</dc:language>
  <cp:lastModifiedBy/>
  <cp:revision>0</cp:revision>
  <dc:subject/>
  <dc:title/>
</cp:coreProperties>
</file>