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DF5-8BC9-4BDF-A234-BEFBD399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877-B6DF-453F-9F3D-0FB93CE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B91-6DD0-489A-A827-0E328328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494-0EC4-4150-8783-91D7DFA6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4D90-BAA5-42CB-84EC-F937F4D5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D11-C2B1-425B-BFCC-5114A1C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1E1-D0C4-4978-898B-4CD66AD4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3CE-110E-4573-B626-BA33812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EBD4-EBA3-4BBD-8889-20F8219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0AF3-1B18-4FDA-8CBF-79C6BE2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BD90-A024-4B87-81FA-88129F0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420-EF42-46B8-B3F6-D7B809E0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644F-5AB1-4A7A-AD19-42C6AF6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DC7-FE6A-45E9-92B7-84F45F7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0A0-11C6-4F79-9556-F5E186A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A81-652C-4F73-946D-2EA7DD54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E393-6353-4F89-998A-D2782A8C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36B-0C76-4BE9-8DAD-F6CFCD3C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7F0-BEE1-40E7-B941-7570AA06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CE4-6A5D-4067-9B75-10A1424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1E1-84C7-4E9D-AFD1-25C1A95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935-9681-4A2B-96CA-B7129B31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6A6-3C1E-4BD0-AD4C-2672354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F21-4978-438B-BC11-02FBDA7C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8665-AA15-4567-B5B0-35F8147D14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778C-2BAF-4341-97C5-386869728F9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9144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隶书"/>
              </a:rPr>
              <a:t>物理教学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438280"/>
            <a:ext cx="54100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Times New Roman"/>
                <a:ea typeface="黑体"/>
              </a:rPr>
              <a:t>哲学思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87692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72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10666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362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门科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429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种智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4956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种文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80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宙半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子半径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宇宙寿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强衰变粒子寿命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氢核与电子的电力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氢核与电子的引力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0</a:t>
            </a:r>
            <a:r>
              <a:rPr b="1" lang="zh-CN" sz="3200" spc="-1" strike="noStrike" baseline="30000">
                <a:solidFill>
                  <a:srgbClr val="ffff00"/>
                </a:solidFill>
                <a:latin typeface="Times New Roman"/>
                <a:ea typeface="楷体_GB2312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狭拉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057400" y="10666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为何教物理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743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知识本位      学科本位      学生本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124080"/>
            <a:ext cx="68580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3124080"/>
            <a:ext cx="68580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1219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育的最高目标是为了使人们  能够过一个实现自我和负责任的 生活作准备。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3962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—— </a:t>
            </a:r>
            <a:r>
              <a:rPr b="0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摘自《面向全体美国人的科学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9907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物理教学观</a:t>
            </a:r>
            <a:r>
              <a:rPr b="1" i="1" lang="zh-CN" sz="4800" spc="-1" strike="noStrike">
                <a:solidFill>
                  <a:srgbClr val="ffcc66"/>
                </a:solidFill>
                <a:latin typeface="方正姚体"/>
                <a:ea typeface="方正姚体"/>
              </a:rPr>
              <a:t>----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66688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为提高学生的科学素养而教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9144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cc66"/>
                </a:solidFill>
                <a:latin typeface="华文中宋"/>
                <a:ea typeface="华文中宋"/>
              </a:rPr>
              <a:t>物理教学的价值</a:t>
            </a:r>
            <a:r>
              <a:rPr b="1" i="1" lang="zh-CN" sz="4000" spc="-1" strike="noStrike">
                <a:solidFill>
                  <a:srgbClr val="ffcc66"/>
                </a:solidFill>
                <a:latin typeface="华文中宋"/>
                <a:ea typeface="华文中宋"/>
              </a:rPr>
              <a:t>----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209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572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1981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人类社会积累的知识转化为学生个体的知识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124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前人从事智力活动的方法转化为学生的认识能力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343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蕴含在知识载体中的观念转化为学生的行为准则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914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怎样教物理</a:t>
            </a: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38280" y="12193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隶书"/>
                <a:ea typeface="隶书"/>
              </a:rPr>
              <a:t>“</a:t>
            </a:r>
            <a:r>
              <a:rPr b="0" lang="zh-CN" sz="6000" spc="-1" strike="noStrike">
                <a:solidFill>
                  <a:srgbClr val="ffcc66"/>
                </a:solidFill>
                <a:latin typeface="隶书"/>
                <a:ea typeface="隶书"/>
              </a:rPr>
              <a:t>优化过程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743200"/>
            <a:ext cx="5181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过程为主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优化为核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客观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课程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黑体"/>
              </a:rPr>
              <a:t>个体知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762120"/>
            <a:ext cx="5029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知识的演化过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2004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362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课程设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设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2004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静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63440" y="380988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动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809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内化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52480" y="914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物理知识的形态与功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038480"/>
            <a:ext cx="64008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276720"/>
            <a:ext cx="32004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590920"/>
            <a:ext cx="32004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276720"/>
            <a:ext cx="0" cy="761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590920"/>
            <a:ext cx="0" cy="685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2590920"/>
            <a:ext cx="0" cy="14475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495680"/>
            <a:ext cx="71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功利价值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认知价值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发展价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学术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形态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显性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251460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教育形态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隐性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【案例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219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感应电流的方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8288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5053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8769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5627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3244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868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20968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2096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N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插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N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拔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S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插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S</a:t>
            </a:r>
            <a:r>
              <a:rPr b="1" lang="zh-CN" sz="2400" spc="-1" strike="noStrike">
                <a:solidFill>
                  <a:srgbClr val="ffff66"/>
                </a:solidFill>
                <a:latin typeface="方正姚体"/>
                <a:ea typeface="方正姚体"/>
              </a:rPr>
              <a:t>极拔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971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磁场的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原磁通量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343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感应电流的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0292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感应电流磁场方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结  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371600"/>
            <a:ext cx="45720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411480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7200" y="1905120"/>
            <a:ext cx="0" cy="4038480"/>
          </a:xfrm>
          <a:prstGeom prst="line">
            <a:avLst/>
          </a:prstGeom>
          <a:ln w="1908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429000"/>
            <a:ext cx="2971800" cy="2286000"/>
          </a:xfrm>
          <a:custGeom>
            <a:avLst/>
            <a:gdLst/>
            <a:ahLst/>
            <a:rect l="l" t="t" r="r" b="b"/>
            <a:pathLst>
              <a:path w="1776" h="1496">
                <a:moveTo>
                  <a:pt x="0" y="1496"/>
                </a:moveTo>
                <a:cubicBezTo>
                  <a:pt x="64" y="1380"/>
                  <a:pt x="128" y="1264"/>
                  <a:pt x="144" y="1256"/>
                </a:cubicBezTo>
                <a:cubicBezTo>
                  <a:pt x="160" y="1248"/>
                  <a:pt x="72" y="1464"/>
                  <a:pt x="96" y="1448"/>
                </a:cubicBezTo>
                <a:cubicBezTo>
                  <a:pt x="120" y="1432"/>
                  <a:pt x="264" y="1184"/>
                  <a:pt x="288" y="1160"/>
                </a:cubicBezTo>
                <a:cubicBezTo>
                  <a:pt x="312" y="1136"/>
                  <a:pt x="232" y="1296"/>
                  <a:pt x="240" y="1304"/>
                </a:cubicBezTo>
                <a:cubicBezTo>
                  <a:pt x="248" y="1312"/>
                  <a:pt x="288" y="1272"/>
                  <a:pt x="336" y="1208"/>
                </a:cubicBezTo>
                <a:cubicBezTo>
                  <a:pt x="384" y="1144"/>
                  <a:pt x="488" y="928"/>
                  <a:pt x="528" y="920"/>
                </a:cubicBezTo>
                <a:cubicBezTo>
                  <a:pt x="568" y="912"/>
                  <a:pt x="568" y="1224"/>
                  <a:pt x="576" y="1160"/>
                </a:cubicBezTo>
                <a:cubicBezTo>
                  <a:pt x="584" y="1096"/>
                  <a:pt x="568" y="608"/>
                  <a:pt x="576" y="536"/>
                </a:cubicBezTo>
                <a:cubicBezTo>
                  <a:pt x="584" y="464"/>
                  <a:pt x="592" y="744"/>
                  <a:pt x="624" y="728"/>
                </a:cubicBezTo>
                <a:cubicBezTo>
                  <a:pt x="656" y="712"/>
                  <a:pt x="736" y="432"/>
                  <a:pt x="768" y="440"/>
                </a:cubicBezTo>
                <a:cubicBezTo>
                  <a:pt x="800" y="448"/>
                  <a:pt x="752" y="672"/>
                  <a:pt x="816" y="776"/>
                </a:cubicBezTo>
                <a:cubicBezTo>
                  <a:pt x="880" y="880"/>
                  <a:pt x="1088" y="1048"/>
                  <a:pt x="1152" y="1064"/>
                </a:cubicBezTo>
                <a:cubicBezTo>
                  <a:pt x="1216" y="1080"/>
                  <a:pt x="1176" y="952"/>
                  <a:pt x="1200" y="872"/>
                </a:cubicBezTo>
                <a:cubicBezTo>
                  <a:pt x="1224" y="792"/>
                  <a:pt x="1272" y="656"/>
                  <a:pt x="1296" y="584"/>
                </a:cubicBezTo>
                <a:cubicBezTo>
                  <a:pt x="1320" y="512"/>
                  <a:pt x="1320" y="464"/>
                  <a:pt x="1344" y="440"/>
                </a:cubicBezTo>
                <a:cubicBezTo>
                  <a:pt x="1368" y="416"/>
                  <a:pt x="1408" y="424"/>
                  <a:pt x="1440" y="440"/>
                </a:cubicBezTo>
                <a:cubicBezTo>
                  <a:pt x="1472" y="456"/>
                  <a:pt x="1504" y="520"/>
                  <a:pt x="1536" y="536"/>
                </a:cubicBezTo>
                <a:cubicBezTo>
                  <a:pt x="1568" y="552"/>
                  <a:pt x="1616" y="584"/>
                  <a:pt x="1632" y="536"/>
                </a:cubicBezTo>
                <a:cubicBezTo>
                  <a:pt x="1648" y="488"/>
                  <a:pt x="1632" y="336"/>
                  <a:pt x="1632" y="248"/>
                </a:cubicBezTo>
                <a:cubicBezTo>
                  <a:pt x="1632" y="160"/>
                  <a:pt x="1624" y="16"/>
                  <a:pt x="1632" y="8"/>
                </a:cubicBezTo>
                <a:cubicBezTo>
                  <a:pt x="1640" y="0"/>
                  <a:pt x="1656" y="168"/>
                  <a:pt x="1680" y="200"/>
                </a:cubicBezTo>
                <a:cubicBezTo>
                  <a:pt x="1704" y="232"/>
                  <a:pt x="1744" y="232"/>
                  <a:pt x="1776" y="20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403440"/>
            <a:ext cx="152280" cy="330480"/>
          </a:xfrm>
          <a:custGeom>
            <a:avLst/>
            <a:gdLst/>
            <a:ahLst/>
            <a:rect l="l" t="t" r="r" b="b"/>
            <a:pathLst>
              <a:path w="96" h="208">
                <a:moveTo>
                  <a:pt x="0" y="208"/>
                </a:moveTo>
                <a:cubicBezTo>
                  <a:pt x="16" y="120"/>
                  <a:pt x="32" y="32"/>
                  <a:pt x="48" y="16"/>
                </a:cubicBezTo>
                <a:cubicBezTo>
                  <a:pt x="64" y="0"/>
                  <a:pt x="80" y="56"/>
                  <a:pt x="96" y="1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3492360"/>
            <a:ext cx="152640" cy="88920"/>
          </a:xfrm>
          <a:custGeom>
            <a:avLst/>
            <a:gdLst/>
            <a:ahLst/>
            <a:rect l="l" t="t" r="r" b="b"/>
            <a:pathLst>
              <a:path w="104" h="160">
                <a:moveTo>
                  <a:pt x="0" y="104"/>
                </a:moveTo>
                <a:cubicBezTo>
                  <a:pt x="16" y="52"/>
                  <a:pt x="32" y="0"/>
                  <a:pt x="48" y="8"/>
                </a:cubicBezTo>
                <a:cubicBezTo>
                  <a:pt x="64" y="16"/>
                  <a:pt x="88" y="144"/>
                  <a:pt x="96" y="152"/>
                </a:cubicBezTo>
                <a:cubicBezTo>
                  <a:pt x="104" y="160"/>
                  <a:pt x="96" y="80"/>
                  <a:pt x="96" y="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200400"/>
            <a:ext cx="88920" cy="304920"/>
          </a:xfrm>
          <a:custGeom>
            <a:avLst/>
            <a:gdLst/>
            <a:ahLst/>
            <a:rect l="l" t="t" r="r" b="b"/>
            <a:pathLst>
              <a:path w="56" h="192">
                <a:moveTo>
                  <a:pt x="0" y="192"/>
                </a:moveTo>
                <a:cubicBezTo>
                  <a:pt x="0" y="192"/>
                  <a:pt x="40" y="0"/>
                  <a:pt x="48" y="0"/>
                </a:cubicBezTo>
                <a:cubicBezTo>
                  <a:pt x="56" y="0"/>
                  <a:pt x="0" y="192"/>
                  <a:pt x="0" y="192"/>
                </a:cubicBezTo>
                <a:close/>
              </a:path>
            </a:pathLst>
          </a:custGeom>
          <a:solidFill>
            <a:srgbClr val="00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514600"/>
            <a:ext cx="990720" cy="1092240"/>
          </a:xfrm>
          <a:custGeom>
            <a:avLst/>
            <a:gdLst/>
            <a:ahLst/>
            <a:rect l="l" t="t" r="r" b="b"/>
            <a:pathLst>
              <a:path w="624" h="688">
                <a:moveTo>
                  <a:pt x="0" y="480"/>
                </a:moveTo>
                <a:cubicBezTo>
                  <a:pt x="16" y="532"/>
                  <a:pt x="32" y="584"/>
                  <a:pt x="48" y="576"/>
                </a:cubicBezTo>
                <a:cubicBezTo>
                  <a:pt x="64" y="568"/>
                  <a:pt x="64" y="472"/>
                  <a:pt x="96" y="432"/>
                </a:cubicBezTo>
                <a:cubicBezTo>
                  <a:pt x="128" y="392"/>
                  <a:pt x="200" y="304"/>
                  <a:pt x="240" y="336"/>
                </a:cubicBezTo>
                <a:cubicBezTo>
                  <a:pt x="280" y="368"/>
                  <a:pt x="304" y="576"/>
                  <a:pt x="336" y="624"/>
                </a:cubicBezTo>
                <a:cubicBezTo>
                  <a:pt x="368" y="672"/>
                  <a:pt x="416" y="688"/>
                  <a:pt x="432" y="624"/>
                </a:cubicBezTo>
                <a:cubicBezTo>
                  <a:pt x="448" y="560"/>
                  <a:pt x="416" y="280"/>
                  <a:pt x="432" y="240"/>
                </a:cubicBezTo>
                <a:cubicBezTo>
                  <a:pt x="448" y="200"/>
                  <a:pt x="504" y="408"/>
                  <a:pt x="528" y="384"/>
                </a:cubicBezTo>
                <a:cubicBezTo>
                  <a:pt x="552" y="360"/>
                  <a:pt x="560" y="160"/>
                  <a:pt x="576" y="96"/>
                </a:cubicBezTo>
                <a:cubicBezTo>
                  <a:pt x="592" y="32"/>
                  <a:pt x="608" y="16"/>
                  <a:pt x="62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371600"/>
            <a:ext cx="4572000" cy="5105520"/>
          </a:xfrm>
          <a:prstGeom prst="rect">
            <a:avLst/>
          </a:prstGeom>
          <a:noFill/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2209680"/>
            <a:ext cx="1905120" cy="1600200"/>
          </a:xfrm>
          <a:custGeom>
            <a:avLst/>
            <a:gdLst/>
            <a:ahLst/>
            <a:rect l="l" t="t" r="r" b="b"/>
            <a:pathLst>
              <a:path w="1776" h="1496">
                <a:moveTo>
                  <a:pt x="0" y="1496"/>
                </a:moveTo>
                <a:cubicBezTo>
                  <a:pt x="64" y="1380"/>
                  <a:pt x="128" y="1264"/>
                  <a:pt x="144" y="1256"/>
                </a:cubicBezTo>
                <a:cubicBezTo>
                  <a:pt x="160" y="1248"/>
                  <a:pt x="72" y="1464"/>
                  <a:pt x="96" y="1448"/>
                </a:cubicBezTo>
                <a:cubicBezTo>
                  <a:pt x="120" y="1432"/>
                  <a:pt x="264" y="1184"/>
                  <a:pt x="288" y="1160"/>
                </a:cubicBezTo>
                <a:cubicBezTo>
                  <a:pt x="312" y="1136"/>
                  <a:pt x="232" y="1296"/>
                  <a:pt x="240" y="1304"/>
                </a:cubicBezTo>
                <a:cubicBezTo>
                  <a:pt x="248" y="1312"/>
                  <a:pt x="288" y="1272"/>
                  <a:pt x="336" y="1208"/>
                </a:cubicBezTo>
                <a:cubicBezTo>
                  <a:pt x="384" y="1144"/>
                  <a:pt x="488" y="928"/>
                  <a:pt x="528" y="920"/>
                </a:cubicBezTo>
                <a:cubicBezTo>
                  <a:pt x="568" y="912"/>
                  <a:pt x="568" y="1224"/>
                  <a:pt x="576" y="1160"/>
                </a:cubicBezTo>
                <a:cubicBezTo>
                  <a:pt x="584" y="1096"/>
                  <a:pt x="568" y="608"/>
                  <a:pt x="576" y="536"/>
                </a:cubicBezTo>
                <a:cubicBezTo>
                  <a:pt x="584" y="464"/>
                  <a:pt x="592" y="744"/>
                  <a:pt x="624" y="728"/>
                </a:cubicBezTo>
                <a:cubicBezTo>
                  <a:pt x="656" y="712"/>
                  <a:pt x="736" y="432"/>
                  <a:pt x="768" y="440"/>
                </a:cubicBezTo>
                <a:cubicBezTo>
                  <a:pt x="800" y="448"/>
                  <a:pt x="752" y="672"/>
                  <a:pt x="816" y="776"/>
                </a:cubicBezTo>
                <a:cubicBezTo>
                  <a:pt x="880" y="880"/>
                  <a:pt x="1088" y="1048"/>
                  <a:pt x="1152" y="1064"/>
                </a:cubicBezTo>
                <a:cubicBezTo>
                  <a:pt x="1216" y="1080"/>
                  <a:pt x="1176" y="952"/>
                  <a:pt x="1200" y="872"/>
                </a:cubicBezTo>
                <a:cubicBezTo>
                  <a:pt x="1224" y="792"/>
                  <a:pt x="1272" y="656"/>
                  <a:pt x="1296" y="584"/>
                </a:cubicBezTo>
                <a:cubicBezTo>
                  <a:pt x="1320" y="512"/>
                  <a:pt x="1320" y="464"/>
                  <a:pt x="1344" y="440"/>
                </a:cubicBezTo>
                <a:cubicBezTo>
                  <a:pt x="1368" y="416"/>
                  <a:pt x="1408" y="424"/>
                  <a:pt x="1440" y="440"/>
                </a:cubicBezTo>
                <a:cubicBezTo>
                  <a:pt x="1472" y="456"/>
                  <a:pt x="1504" y="520"/>
                  <a:pt x="1536" y="536"/>
                </a:cubicBezTo>
                <a:cubicBezTo>
                  <a:pt x="1568" y="552"/>
                  <a:pt x="1616" y="584"/>
                  <a:pt x="1632" y="536"/>
                </a:cubicBezTo>
                <a:cubicBezTo>
                  <a:pt x="1648" y="488"/>
                  <a:pt x="1632" y="336"/>
                  <a:pt x="1632" y="248"/>
                </a:cubicBezTo>
                <a:cubicBezTo>
                  <a:pt x="1632" y="160"/>
                  <a:pt x="1624" y="16"/>
                  <a:pt x="1632" y="8"/>
                </a:cubicBezTo>
                <a:cubicBezTo>
                  <a:pt x="1640" y="0"/>
                  <a:pt x="1656" y="168"/>
                  <a:pt x="1680" y="200"/>
                </a:cubicBezTo>
                <a:cubicBezTo>
                  <a:pt x="1704" y="232"/>
                  <a:pt x="1744" y="232"/>
                  <a:pt x="1776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200400"/>
            <a:ext cx="609480" cy="60948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1676520"/>
            <a:ext cx="2666880" cy="266688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885840" y="36576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4572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自相似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3352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体一生的发展重演群体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个体发育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905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人的思维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人类认识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思维发展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276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某个地区或民族文化的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人类文化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文化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800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门基础学科的发展成熟过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演整个科学发展的历史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     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学科发展重演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10666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潜科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波利亚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143000"/>
            <a:ext cx="800100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教一个科学的分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一个理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概念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该让孩子重蹈人类思想发展中的那种最关键的步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然我们不应该让他们重蹈过去的无数个错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仅仅是重蹈关键性步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”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教学发生学原理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35053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杜威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67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尽管科学家和教师都掌握学科知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二者的学科知识是不一样的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师必须把学科知识心理学化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便让学生能够理解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00200" y="9144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潜科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514600"/>
            <a:ext cx="3047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心理学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143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-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-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认知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1911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教 学 设 计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学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523880"/>
            <a:ext cx="381240" cy="3048120"/>
          </a:xfrm>
          <a:custGeom>
            <a:avLst/>
            <a:gdLst>
              <a:gd name="textAreaLeft" fmla="*/ 0 w 381240"/>
              <a:gd name="textAreaRight" fmla="*/ 137520 w 38124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9320" y="2286000"/>
            <a:ext cx="66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黑体"/>
              </a:rPr>
              <a:t>三序合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45720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【案例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1447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核能的开发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网络教学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743200"/>
            <a:ext cx="83844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743200"/>
            <a:ext cx="838080" cy="1981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581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581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7920" y="2895480"/>
            <a:ext cx="10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呈现材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30400" y="2895480"/>
            <a:ext cx="1033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自主学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2880" y="2971800"/>
            <a:ext cx="1033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合作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3920" y="2895480"/>
            <a:ext cx="103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归纳总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21337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什麽是物理？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体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343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怎样教物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法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3276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何教物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价值论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对物理教学的哲学思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33720" y="106668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990720"/>
            <a:ext cx="70866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亚里士多德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物理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元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纪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971800"/>
            <a:ext cx="7696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牛顿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自然哲学的数学原理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68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杜甫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曲江二首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600200"/>
            <a:ext cx="495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推物理须行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何用浮名绊此生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格致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格物致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源物穷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952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陈榥</a:t>
            </a: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: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lt;&lt;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物理学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&gt;&gt;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91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9907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什麽是物理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362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362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362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理是一门科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762120"/>
            <a:ext cx="7162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特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科学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基础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密的定量的精密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有方法论性质的科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要素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维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+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648320"/>
            <a:ext cx="7162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物理学的作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探索自然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驱动技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生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培养人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理教学 哲学思考</cp:keywords>
  <dc:language>en-US</dc:language>
  <cp:lastModifiedBy/>
  <cp:revision>0</cp:revision>
  <dc:subject/>
  <dc:title/>
</cp:coreProperties>
</file>