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2FA-BB9E-401E-B837-546D40F9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39C6-6084-4EBE-B95D-36E00AD9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80C9-BC64-469B-A4FB-37CD6223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D7DA-8F84-4F6E-9BAD-CCD97855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F448-046B-4CAA-9D7F-A17BFCED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8A83-E8D5-41CC-95A9-DD80B37E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4513-4B9C-477A-8DFB-B8B8AE47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C2DD-22B6-4E1A-BA8E-0F28873F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F7A9-D409-491F-B788-7F7257A1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C204-4361-4A09-B801-49EEDA5F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BF37-20C1-4BBD-A01A-875787B5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FB39-65E8-40CF-9FA1-7D5235B3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8FD6-4FE4-4C21-9640-4B49FBE9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6FC7-06D8-4980-BDE9-5027A829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6928-97E2-4158-A121-A8BE0A69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699C-F41F-4212-9E15-620678AC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A6BA-503D-4B13-A974-B0A125CB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1623-04DF-44CE-A4AC-B960166F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67C-88FD-4FB0-9DFA-B591F6F0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4D27-744A-4487-B2CB-BD66C228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CFB-D948-4C41-8AC7-355E70EA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9064-4829-4DE4-8F53-113FC01C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DE1-D0A5-4940-A0E2-ECCA3B2F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EFA6-3319-467F-8D62-EB665EC8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15AF-DC04-471D-BB0C-23F0BEBF14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68A5-6C43-472E-9594-2CB7E1F04C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4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通用 牡丹</cp:keywords>
  <dc:language>en-US</dc:language>
  <cp:lastModifiedBy/>
  <cp:revision>0</cp:revision>
  <dc:subject/>
  <dc:title/>
</cp:coreProperties>
</file>