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AFC-350D-425C-AE5C-40C6F5D0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E66-00F7-4DF7-87E7-3C9F7231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6873-0DD0-488C-93C8-0EE72257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941-2106-46A6-9909-2BB7FDAA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1271-49F5-4B27-A9DE-04648B2F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22A3-6EB7-4B68-8149-6B00D035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A406-2430-42E0-A336-CD306AC5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4384-7C67-4978-B5FE-389F09A0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DBC8-36DD-4F6F-9612-2EB40A06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36D1-A942-463A-9CE1-E433269D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FE6C-E77F-4272-B34B-F8D54339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7ED-D4BB-4507-AC11-4DD3904F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AA1B-683C-437C-9E52-B5D5D3AD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851E-BDF0-4F93-B739-2956FAFC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D898-8EFD-4592-AB00-834E8358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D1A0-52C6-4605-A82B-20E36DF1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894C-824E-40EC-B234-3126B821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E533-B6C6-4437-8965-39CB70EB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B865-D5B7-468A-994B-180244F9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7B8E2-45DE-4399-8B32-378D21FD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404E6-0427-484F-93A7-2F6926B6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834E5-FF58-4D8C-BC5D-06FF7224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5D2-82A5-4ACF-AAC1-3E2423AF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7DF94-B4CD-4C34-B51B-A5EC848E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088AA-09AE-4D2A-91DC-CDFEE81C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E93C7-91B9-4ED2-995A-D73DEE58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DD2D3-3051-4434-AF9C-4137D3DE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9C2C-FC3A-45BC-BAC6-2E68CE40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137D5-2648-4008-A1C8-00F0F7E5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0134-B27C-4703-AA33-826D00E3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00A-82B2-4019-A5BF-DC530935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E13-65E4-4760-BAD6-CB47E208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D04-C08E-4CBC-B783-AF647A7C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974-1E1A-4EDE-AD55-88940505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C25-60FA-4BB1-8760-8275D88A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5DE-8C16-43A4-928D-37EBA609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8C63-35F2-4173-874B-42A93EC1D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1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52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B1FA-ED29-48C1-ADE9-62401AD7A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93A1-B75F-4777-8943-CB41718F23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pic_254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672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想别人没想到的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模板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画师要考徒弟什么？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他给每个徒弟一张同样大小的纸，让他们画骆驼，看谁画的骆驼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最多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画师考的结果怎样？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画师看了看他俩的画，没有露出满意的神情。当他拿起小徒弟的画时，禁不住点头称赞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7"/>
          <p:cNvSpPr/>
          <p:nvPr/>
        </p:nvSpPr>
        <p:spPr>
          <a:xfrm>
            <a:off x="942840" y="1628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pic_254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下面四幅画，哪一幅最符合</a:t>
            </a:r>
            <a:r>
              <a:rPr b="1" lang="zh-CN" sz="4400" spc="-1" strike="noStrike">
                <a:solidFill>
                  <a:srgbClr val="ffffb7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深山藏古寺</a:t>
            </a:r>
            <a:r>
              <a:rPr b="1" lang="zh-CN" sz="4400" spc="-1" strike="noStrike">
                <a:solidFill>
                  <a:srgbClr val="ffffb7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的画面？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座深山前画着一座寺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座深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座深山后露出寺庙的一个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座深山，一道弯弯曲曲的石阶上，一个和尚挑着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我也来画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比一比谁画的骆驼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大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09:53:04Z</dcterms:created>
  <dc:creator/>
  <dc:description/>
  <cp:keywords>幻灯片之家 http:/www.eeppt.com</cp:keywords>
  <dc:language>en-US</dc:language>
  <cp:lastModifiedBy/>
  <dcterms:modified xsi:type="dcterms:W3CDTF">2015-07-20T04:13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