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480-6296-473F-A1AF-6C8A3157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5EF-A784-40B8-9020-EFCCB9E3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36B-34D0-4AE7-96B1-39E3BDC0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20B-CDAE-433D-A749-28B3636F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B82-47CF-4CDA-B4C2-D2D8AAEC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9B8-B434-4CF8-923C-4102A015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4A8-2E6A-4E68-91F9-CD252C70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4A6-81BB-45A6-9F84-C299446E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01F-5D29-4891-88D0-0AC20BD4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9A9-73AA-4706-8A5F-40BD1237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B90-A0D8-4B23-BE4F-66EA71F1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CCA-E736-4CB3-AC82-D893CBB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14DF-90B1-4F0E-AF62-10C91C16D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2"/>
          <p:cNvPicPr/>
          <p:nvPr/>
        </p:nvPicPr>
        <p:blipFill>
          <a:blip r:embed="rId1"/>
          <a:srcRect l="0" t="5128" r="6254" b="0"/>
          <a:stretch/>
        </p:blipFill>
        <p:spPr>
          <a:xfrm>
            <a:off x="4643280" y="2637000"/>
            <a:ext cx="3240360" cy="218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64200" y="1701720"/>
            <a:ext cx="175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《小鹿的玫瑰花》课件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547640" y="1916280"/>
            <a:ext cx="56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惋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栽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31014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一只黄莺飞来了。她说：“小鹿，我见过你家那些红玫瑰，可好看了！看着那些花，我就想唱歌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1008000" y="2709720"/>
            <a:ext cx="73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阵微风吹来，说：“小鹿，我闻过你家的玫瑰花，可香了！我带着它的香味吹过森林，大伙儿都夸我是‘玫瑰香风’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e2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21"/>
          <p:cNvPicPr/>
          <p:nvPr/>
        </p:nvPicPr>
        <p:blipFill>
          <a:blip r:embed="rId1"/>
          <a:stretch/>
        </p:blipFill>
        <p:spPr>
          <a:xfrm>
            <a:off x="1979640" y="1197000"/>
            <a:ext cx="5148360" cy="457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e2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21"/>
          <p:cNvPicPr/>
          <p:nvPr/>
        </p:nvPicPr>
        <p:blipFill>
          <a:blip r:embed="rId1"/>
          <a:stretch/>
        </p:blipFill>
        <p:spPr>
          <a:xfrm>
            <a:off x="0" y="0"/>
            <a:ext cx="4356000" cy="387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11"/>
          <p:cNvPicPr/>
          <p:nvPr/>
        </p:nvPicPr>
        <p:blipFill>
          <a:blip r:embed="rId2"/>
          <a:stretch/>
        </p:blipFill>
        <p:spPr>
          <a:xfrm>
            <a:off x="4356000" y="2198520"/>
            <a:ext cx="4788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36480" y="2170800"/>
            <a:ext cx="868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蝴蝶姑娘飞来了，她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小蟋蟀跳过来，他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姑娘跑来，她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755640" y="340128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鹿高兴地笑了，说：“原来我栽的玫瑰是红色的，它们很美丽，还散发着香味。谢谢你们告诉了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955520" y="2637000"/>
            <a:ext cx="560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8433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168433"/>
                </a:solidFill>
                <a:latin typeface="Arial"/>
              </a:rPr>
              <a:t>鹿弟弟也高兴地笑了</a:t>
            </a:r>
            <a:r>
              <a:rPr b="1" lang="en-US" sz="4800" spc="-1" strike="noStrike">
                <a:solidFill>
                  <a:srgbClr val="168433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168433"/>
                </a:solidFill>
                <a:latin typeface="Arial"/>
              </a:rPr>
              <a:t>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68433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168433"/>
                </a:solidFill>
                <a:latin typeface="Arial"/>
              </a:rPr>
              <a:t>看来，你的玫瑰没有白栽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36ec49860d1a4246f068c2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24000" y="1916280"/>
            <a:ext cx="92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为别人创造幸福，自己从中也能得到快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钢琴 水边的啊狄丽娜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352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3"/>
          <p:cNvSpPr/>
          <p:nvPr/>
        </p:nvSpPr>
        <p:spPr>
          <a:xfrm>
            <a:off x="2230560" y="588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042920" y="1037520"/>
            <a:ext cx="7267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抽出  终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惋惜  一瘸一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aa41"/>
                </a:solidFill>
                <a:latin typeface="楷体_GB2312"/>
                <a:ea typeface="楷体_GB2312"/>
              </a:rPr>
              <a:t>浇水  躺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8722e"/>
                </a:solidFill>
                <a:latin typeface="楷体_GB2312"/>
                <a:ea typeface="楷体_GB2312"/>
              </a:rPr>
              <a:t>慢慢地      渐渐地      静静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16360" y="4724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722e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156360" y="474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722e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916360" y="54640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722e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32000" y="48038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抽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6372360" y="48038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长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419640" y="4365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132000" y="55245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躺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6093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1F8-D3E7-4AFD-B517-D58615BFC2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6588000" y="6308640"/>
            <a:ext cx="503280" cy="549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7956720" y="6308640"/>
            <a:ext cx="502920" cy="50328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547640" y="19162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惋惜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白栽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547640" y="19162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惋惜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白栽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547640" y="19162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惋惜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白栽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547640" y="1916280"/>
            <a:ext cx="56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惋惜地对哥哥说：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这玫瑰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栽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了，一朵花都没看着。</a:t>
            </a:r>
            <a:r>
              <a:rPr b="1" lang="zh-CN" sz="3200" spc="-1" strike="noStrike">
                <a:solidFill>
                  <a:srgbClr val="120702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47640" y="4005360"/>
            <a:ext cx="47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168433"/>
                </a:solidFill>
                <a:latin typeface="Arial"/>
                <a:ea typeface="楷体_GB2312"/>
              </a:rPr>
              <a:t>鹿弟弟也高兴地笑了，说：“看来，你的玫瑰没有白栽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9T06:13:51Z</dcterms:created>
  <dc:creator/>
  <dc:description/>
  <cp:keywords>幻灯片之家 http:/www.eeppt.com</cp:keywords>
  <dc:language>en-US</dc:language>
  <cp:lastModifiedBy/>
  <dcterms:modified xsi:type="dcterms:W3CDTF">2015-07-19T03:16:34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