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869-76D6-4C1A-A911-22089AFD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50B-8484-4A00-9F1A-441FD979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309-7F4F-4B79-B8AF-CD4B200C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A16-512B-421C-B065-B34A26F6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3B8-FCFC-4E81-971E-1EE9A8B2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128-135A-4E49-8BF0-7668FE55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C9C-6A05-4BFE-B57D-BE14C898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F58-2938-4937-896C-7CF2E5F9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7A1-2382-4151-84E0-ED52B30D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C69-D07F-42D2-9B23-D6B01B6E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A55-7A54-44F8-B481-60E14BA6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78A-5085-4E68-945F-0208B462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2D50-8A18-40D5-9A50-B515ABFE8C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7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教程\PPT\PPT素材\3D小人\小人\bd731a39400231e6d56225b2.jpg"/>
          <p:cNvPicPr/>
          <p:nvPr/>
        </p:nvPicPr>
        <p:blipFill>
          <a:blip r:embed="rId1"/>
          <a:srcRect l="0" t="0" r="9712" b="0"/>
          <a:stretch/>
        </p:blipFill>
        <p:spPr>
          <a:xfrm>
            <a:off x="0" y="2706840"/>
            <a:ext cx="6000840" cy="4151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85880" y="1758960"/>
            <a:ext cx="82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6028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B3E-9FD3-46D6-90C9-64BAC57EF2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www.tuweimei.comComp_9747366_J0aGCyieKfivW4HzESszVJnbQOfyQYha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" descr="www.tuweimei.comComp_10492831_2cuoWWp0e8T62nNqh46RQIRIW7JVurMm.jpg"/>
          <p:cNvPicPr/>
          <p:nvPr/>
        </p:nvPicPr>
        <p:blipFill>
          <a:blip r:embed="rId2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www.tuweimei.comComp_10569313_JWw2a8WzthkSiJVkr7gC1yIURaFzylg8.jpg"/>
          <p:cNvPicPr/>
          <p:nvPr/>
        </p:nvPicPr>
        <p:blipFill>
          <a:blip r:embed="rId3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" descr="发彩信.jpg"/>
          <p:cNvPicPr/>
          <p:nvPr/>
        </p:nvPicPr>
        <p:blipFill>
          <a:blip r:embed="rId4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www.tuweimei.comComp_11375492_CfcXxbJizXGSQyociIm6J5v0GLWJTCEW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www.tuweimei.comComp_11376171_0iKCqbowEsJXBrw4djSklVRf1JXxfovW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www_tuweimei_comComp_9719773_czcMOf62qz80sFx7M7EwsvL9KV8WoQaH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www_tuweimei_comComp_9720251_6TsYDn2uijrt9eqwfOFCYAqSFbO3KmTH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www_tuweimei_comComp_16474652_hAumqdN5ML1F1O72WlLapN3pxe59eTnC.jpg"/>
          <p:cNvPicPr/>
          <p:nvPr/>
        </p:nvPicPr>
        <p:blipFill>
          <a:blip r:embed="rId1"/>
          <a:stretch/>
        </p:blipFill>
        <p:spPr>
          <a:xfrm>
            <a:off x="1255680" y="457200"/>
            <a:ext cx="228780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" descr="www_tuweimei_comComp_19454919_oY0tOGVzrXWeTjW6vfJIsMo67QOmUpW9.jpg"/>
          <p:cNvPicPr/>
          <p:nvPr/>
        </p:nvPicPr>
        <p:blipFill>
          <a:blip r:embed="rId2"/>
          <a:stretch/>
        </p:blipFill>
        <p:spPr>
          <a:xfrm>
            <a:off x="5850000" y="457200"/>
            <a:ext cx="1785960" cy="28576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" descr="www_tuweimei_comComp_20496545_5qqFX40V4wWxQ1EbPwTQCLdyQ0T6rP9n.jpg"/>
          <p:cNvPicPr/>
          <p:nvPr/>
        </p:nvPicPr>
        <p:blipFill>
          <a:blip r:embed="rId3"/>
          <a:stretch/>
        </p:blipFill>
        <p:spPr>
          <a:xfrm>
            <a:off x="1328760" y="35434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www_tuweimei_comComp_21863434_uMgy7qUnBcnge8EMLtBdeG8502uFkY3V.jpg"/>
          <p:cNvPicPr/>
          <p:nvPr/>
        </p:nvPicPr>
        <p:blipFill>
          <a:blip r:embed="rId4"/>
          <a:stretch/>
        </p:blipFill>
        <p:spPr>
          <a:xfrm>
            <a:off x="5076720" y="3543480"/>
            <a:ext cx="333216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46836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www_tuweimei_comComp_21942790_KBtIGzXxIPKBlPf8GTdcWmJo0sAk70DH.jpg"/>
          <p:cNvPicPr/>
          <p:nvPr/>
        </p:nvPicPr>
        <p:blipFill>
          <a:blip r:embed="rId1"/>
          <a:stretch/>
        </p:blipFill>
        <p:spPr>
          <a:xfrm>
            <a:off x="343080" y="603360"/>
            <a:ext cx="4114800" cy="2563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" descr="www_tuweimei_comComp_22492316_ZbB8b0onpP5twFtGZWputQnq84Zva6d0.jpg"/>
          <p:cNvPicPr/>
          <p:nvPr/>
        </p:nvPicPr>
        <p:blipFill>
          <a:blip r:embed="rId2"/>
          <a:stretch/>
        </p:blipFill>
        <p:spPr>
          <a:xfrm>
            <a:off x="5599080" y="457200"/>
            <a:ext cx="228780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" descr="www_tuweimei_comComp_22751858_OxaiYkliNU9g8NdUWykJbkZlineIZP3n.jpg"/>
          <p:cNvPicPr/>
          <p:nvPr/>
        </p:nvPicPr>
        <p:blipFill>
          <a:blip r:embed="rId3"/>
          <a:stretch/>
        </p:blipFill>
        <p:spPr>
          <a:xfrm>
            <a:off x="1328760" y="35434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www_tuweimei_comComp_23598048_ix3hVn8EwltON3SVSWH2NCrcRZ9fu6kS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www_tuweimei_comComp_23670852_8prgmEdHZxFmGekSRO21Oa0qlqJ1BPNA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" descr="www_tuweimei_comComp_23681869_r9Bcx1zweqnhjG3S2w8SC2ZSgBSAsPDZ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" descr="www_tuweimei_comComp_23682805_EnhB6o36teWjPAWFcygeZAbYd2zwCPwH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4" descr="www_tuweimei_comComp_23682811_95K8UBGBaFiq02pQQr0tNCOwczJOu9Pu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打电话.jpg"/>
          <p:cNvPicPr/>
          <p:nvPr/>
        </p:nvPicPr>
        <p:blipFill>
          <a:blip r:embed="rId1"/>
          <a:stretch/>
        </p:blipFill>
        <p:spPr>
          <a:xfrm>
            <a:off x="1459080" y="457200"/>
            <a:ext cx="188100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" descr="打手机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" descr="等电话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" descr="电话2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60930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电话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" descr="红色话筒.jpg"/>
          <p:cNvPicPr/>
          <p:nvPr/>
        </p:nvPicPr>
        <p:blipFill>
          <a:blip r:embed="rId2"/>
          <a:stretch/>
        </p:blipFill>
        <p:spPr>
          <a:xfrm>
            <a:off x="766800" y="3543480"/>
            <a:ext cx="326556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" descr="话筒2.jpg"/>
          <p:cNvPicPr/>
          <p:nvPr/>
        </p:nvPicPr>
        <p:blipFill>
          <a:blip r:embed="rId3"/>
          <a:stretch/>
        </p:blipFill>
        <p:spPr>
          <a:xfrm>
            <a:off x="5672160" y="35434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5" descr="手机.jpg"/>
          <p:cNvPicPr/>
          <p:nvPr/>
        </p:nvPicPr>
        <p:blipFill>
          <a:blip r:embed="rId4"/>
          <a:stretch/>
        </p:blipFill>
        <p:spPr>
          <a:xfrm>
            <a:off x="5500800" y="500040"/>
            <a:ext cx="2286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话筒11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" descr="话筒.jpg"/>
          <p:cNvPicPr/>
          <p:nvPr/>
        </p:nvPicPr>
        <p:blipFill>
          <a:blip r:embed="rId2"/>
          <a:stretch/>
        </p:blipFill>
        <p:spPr>
          <a:xfrm>
            <a:off x="5110200" y="457200"/>
            <a:ext cx="326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08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39:4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