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014-F644-41C6-8F64-DE32366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A19-B3F4-461D-9E02-D3F0EDE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AD2-50E5-4E8E-B9DC-6687F962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605-0E6D-41F4-9979-5F2C01C1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3240-FE62-4188-BFFC-79091C4B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EDAF-1688-4D95-9CCC-0AF2F23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1D9-E410-4AB7-9DF6-7B7AED0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DEA-9F11-4AAE-856C-E5259A7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1738-E781-469C-B17F-FB88525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5D0-AAE6-4D5C-B6FE-141932D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CA3B-ECBA-45F4-8FD2-1D8D413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231-0BBE-4810-B3DB-BF50720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21A-322B-442D-A29A-E8EF804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808-DE86-42DC-8BE5-067A8C3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F2EE-6579-430A-ADDC-26C35F5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111C-5659-4C98-9821-45EA1BD3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3FE2-2262-43DE-8684-1CCCD589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318-0E55-49F2-9BE3-AC20E0D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D3D-90EA-4B1F-A147-5CC7C3C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631-4E13-4C82-89EB-9E3420C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B15-2E8C-4B42-96F2-2159B28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915-5EE0-4834-9C6E-A38285D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B3A-F29C-40C5-A7C8-D1F0A37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FE0-EE14-4842-850B-B6E0F33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0D6-BE71-4BA7-A597-96EC1910827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0520"/>
            <a:ext cx="16903800" cy="10794600"/>
            <a:chOff x="-7759800" y="146052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A21-BD4C-4734-87B9-95E588E2D4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0464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信息技术与经济发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74674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1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生产力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2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经济增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.3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信息技术与可持续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4955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108160"/>
            <a:ext cx="7467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  <a:ea typeface="楷体_GB2312"/>
              </a:rPr>
              <a:t>每年春季南极大气中的臭氧层一直在变薄，事实上在极地大气中存在一个臭氧“洞”</a:t>
            </a:r>
            <a:r>
              <a:rPr b="0" lang="zh-CN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060640"/>
            <a:ext cx="74674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环境破坏和污染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2200" spc="-1" strike="noStrike">
                <a:solidFill>
                  <a:srgbClr val="ffff00"/>
                </a:solidFill>
                <a:latin typeface="Tahoma"/>
                <a:ea typeface="楷体_GB2312"/>
              </a:rPr>
              <a:t>水污染</a:t>
            </a:r>
            <a:r>
              <a:rPr b="0" lang="zh-CN" sz="2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989000"/>
            <a:ext cx="746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2200" spc="-1" strike="noStrike">
                <a:solidFill>
                  <a:srgbClr val="ffff00"/>
                </a:solidFill>
                <a:latin typeface="Tahoma"/>
                <a:ea typeface="楷体_GB2312"/>
              </a:rPr>
              <a:t>固体废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708280"/>
            <a:ext cx="7467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上述问题已经让人类深刻体会到大自然对我们的惩罚，但是有一些鼠目寸光者为了眼前的利益，为了所谓政绩，置子孙后代的未来而不顾，继续污染环境，破坏自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523880"/>
            <a:ext cx="74674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可持续发展的含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保护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经济核心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位一体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全面发展的人本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523880"/>
            <a:ext cx="746748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中国可持续发展战略的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经济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社会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资源优化配置、合理利用与保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态保护和建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保护和污染防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80880"/>
            <a:ext cx="259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第七章 小   结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95280"/>
            <a:ext cx="82296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讨论题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在生产力系统中的作用是什么？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技术对经济增长的作用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可持续发展的含义是什么？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信息技术对可持续发展的作用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268280"/>
            <a:ext cx="74674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科学技术以前所未有的速度和规模迅猛发展，增强了人类改造自然的能力，给人类社会带来空前的繁荣，然而，长期掠夺式资源开发，必将受到大自然的惩罚。恩格斯说：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ahoma"/>
                <a:ea typeface="楷体_GB2312"/>
              </a:rPr>
              <a:t>“不要过分陶醉于我们对自然界的胜利。对于每一次这样的胜利，自然界都报复了我们。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133720"/>
            <a:ext cx="746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绿地沙漠化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133720"/>
            <a:ext cx="7467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在官厅水库南岸的怀来县境内，每年约有十几万吨黄沙随风飘来，形成沙丘，被当地人称作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漠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近十几年沙丘提高了八、九米，这堆沙丘距离北京市区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公里，并且每年向东南方向推进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133720"/>
            <a:ext cx="746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干旱的土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8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34936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环境破坏和污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2060640"/>
            <a:ext cx="746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温室效应及危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4305240" cy="3353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23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221000"/>
            <a:ext cx="7467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工业废气导致酸雨的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42100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8088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34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持续发展问题的提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类生态环境的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0880"/>
            <a:ext cx="8153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7.3 </a:t>
            </a:r>
            <a:r>
              <a:rPr b="1" lang="zh-CN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信息技术与可持续发展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 技术 经济 发展</cp:keywords>
  <dc:language>en-US</dc:language>
  <cp:lastModifiedBy/>
  <cp:revision>0</cp:revision>
  <dc:subject/>
  <dc:title/>
</cp:coreProperties>
</file>