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9B2-67B0-42E9-BF78-4EF0B068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681-94BE-4D07-AE0D-8420A234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670-72D2-495A-A6A9-6F0B8B9A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0D5-D70C-4625-A190-104E75D6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0B2C-7B61-43F0-A6AE-3A907DD7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2515-1353-4AEF-8F74-ED2EB293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9EFC-C459-46A8-A02E-424331CA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779C-45BD-4696-9B72-DF289AEF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777E-F56A-4B1A-BBB4-A416CBEC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7147-0F30-4B47-92E2-A0B6C6AF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F7DC-97A2-4C25-8BA7-CACD65A7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51A-246E-4C52-B1B3-33C8514C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ADF8-FED1-44FF-B4F3-E6F48C12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AE52-5B13-416B-A668-40F0FD52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31B3-111F-4FFF-8DB8-CDA1AB56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8F17-C215-4C65-9494-E0B46690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CB3E-4667-496B-B646-A348F49E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AD0-4552-4CD0-A7FF-765D1A5C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05E-EAE9-4099-8FC6-67BED9A7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290-CCA7-4AD8-9575-2BE383D1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E31-8C80-49C5-937D-2887CF51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041-6FB4-40B3-BE76-5781A10D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075-DE88-4D20-994F-C75BE65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B2F-209E-41CA-AD75-9063D90A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16D1-D5E4-4A4B-8367-AF2AD2DF86B7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F0CF-612E-4BD4-9431-038711F1692E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校园网资源管理系统介绍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XXX XXX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大学网络中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XX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IP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地址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北京大学校园网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IP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地址情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地址空间规模较大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多种地址类型划分并存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分配方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访问范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状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IP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地址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IP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地址管理功能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管理地址段的分配使用情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管理已分配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地址的基本信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记录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地址被封锁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解封锁情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地址分配、地址属性变更的历史记录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信息统计及报表生成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IP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地址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NRMS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采用三级层次管理结构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43000" y="2819520"/>
          <a:ext cx="6691320" cy="273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819520"/>
                    <a:ext cx="66913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设备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设备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北京大学校园网设备概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种类繁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地理分布广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数量巨大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产权关系复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设备结构复杂，存在父子关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设备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362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北京大学校园网络设备管理流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523880" y="1295280"/>
          <a:ext cx="7315200" cy="54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95280"/>
                    <a:ext cx="73152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设备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设备管理功能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管理设备基本信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管理设备经费信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管理设备状态信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管理设备父子关联信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设备更改历史记录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信息统计及报表生成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32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链路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链路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北京大学校园网链路特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规模较大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拓扑结构比较复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链路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链路管理的功能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管理光缆的基本技术参数、光缆的长度、起始点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双绞线基本技术参数，长度，起始点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配线架位置、类型、端口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光纤配线架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双绞线配线架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网络设备端口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房间内信息插座与配线架借口对应关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跳线（起点、终点、类型、接口类型等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光纤跳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双绞线跳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内容提纲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网络资源管理系统概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IP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地址管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设备管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链路管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网络管理员管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目前项目进展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展望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链路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链路管理的功能（续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管理建立设备连接关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维护一张网络静态拓扑结构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链路的变更记录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信息统计和报表生成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网络管理员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网络管理员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宋体"/>
              </a:rPr>
              <a:t>网络管理管理实现系统的安全机制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宋体"/>
              </a:rPr>
              <a:t>协调网络管理分工，“网络大家管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网络管理员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根据北京大学的网络管理情况，网络管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员可分为：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超级管理员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中心网络管理员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部门网络管理员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只读网络管理员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网络管理员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在此基础上，系统提供如下的一些权限选项供用户定制：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地址池读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写权限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指定的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子网读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写权限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设备子系统的只读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读写权限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链路子系统只读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读写权限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保密信息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{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如设备价格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}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的读权限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目前项目进展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目前项目状态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初步实现网络资源静态管理系统，并进入试运行阶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使用我校的统一身份认证服务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基于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B/S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模式实现，提供最大访问灵活性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Tahoma"/>
              </a:rPr>
              <a:t>谢谢！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网络资源管理系统概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网络资源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校园网中需要管理的资源繁多，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地址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网络设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服务器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P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光缆、光纤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跳线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网络接入点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理想的网络管理系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网络资源动态信息管理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SNMP</a:t>
            </a: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、</a:t>
            </a: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NETFLOW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商业软件丰富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网络资源静态信息管理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相对较少重视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与实施者的具体业务流程相关，较难统一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网络故障自动监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更高的目标</a:t>
            </a: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让系统自动判断网络故障的位置甚至做出简单的处理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需要网络资源静态管理提供参照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北京大学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NVIEW Projec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NETFLOW projec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NRMS projec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网络资源静态信息管理的现状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常用文档记录，管理繁琐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文档间难于互相引用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文档及时更新困难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文档交流不方便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R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根据上述问题和本校校园网运行的实际情况，我们提出建设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NRMS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（网络资源管理系统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意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探讨网络资源静态管理模式，解决现存问题，提高管理效率，节省管理人力，适应网络规模的日益扩大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为实现较为理想的网管系统打基础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NRMS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基本构成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基本构成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IP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地址管理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设备管理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链路管理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网络管理员管理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IP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地址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校园网 资源管理 介绍</cp:keywords>
  <dc:language>en-US</dc:language>
  <cp:lastModifiedBy/>
  <cp:revision>0</cp:revision>
  <dc:subject/>
  <dc:title/>
</cp:coreProperties>
</file>