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png" ContentType="image/pn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F55D4-7FD6-4ADA-8211-91369A552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240" y="31788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8E817-0727-4BC6-B97A-5B2EA7385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240" y="31788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6D439-1F88-4A4D-BB33-473544F37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240" y="31788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95734-803B-4C13-9AB1-71E2B8027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4F836-D0C6-4F2F-824B-923AE9EE4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31788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1E79F-476D-4D8C-AB41-46C2ACDD7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31788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592D9-39B4-4308-8C74-96E8B634E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240" y="31788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446CC-DB64-4BBE-B3CE-BE6E91938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240" y="31788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3B016-60F3-42CB-9C1E-37521A0D2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28240" y="317880"/>
            <a:ext cx="746748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7384D-CAB0-45DB-91C7-46F07A8AB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240" y="31788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5CE64-52C5-4C6D-B864-1131ECA8B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240" y="31788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08F6A-7B70-4BE5-87DC-518C76EFE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240" y="31788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674DD-BFE2-404D-91C8-D2C30A3DD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240" y="31788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E1759-0202-48F2-B209-1131982AA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240" y="31788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3252D-CDA2-486D-A28A-491236A91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240" y="31788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67F5A-49BD-445D-BEF0-417B248AB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240" y="31788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5EDBD-38B0-446A-8352-F4E780CCC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240" y="31788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CB32A-C70F-46F9-B711-2188C3908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240" y="31788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9162D-400C-47A2-BB96-59A1DAD32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240" y="31788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EE487-44F7-49E7-A13B-F84C5EA2D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240" y="317880"/>
            <a:ext cx="746748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6C8BC-9D70-4DF2-8C2D-A106018B4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240" y="31788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C531D-42D2-4D0C-A23B-74DAB445C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240" y="31788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46E1E-7F51-4FAE-A7C0-F57EA879B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31788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F69D5-AFB7-4EA5-BEFA-41DFE0B85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bamboo"/>
          <p:cNvPicPr/>
          <p:nvPr/>
        </p:nvPicPr>
        <p:blipFill>
          <a:blip r:embed="rId2"/>
          <a:srcRect l="0" t="0" r="45976" b="0"/>
          <a:stretch/>
        </p:blipFill>
        <p:spPr>
          <a:xfrm>
            <a:off x="7353360" y="0"/>
            <a:ext cx="179064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240" y="31788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5f5f5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5f5f5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f5f5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24852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09320" y="6248520"/>
            <a:ext cx="3505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24816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15F17-423A-49DF-A11D-64DB967347B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bamboo"/>
          <p:cNvPicPr/>
          <p:nvPr/>
        </p:nvPicPr>
        <p:blipFill>
          <a:blip r:embed="rId2"/>
          <a:srcRect l="0" t="0" r="13799" b="0"/>
          <a:stretch/>
        </p:blipFill>
        <p:spPr>
          <a:xfrm>
            <a:off x="6292800" y="-1440"/>
            <a:ext cx="2857680" cy="68688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28240" y="31788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5f5f5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5f5f5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f5f5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256680" y="6248520"/>
            <a:ext cx="162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108160" y="6248520"/>
            <a:ext cx="2997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5486400" y="624852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7B759-40AC-4BFC-90C7-E6EE6DAB95E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eeppt.com/moban/kejian/" TargetMode="Externa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52360" y="631044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Times New Roman"/>
              </a:rPr>
              <a:t>幻灯片之家 </a:t>
            </a:r>
            <a:r>
              <a:rPr b="1" lang="zh-CN" sz="1600" spc="-1" strike="noStrike">
                <a:solidFill>
                  <a:srgbClr val="ffffff"/>
                </a:solidFill>
                <a:latin typeface="Times New Roman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559240" y="3200400"/>
            <a:ext cx="215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《养花》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课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页脚占位符 4"/>
          <p:cNvSpPr/>
          <p:nvPr/>
        </p:nvSpPr>
        <p:spPr>
          <a:xfrm>
            <a:off x="2209680" y="6248520"/>
            <a:ext cx="350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3124080" y="609480"/>
            <a:ext cx="2743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9900"/>
                </a:solidFill>
                <a:latin typeface="Times New Roman"/>
                <a:ea typeface="隶书"/>
              </a:rPr>
              <a:t>生字新词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6"/>
          <p:cNvSpPr/>
          <p:nvPr/>
        </p:nvSpPr>
        <p:spPr>
          <a:xfrm>
            <a:off x="304920" y="1905120"/>
            <a:ext cx="74674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3300"/>
                </a:solidFill>
                <a:latin typeface="楷体_GB2312"/>
                <a:ea typeface="楷体_GB2312"/>
              </a:rPr>
              <a:t>置之不理  三年五载  秉烛夜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3300"/>
                </a:solidFill>
                <a:latin typeface="楷体_GB2312"/>
                <a:ea typeface="楷体_GB2312"/>
              </a:rPr>
              <a:t>循环   昙花   菊秧   砸死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7"/>
          <p:cNvSpPr/>
          <p:nvPr/>
        </p:nvSpPr>
        <p:spPr>
          <a:xfrm>
            <a:off x="3352680" y="3900600"/>
            <a:ext cx="2210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9900"/>
                </a:solidFill>
                <a:latin typeface="Times New Roman"/>
                <a:ea typeface="隶书"/>
              </a:rPr>
              <a:t>多音字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8"/>
          <p:cNvSpPr/>
          <p:nvPr/>
        </p:nvSpPr>
        <p:spPr>
          <a:xfrm>
            <a:off x="304920" y="5257800"/>
            <a:ext cx="7696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3300"/>
                </a:solidFill>
                <a:latin typeface="楷体_GB2312"/>
                <a:ea typeface="楷体_GB2312"/>
              </a:rPr>
              <a:t>尽管  无穷无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AutoShape 9"/>
          <p:cNvSpPr/>
          <p:nvPr/>
        </p:nvSpPr>
        <p:spPr>
          <a:xfrm>
            <a:off x="228600" y="6400800"/>
            <a:ext cx="304920" cy="304920"/>
          </a:xfrm>
          <a:custGeom>
            <a:avLst/>
            <a:gdLst>
              <a:gd name="textAreaLeft" fmla="*/ 19080 w 304920"/>
              <a:gd name="textAreaRight" fmla="*/ 286200 w 304920"/>
              <a:gd name="textAreaTop" fmla="*/ 19080 h 304920"/>
              <a:gd name="textAreaBottom" fmla="*/ 28620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50" y="1350"/>
                </a:lnTo>
                <a:lnTo>
                  <a:pt x="1350" y="135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50" y="20250"/>
                </a:lnTo>
                <a:lnTo>
                  <a:pt x="20250" y="135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0250" y="2025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1600" h="21600">
                <a:moveTo>
                  <a:pt x="3756" y="7475"/>
                </a:moveTo>
                <a:lnTo>
                  <a:pt x="7283" y="7475"/>
                </a:lnTo>
                <a:lnTo>
                  <a:pt x="7283" y="12839"/>
                </a:lnTo>
                <a:cubicBezTo>
                  <a:pt x="7283" y="13766"/>
                  <a:pt x="8088" y="14501"/>
                  <a:pt x="9129" y="14501"/>
                </a:cubicBezTo>
                <a:lnTo>
                  <a:pt x="10800" y="14501"/>
                </a:lnTo>
                <a:cubicBezTo>
                  <a:pt x="11841" y="14501"/>
                  <a:pt x="12646" y="13766"/>
                  <a:pt x="12646" y="12839"/>
                </a:cubicBezTo>
                <a:lnTo>
                  <a:pt x="12646" y="7475"/>
                </a:lnTo>
                <a:lnTo>
                  <a:pt x="10800" y="7475"/>
                </a:lnTo>
                <a:lnTo>
                  <a:pt x="14326" y="3949"/>
                </a:lnTo>
                <a:lnTo>
                  <a:pt x="18019" y="7475"/>
                </a:lnTo>
                <a:lnTo>
                  <a:pt x="16173" y="7475"/>
                </a:lnTo>
                <a:lnTo>
                  <a:pt x="16173" y="12839"/>
                </a:lnTo>
                <a:cubicBezTo>
                  <a:pt x="16173" y="15621"/>
                  <a:pt x="13583" y="18194"/>
                  <a:pt x="10800" y="18194"/>
                </a:cubicBezTo>
                <a:lnTo>
                  <a:pt x="9129" y="18194"/>
                </a:lnTo>
                <a:cubicBezTo>
                  <a:pt x="6346" y="18194"/>
                  <a:pt x="3756" y="15621"/>
                  <a:pt x="3756" y="12839"/>
                </a:cubicBezTo>
                <a:close/>
              </a:path>
            </a:pathLst>
          </a:cu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页脚占位符 4"/>
          <p:cNvSpPr/>
          <p:nvPr/>
        </p:nvSpPr>
        <p:spPr>
          <a:xfrm>
            <a:off x="2209680" y="6248520"/>
            <a:ext cx="350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4"/>
          <p:cNvSpPr/>
          <p:nvPr/>
        </p:nvSpPr>
        <p:spPr>
          <a:xfrm>
            <a:off x="228600" y="6400800"/>
            <a:ext cx="304920" cy="304920"/>
          </a:xfrm>
          <a:custGeom>
            <a:avLst/>
            <a:gdLst>
              <a:gd name="textAreaLeft" fmla="*/ 19080 w 304920"/>
              <a:gd name="textAreaRight" fmla="*/ 286200 w 304920"/>
              <a:gd name="textAreaTop" fmla="*/ 19080 h 304920"/>
              <a:gd name="textAreaBottom" fmla="*/ 28620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50" y="1350"/>
                </a:lnTo>
                <a:lnTo>
                  <a:pt x="1350" y="135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50" y="20250"/>
                </a:lnTo>
                <a:lnTo>
                  <a:pt x="20250" y="135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0250" y="2025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1600" h="21600">
                <a:moveTo>
                  <a:pt x="3756" y="7475"/>
                </a:moveTo>
                <a:lnTo>
                  <a:pt x="7283" y="7475"/>
                </a:lnTo>
                <a:lnTo>
                  <a:pt x="7283" y="12839"/>
                </a:lnTo>
                <a:cubicBezTo>
                  <a:pt x="7283" y="13766"/>
                  <a:pt x="8088" y="14501"/>
                  <a:pt x="9129" y="14501"/>
                </a:cubicBezTo>
                <a:lnTo>
                  <a:pt x="10800" y="14501"/>
                </a:lnTo>
                <a:cubicBezTo>
                  <a:pt x="11841" y="14501"/>
                  <a:pt x="12646" y="13766"/>
                  <a:pt x="12646" y="12839"/>
                </a:cubicBezTo>
                <a:lnTo>
                  <a:pt x="12646" y="7475"/>
                </a:lnTo>
                <a:lnTo>
                  <a:pt x="10800" y="7475"/>
                </a:lnTo>
                <a:lnTo>
                  <a:pt x="14326" y="3949"/>
                </a:lnTo>
                <a:lnTo>
                  <a:pt x="18019" y="7475"/>
                </a:lnTo>
                <a:lnTo>
                  <a:pt x="16173" y="7475"/>
                </a:lnTo>
                <a:lnTo>
                  <a:pt x="16173" y="12839"/>
                </a:lnTo>
                <a:cubicBezTo>
                  <a:pt x="16173" y="15621"/>
                  <a:pt x="13583" y="18194"/>
                  <a:pt x="10800" y="18194"/>
                </a:cubicBezTo>
                <a:lnTo>
                  <a:pt x="9129" y="18194"/>
                </a:lnTo>
                <a:cubicBezTo>
                  <a:pt x="6346" y="18194"/>
                  <a:pt x="3756" y="15621"/>
                  <a:pt x="3756" y="12839"/>
                </a:cubicBezTo>
                <a:close/>
              </a:path>
            </a:pathLst>
          </a:cu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WordArt 5"/>
          <p:cNvSpPr txBox="1"/>
          <p:nvPr/>
        </p:nvSpPr>
        <p:spPr>
          <a:xfrm>
            <a:off x="1905120" y="2133720"/>
            <a:ext cx="2071440" cy="107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3300"/>
                </a:solidFill>
                <a:latin typeface="隶书"/>
              </a:rPr>
              <a:t>趵突泉</a:t>
            </a:r>
            <a:endParaRPr b="1" lang="en-US" sz="2400" spc="-1" strike="noStrike">
              <a:ln w="9360">
                <a:solidFill>
                  <a:srgbClr val="000000"/>
                </a:solidFill>
                <a:miter/>
              </a:ln>
              <a:solidFill>
                <a:srgbClr val="663300"/>
              </a:solidFill>
              <a:latin typeface="隶书"/>
              <a:ea typeface="隶书"/>
            </a:endParaRPr>
          </a:p>
        </p:txBody>
      </p:sp>
      <p:sp>
        <p:nvSpPr>
          <p:cNvPr id="121" name="WordArt 6"/>
          <p:cNvSpPr txBox="1"/>
          <p:nvPr/>
        </p:nvSpPr>
        <p:spPr>
          <a:xfrm>
            <a:off x="1905120" y="3346560"/>
            <a:ext cx="2071440" cy="107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隶书"/>
              </a:rPr>
              <a:t>草原</a:t>
            </a:r>
            <a:endParaRPr b="1" lang="en-US" sz="2400" spc="-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隶书"/>
              <a:ea typeface="隶书"/>
            </a:endParaRPr>
          </a:p>
        </p:txBody>
      </p:sp>
      <p:sp>
        <p:nvSpPr>
          <p:cNvPr id="122" name="WordArt 7"/>
          <p:cNvSpPr txBox="1"/>
          <p:nvPr/>
        </p:nvSpPr>
        <p:spPr>
          <a:xfrm>
            <a:off x="1905120" y="4565520"/>
            <a:ext cx="2071440" cy="107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隶书"/>
              </a:rPr>
              <a:t>猫</a:t>
            </a:r>
            <a:endParaRPr b="1" lang="en-US" sz="2400" spc="-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隶书"/>
              <a:ea typeface="隶书"/>
            </a:endParaRPr>
          </a:p>
        </p:txBody>
      </p:sp>
      <p:sp>
        <p:nvSpPr>
          <p:cNvPr id="123" name="Text Box 8"/>
          <p:cNvSpPr/>
          <p:nvPr/>
        </p:nvSpPr>
        <p:spPr>
          <a:xfrm>
            <a:off x="457200" y="517680"/>
            <a:ext cx="7696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Times New Roman"/>
                <a:ea typeface="隶书"/>
              </a:rPr>
              <a:t>          </a:t>
            </a:r>
            <a:r>
              <a:rPr b="1" lang="zh-CN" sz="4000" spc="-1" strike="noStrike">
                <a:solidFill>
                  <a:srgbClr val="009900"/>
                </a:solidFill>
                <a:latin typeface="Times New Roman"/>
                <a:ea typeface="隶书"/>
              </a:rPr>
              <a:t>听一听老舍先生的其它作品，谈谈你的感受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《趵突泉》朗读.wav" descr=""/>
          <p:cNvPicPr/>
          <p:nvPr/>
        </p:nvPicPr>
        <p:blipFill>
          <a:blip r:embed="rId1"/>
          <a:stretch/>
        </p:blipFill>
        <p:spPr>
          <a:xfrm>
            <a:off x="4800600" y="236232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125" name="《草原》朗读.mp3" descr=""/>
          <p:cNvPicPr/>
          <p:nvPr/>
        </p:nvPicPr>
        <p:blipFill>
          <a:blip r:embed="rId2"/>
          <a:stretch/>
        </p:blipFill>
        <p:spPr>
          <a:xfrm>
            <a:off x="4800600" y="358128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126" name="《猫》朗读.mp3" descr=""/>
          <p:cNvPicPr/>
          <p:nvPr/>
        </p:nvPicPr>
        <p:blipFill>
          <a:blip r:embed="rId3"/>
          <a:stretch/>
        </p:blipFill>
        <p:spPr>
          <a:xfrm>
            <a:off x="4800600" y="487692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restart="whenNotActive" nodeType="interactiveSeq" fill="hold">
                <p:stCondLst>
                  <p:cond evt="onClick">
                    <p:tgtEl>
                      <p:spTgt spid="124"/>
                    </p:tgtEl>
                  </p:cond>
                </p:stCondLst>
                <p:childTnLst>
                  <p:par>
                    <p:cTn id="17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" dur="1" fill="hold"/>
                                        <p:tgtEl>
                                          <p:spTgt spid="1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" restart="whenNotActive" nodeType="interactiveSeq" fill="hold">
                <p:stCondLst>
                  <p:cond evt="onClick">
                    <p:tgtEl>
                      <p:spTgt spid="125"/>
                    </p:tgtEl>
                  </p:cond>
                </p:stCondLst>
                <p:childTnLst>
                  <p:par>
                    <p:cTn id="22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" dur="1" fill="hold"/>
                                        <p:tgtEl>
                                          <p:spTgt spid="1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" restart="whenNotActive" nodeType="interactiveSeq" fill="hold">
                <p:stCondLst>
                  <p:cond evt="onClick">
                    <p:tgtEl>
                      <p:spTgt spid="126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126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1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-72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00"/>
                </a:solidFill>
                <a:latin typeface="Arial Black"/>
              </a:rPr>
              <a:t>使用规范说明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n-US" sz="15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ff3300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ff3300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n-US" sz="15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EA358-7BE4-4AA1-8AB7-141979DADBF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页脚占位符 4"/>
          <p:cNvSpPr/>
          <p:nvPr/>
        </p:nvSpPr>
        <p:spPr>
          <a:xfrm>
            <a:off x="2209680" y="6248520"/>
            <a:ext cx="350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152280" y="2209680"/>
            <a:ext cx="777240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99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cc9900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cc9900"/>
                </a:solidFill>
                <a:latin typeface="楷体_GB2312"/>
                <a:ea typeface="楷体_GB2312"/>
              </a:rPr>
              <a:t>、把自己最喜欢的部分读给大家听。谈谈已经读懂了什么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99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cc9900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cc9900"/>
                </a:solidFill>
                <a:latin typeface="楷体_GB2312"/>
                <a:ea typeface="楷体_GB2312"/>
              </a:rPr>
              <a:t>、</a:t>
            </a:r>
            <a:r>
              <a:rPr b="1" lang="zh-CN" sz="3200" spc="-1" strike="noStrike">
                <a:solidFill>
                  <a:srgbClr val="cc9900"/>
                </a:solidFill>
                <a:latin typeface="Times New Roman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cc9900"/>
                </a:solidFill>
                <a:latin typeface="楷体_GB2312"/>
                <a:ea typeface="楷体_GB2312"/>
              </a:rPr>
              <a:t>花草自己会奋斗</a:t>
            </a:r>
            <a:r>
              <a:rPr b="1" lang="zh-CN" sz="3200" spc="-1" strike="noStrike">
                <a:solidFill>
                  <a:srgbClr val="cc9900"/>
                </a:solidFill>
                <a:latin typeface="Times New Roman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cc9900"/>
                </a:solidFill>
                <a:latin typeface="楷体_GB2312"/>
                <a:ea typeface="楷体_GB2312"/>
              </a:rPr>
              <a:t>是什么意思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99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cc9900"/>
                </a:solidFill>
                <a:latin typeface="楷体_GB2312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cc9900"/>
                </a:solidFill>
                <a:latin typeface="楷体_GB2312"/>
                <a:ea typeface="楷体_GB2312"/>
              </a:rPr>
              <a:t>、养花其实很辛苦，而老舍先生为什么把养花当作生活中的一种乐趣？养花到底有哪些乐趣？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5"/>
          <p:cNvSpPr/>
          <p:nvPr/>
        </p:nvSpPr>
        <p:spPr>
          <a:xfrm>
            <a:off x="2971800" y="852480"/>
            <a:ext cx="2720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9900"/>
                </a:solidFill>
                <a:latin typeface="宋体"/>
                <a:ea typeface="华文行楷"/>
              </a:rPr>
              <a:t>初读汇报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12720" y="5805360"/>
            <a:ext cx="8567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3300"/>
                </a:solidFill>
                <a:uFillTx/>
                <a:latin typeface="Times New Roman"/>
                <a:hlinkClick r:id="rId1"/>
              </a:rPr>
              <a:t>ppt课件模板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eeppt.com/moban/kejian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页脚占位符 4"/>
          <p:cNvSpPr/>
          <p:nvPr/>
        </p:nvSpPr>
        <p:spPr>
          <a:xfrm>
            <a:off x="2209680" y="6248520"/>
            <a:ext cx="350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AutoShape 4"/>
          <p:cNvSpPr/>
          <p:nvPr/>
        </p:nvSpPr>
        <p:spPr>
          <a:xfrm>
            <a:off x="228600" y="6400800"/>
            <a:ext cx="304920" cy="304920"/>
          </a:xfrm>
          <a:custGeom>
            <a:avLst/>
            <a:gdLst>
              <a:gd name="textAreaLeft" fmla="*/ 19080 w 304920"/>
              <a:gd name="textAreaRight" fmla="*/ 286200 w 304920"/>
              <a:gd name="textAreaTop" fmla="*/ 19080 h 304920"/>
              <a:gd name="textAreaBottom" fmla="*/ 28620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50" y="1350"/>
                </a:lnTo>
                <a:lnTo>
                  <a:pt x="1350" y="135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50" y="20250"/>
                </a:lnTo>
                <a:lnTo>
                  <a:pt x="20250" y="135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0250" y="2025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1600" h="21600">
                <a:moveTo>
                  <a:pt x="3756" y="7475"/>
                </a:moveTo>
                <a:lnTo>
                  <a:pt x="7283" y="7475"/>
                </a:lnTo>
                <a:lnTo>
                  <a:pt x="7283" y="12839"/>
                </a:lnTo>
                <a:cubicBezTo>
                  <a:pt x="7283" y="13766"/>
                  <a:pt x="8088" y="14501"/>
                  <a:pt x="9129" y="14501"/>
                </a:cubicBezTo>
                <a:lnTo>
                  <a:pt x="10800" y="14501"/>
                </a:lnTo>
                <a:cubicBezTo>
                  <a:pt x="11841" y="14501"/>
                  <a:pt x="12646" y="13766"/>
                  <a:pt x="12646" y="12839"/>
                </a:cubicBezTo>
                <a:lnTo>
                  <a:pt x="12646" y="7475"/>
                </a:lnTo>
                <a:lnTo>
                  <a:pt x="10800" y="7475"/>
                </a:lnTo>
                <a:lnTo>
                  <a:pt x="14326" y="3949"/>
                </a:lnTo>
                <a:lnTo>
                  <a:pt x="18019" y="7475"/>
                </a:lnTo>
                <a:lnTo>
                  <a:pt x="16173" y="7475"/>
                </a:lnTo>
                <a:lnTo>
                  <a:pt x="16173" y="12839"/>
                </a:lnTo>
                <a:cubicBezTo>
                  <a:pt x="16173" y="15621"/>
                  <a:pt x="13583" y="18194"/>
                  <a:pt x="10800" y="18194"/>
                </a:cubicBezTo>
                <a:lnTo>
                  <a:pt x="9129" y="18194"/>
                </a:lnTo>
                <a:cubicBezTo>
                  <a:pt x="6346" y="18194"/>
                  <a:pt x="3756" y="15621"/>
                  <a:pt x="3756" y="12839"/>
                </a:cubicBezTo>
                <a:close/>
              </a:path>
            </a:pathLst>
          </a:cu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5"/>
          <p:cNvSpPr/>
          <p:nvPr/>
        </p:nvSpPr>
        <p:spPr>
          <a:xfrm>
            <a:off x="152280" y="1905120"/>
            <a:ext cx="7467840" cy="30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99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cc9900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cc9900"/>
                </a:solidFill>
                <a:latin typeface="楷体_GB2312"/>
                <a:ea typeface="楷体_GB2312"/>
              </a:rPr>
              <a:t>、作者为什么说得感谢它们（花草）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99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cc9900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cc9900"/>
                </a:solidFill>
                <a:latin typeface="楷体_GB2312"/>
                <a:ea typeface="楷体_GB2312"/>
              </a:rPr>
              <a:t>、作者两次使用</a:t>
            </a:r>
            <a:r>
              <a:rPr b="1" lang="zh-CN" sz="3200" spc="-1" strike="noStrike">
                <a:solidFill>
                  <a:srgbClr val="cc9900"/>
                </a:solidFill>
                <a:latin typeface="Times New Roman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cc9900"/>
                </a:solidFill>
                <a:latin typeface="楷体_GB2312"/>
                <a:ea typeface="楷体_GB2312"/>
              </a:rPr>
              <a:t>腰酸腿疼</a:t>
            </a:r>
            <a:r>
              <a:rPr b="1" lang="zh-CN" sz="3200" spc="-1" strike="noStrike">
                <a:solidFill>
                  <a:srgbClr val="cc9900"/>
                </a:solidFill>
                <a:latin typeface="Times New Roman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cc9900"/>
                </a:solidFill>
                <a:latin typeface="楷体_GB2312"/>
                <a:ea typeface="楷体_GB2312"/>
              </a:rPr>
              <a:t>、</a:t>
            </a:r>
            <a:r>
              <a:rPr b="1" lang="zh-CN" sz="3200" spc="-1" strike="noStrike">
                <a:solidFill>
                  <a:srgbClr val="cc9900"/>
                </a:solidFill>
                <a:latin typeface="Times New Roman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cc9900"/>
                </a:solidFill>
                <a:latin typeface="楷体_GB2312"/>
                <a:ea typeface="楷体_GB2312"/>
              </a:rPr>
              <a:t>热汗直流</a:t>
            </a:r>
            <a:r>
              <a:rPr b="1" lang="zh-CN" sz="3200" spc="-1" strike="noStrike">
                <a:solidFill>
                  <a:srgbClr val="cc9900"/>
                </a:solidFill>
                <a:latin typeface="Times New Roman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cc9900"/>
                </a:solidFill>
                <a:latin typeface="楷体_GB2312"/>
                <a:ea typeface="楷体_GB2312"/>
              </a:rPr>
              <a:t>，你认为作者是在抱怨养花劳累吗？为什么？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99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cc9900"/>
                </a:solidFill>
                <a:latin typeface="楷体_GB2312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cc9900"/>
                </a:solidFill>
                <a:latin typeface="楷体_GB2312"/>
                <a:ea typeface="楷体_GB2312"/>
              </a:rPr>
              <a:t>、</a:t>
            </a:r>
            <a:r>
              <a:rPr b="1" lang="zh-CN" sz="3200" spc="-1" strike="noStrike">
                <a:solidFill>
                  <a:srgbClr val="cc9900"/>
                </a:solidFill>
                <a:latin typeface="Times New Roman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cc9900"/>
                </a:solidFill>
                <a:latin typeface="楷体_GB2312"/>
                <a:ea typeface="楷体_GB2312"/>
              </a:rPr>
              <a:t>不劳动，连棵花也养不活，这难道不是真理吗？ </a:t>
            </a:r>
            <a:r>
              <a:rPr b="1" lang="zh-CN" sz="3200" spc="-1" strike="noStrike">
                <a:solidFill>
                  <a:srgbClr val="cc9900"/>
                </a:solidFill>
                <a:latin typeface="Times New Roman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cc9900"/>
                </a:solidFill>
                <a:latin typeface="楷体_GB2312"/>
                <a:ea typeface="楷体_GB2312"/>
              </a:rPr>
              <a:t>说明什么道理？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6"/>
          <p:cNvSpPr/>
          <p:nvPr/>
        </p:nvSpPr>
        <p:spPr>
          <a:xfrm>
            <a:off x="2971800" y="685800"/>
            <a:ext cx="2720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9900"/>
                </a:solidFill>
                <a:latin typeface="宋体"/>
                <a:ea typeface="华文行楷"/>
              </a:rPr>
              <a:t>深入探究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100160" y="6126120"/>
            <a:ext cx="6765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ff3300"/>
                </a:solidFill>
                <a:uFillTx/>
                <a:latin typeface="Verdana"/>
                <a:hlinkClick r:id="rId1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1033"/>
          <p:cNvSpPr/>
          <p:nvPr/>
        </p:nvSpPr>
        <p:spPr>
          <a:xfrm>
            <a:off x="609480" y="304920"/>
            <a:ext cx="7239240" cy="29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学会本课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个生字，能正确读写下列词语：工夫、置之不理、三年五载、循环、自生自灭、一来二去、门道、昙花、秉烛夜游、见识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有感情地朗读课文。背诵自己喜欢的部分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理解课文内容，体会作者从养花中得到的乐趣，培养热爱生活、健康向上的思想感情。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学习作者叙事具体、清楚的表达方法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4" descr="C:\Documents and Settings\kz\My Documents\课件知识树2.bmp"/>
          <p:cNvPicPr/>
          <p:nvPr/>
        </p:nvPicPr>
        <p:blipFill>
          <a:blip r:embed="rId1"/>
          <a:stretch/>
        </p:blipFill>
        <p:spPr>
          <a:xfrm>
            <a:off x="0" y="0"/>
            <a:ext cx="8839080" cy="6932520"/>
          </a:xfrm>
          <a:prstGeom prst="rect">
            <a:avLst/>
          </a:prstGeom>
          <a:ln w="0">
            <a:noFill/>
          </a:ln>
        </p:spPr>
      </p:pic>
      <p:sp>
        <p:nvSpPr>
          <p:cNvPr id="88" name="AutoShape 12">
            <a:hlinkClick r:id="" action="ppaction://hlinkshowjump?jump=endshow"/>
          </p:cNvPr>
          <p:cNvSpPr/>
          <p:nvPr/>
        </p:nvSpPr>
        <p:spPr>
          <a:xfrm>
            <a:off x="228600" y="6248520"/>
            <a:ext cx="457200" cy="380880"/>
          </a:xfrm>
          <a:custGeom>
            <a:avLst/>
            <a:gdLst>
              <a:gd name="textAreaLeft" fmla="*/ 23760 w 457200"/>
              <a:gd name="textAreaRight" fmla="*/ 433440 w 457200"/>
              <a:gd name="textAreaTop" fmla="*/ 23760 h 380880"/>
              <a:gd name="textAreaBottom" fmla="*/ 35712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74" y="1350"/>
                </a:lnTo>
                <a:lnTo>
                  <a:pt x="1350" y="135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74" y="20250"/>
                </a:lnTo>
                <a:lnTo>
                  <a:pt x="24574" y="135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4574" y="2025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5924" h="21600">
                <a:moveTo>
                  <a:pt x="16480" y="10800"/>
                </a:moveTo>
                <a:lnTo>
                  <a:pt x="5918" y="17844"/>
                </a:lnTo>
                <a:lnTo>
                  <a:pt x="5918" y="3756"/>
                </a:lnTo>
                <a:close/>
              </a:path>
              <a:path fill="darken" w="25924" h="21600">
                <a:moveTo>
                  <a:pt x="18335" y="3756"/>
                </a:moveTo>
                <a:lnTo>
                  <a:pt x="18335" y="17844"/>
                </a:lnTo>
                <a:lnTo>
                  <a:pt x="20006" y="17844"/>
                </a:lnTo>
                <a:lnTo>
                  <a:pt x="20006" y="3756"/>
                </a:lnTo>
                <a:close/>
              </a:path>
            </a:pathLst>
          </a:cu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13"/>
          <p:cNvSpPr/>
          <p:nvPr/>
        </p:nvSpPr>
        <p:spPr>
          <a:xfrm>
            <a:off x="6172200" y="449568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Group 17"/>
          <p:cNvGrpSpPr/>
          <p:nvPr/>
        </p:nvGrpSpPr>
        <p:grpSpPr>
          <a:xfrm>
            <a:off x="304920" y="1014480"/>
            <a:ext cx="8381880" cy="5689440"/>
            <a:chOff x="304920" y="1014480"/>
            <a:chExt cx="8381880" cy="5689440"/>
          </a:xfrm>
        </p:grpSpPr>
        <p:sp>
          <p:nvSpPr>
            <p:cNvPr id="91" name="WordArt 5"/>
            <p:cNvSpPr txBox="1"/>
            <p:nvPr/>
          </p:nvSpPr>
          <p:spPr>
            <a:xfrm>
              <a:off x="4419720" y="5942160"/>
              <a:ext cx="4191120" cy="761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dcebf5"/>
                      </a:gs>
                      <a:gs pos="100000">
                        <a:srgbClr val="55261c"/>
                      </a:gs>
                    </a:gsLst>
                    <a:lin ang="5400000"/>
                  </a:gradFill>
                  <a:latin typeface="方正舒体"/>
                </a:rPr>
                <a:t>作者简介</a:t>
              </a:r>
              <a:endParaRPr b="1" lang="en-US" sz="24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方正舒体"/>
                <a:ea typeface="方正舒体"/>
              </a:endParaRPr>
            </a:p>
          </p:txBody>
        </p:sp>
        <p:sp>
          <p:nvSpPr>
            <p:cNvPr id="92" name="WordArt 6"/>
            <p:cNvSpPr txBox="1"/>
            <p:nvPr/>
          </p:nvSpPr>
          <p:spPr>
            <a:xfrm>
              <a:off x="304920" y="4265640"/>
              <a:ext cx="4191120" cy="762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dcebf5"/>
                      </a:gs>
                      <a:gs pos="100000">
                        <a:srgbClr val="55261c"/>
                      </a:gs>
                    </a:gsLst>
                    <a:lin ang="5400000"/>
                  </a:gradFill>
                  <a:latin typeface="方正舒体"/>
                </a:rPr>
                <a:t>学习词语</a:t>
              </a:r>
              <a:endParaRPr b="1" lang="en-US" sz="24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方正舒体"/>
                <a:ea typeface="方正舒体"/>
              </a:endParaRPr>
            </a:p>
          </p:txBody>
        </p:sp>
        <p:sp>
          <p:nvSpPr>
            <p:cNvPr id="93" name="WordArt 7"/>
            <p:cNvSpPr txBox="1"/>
            <p:nvPr/>
          </p:nvSpPr>
          <p:spPr>
            <a:xfrm>
              <a:off x="2286000" y="2362320"/>
              <a:ext cx="2514600" cy="914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dcebf5"/>
                      </a:gs>
                      <a:gs pos="100000">
                        <a:srgbClr val="55261c"/>
                      </a:gs>
                    </a:gsLst>
                    <a:lin ang="5400000"/>
                  </a:gradFill>
                  <a:latin typeface="方正舒体"/>
                </a:rPr>
                <a:t>朗读</a:t>
              </a:r>
              <a:endParaRPr b="1" lang="en-US" sz="24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方正舒体"/>
                <a:ea typeface="方正舒体"/>
              </a:endParaRPr>
            </a:p>
          </p:txBody>
        </p:sp>
        <p:sp>
          <p:nvSpPr>
            <p:cNvPr id="94" name="WordArt 9"/>
            <p:cNvSpPr txBox="1"/>
            <p:nvPr/>
          </p:nvSpPr>
          <p:spPr>
            <a:xfrm>
              <a:off x="4496040" y="5103720"/>
              <a:ext cx="4190760" cy="762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dcebf5"/>
                      </a:gs>
                      <a:gs pos="100000">
                        <a:srgbClr val="55261c"/>
                      </a:gs>
                    </a:gsLst>
                    <a:lin ang="5400000"/>
                  </a:gradFill>
                  <a:latin typeface="方正舒体"/>
                </a:rPr>
                <a:t>扩展学习</a:t>
              </a:r>
              <a:endParaRPr b="1" lang="en-US" sz="24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方正舒体"/>
                <a:ea typeface="方正舒体"/>
              </a:endParaRPr>
            </a:p>
          </p:txBody>
        </p:sp>
        <p:sp>
          <p:nvSpPr>
            <p:cNvPr id="95" name="Rectangle 15"/>
            <p:cNvSpPr/>
            <p:nvPr/>
          </p:nvSpPr>
          <p:spPr>
            <a:xfrm>
              <a:off x="6227640" y="1014480"/>
              <a:ext cx="389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叙事具体、清楚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页脚占位符 4"/>
          <p:cNvSpPr/>
          <p:nvPr/>
        </p:nvSpPr>
        <p:spPr>
          <a:xfrm>
            <a:off x="2209680" y="6248520"/>
            <a:ext cx="350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304920" y="914400"/>
            <a:ext cx="746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cc9900"/>
                </a:solidFill>
                <a:latin typeface="Times New Roman"/>
                <a:ea typeface="楷体_GB2312"/>
              </a:rPr>
              <a:t>本文作者。现代小说家、戏剧家。原名舒庆春，字舍予，北京人，出身于贫民家庭。我国现代文学史上具有独特风格的杰出作家、语言艺术大师。曾任政务院文教委员会委员、历届全国人民代表大会代表、中国文联副主席、中国作家协会副主席、北京市文联主席等职。著作丰富。解放前创作的《骆驼祥子》等，对旧社会进行了揭露和批判。新中国成立后，先后创作了话剧《龙须沟》、《春华秋实》、《茶馆》，小说《无名高地有了名》和其他各种形式的文艺作品，歌颂新社会，语言生动、幽默，被誉为“人民艺术家”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矩形 7"/>
          <p:cNvSpPr/>
          <p:nvPr/>
        </p:nvSpPr>
        <p:spPr>
          <a:xfrm>
            <a:off x="3252960" y="1504800"/>
            <a:ext cx="10792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页脚占位符 4"/>
          <p:cNvSpPr/>
          <p:nvPr/>
        </p:nvSpPr>
        <p:spPr>
          <a:xfrm>
            <a:off x="2209680" y="6248520"/>
            <a:ext cx="350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4" descr="D:\资源库\下学期\五年级\第四单元\13.养花\媒体素材\老舍照片.jpg"/>
          <p:cNvPicPr/>
          <p:nvPr/>
        </p:nvPicPr>
        <p:blipFill>
          <a:blip r:embed="rId1"/>
          <a:stretch/>
        </p:blipFill>
        <p:spPr>
          <a:xfrm>
            <a:off x="1600200" y="0"/>
            <a:ext cx="5465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页脚占位符 4"/>
          <p:cNvSpPr/>
          <p:nvPr/>
        </p:nvSpPr>
        <p:spPr>
          <a:xfrm>
            <a:off x="2209680" y="6248520"/>
            <a:ext cx="350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1028" descr="D:\资源库\下学期\五年级\第四单元\13.养花\媒体素材\晚年标准像.jpg"/>
          <p:cNvPicPr/>
          <p:nvPr/>
        </p:nvPicPr>
        <p:blipFill>
          <a:blip r:embed="rId1"/>
          <a:stretch/>
        </p:blipFill>
        <p:spPr>
          <a:xfrm>
            <a:off x="2473200" y="0"/>
            <a:ext cx="476568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1029"/>
          <p:cNvSpPr/>
          <p:nvPr/>
        </p:nvSpPr>
        <p:spPr>
          <a:xfrm>
            <a:off x="762120" y="1733400"/>
            <a:ext cx="761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晚年标准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4" descr="D:\资源库\下学期\五年级\第四单元\13.养花\媒体素材\60年代老舍速写（叶浅予画）.jpg"/>
          <p:cNvPicPr/>
          <p:nvPr/>
        </p:nvPicPr>
        <p:blipFill>
          <a:blip r:embed="rId1"/>
          <a:stretch/>
        </p:blipFill>
        <p:spPr>
          <a:xfrm>
            <a:off x="0" y="328680"/>
            <a:ext cx="9144000" cy="454824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5"/>
          <p:cNvSpPr/>
          <p:nvPr/>
        </p:nvSpPr>
        <p:spPr>
          <a:xfrm>
            <a:off x="1905120" y="5516640"/>
            <a:ext cx="533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60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年代老舍速写（叶浅予画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D:\资源库\下学期\五年级\第四单元\13.养花\媒体素材\老舍最后的照片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91344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5"/>
          <p:cNvSpPr/>
          <p:nvPr/>
        </p:nvSpPr>
        <p:spPr>
          <a:xfrm>
            <a:off x="8305920" y="304920"/>
            <a:ext cx="5331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老舍最后的照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4" descr="D:\资源库\下学期\五年级\第四单元\13.养花\媒体素材\《茶馆》手稿.jpg"/>
          <p:cNvPicPr/>
          <p:nvPr/>
        </p:nvPicPr>
        <p:blipFill>
          <a:blip r:embed="rId1"/>
          <a:stretch/>
        </p:blipFill>
        <p:spPr>
          <a:xfrm>
            <a:off x="0" y="237960"/>
            <a:ext cx="9144000" cy="631512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5"/>
          <p:cNvSpPr/>
          <p:nvPr/>
        </p:nvSpPr>
        <p:spPr>
          <a:xfrm>
            <a:off x="6400800" y="571500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隶书"/>
              </a:rPr>
              <a:t>《茶馆》手稿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1T02:14:26Z</dcterms:created>
  <dc:creator/>
  <dc:description/>
  <cp:keywords>幻灯片之家 http:/www.eeppt.com</cp:keywords>
  <dc:language>en-US</dc:language>
  <cp:lastModifiedBy/>
  <dcterms:modified xsi:type="dcterms:W3CDTF">2015-07-20T01:27:00Z</dcterms:modified>
  <cp:revision>8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