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BBA3-6C21-4A7B-BC2A-57A1DE79F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1FE6-A953-4468-81C6-729DC39E2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DB1F-384D-4B1A-90F8-5AD24D575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EAB0-6F11-400B-907F-B9634CC93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ED00-0DA7-48B5-882F-6C23B86D4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6559-692C-4C0E-935D-A7ABDCF74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C835-4377-45D9-87CD-0793F2E28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A7C0-0C5A-44CB-9258-15A96A587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A574-78FE-48DE-BCBC-BD04C290D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7C2A-8A99-47F7-A754-7EE6262D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0731-C3E5-4B73-8BF3-C76856BE0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D1F8-EC22-4815-B643-692D19DF8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A79-F137-41EB-900E-DC885C860D5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一家人的旅遊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報告人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1099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9EC2-8890-431C-AF7F-D68F68E34D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遠足行程表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時間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地點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攜帶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水壺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帽子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餐點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外套……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注意事項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記得帶錢喔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!!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685A-9355-40E1-B262-D8784C9C1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XX</a:t>
            </a: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村簡介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村為一複合式主題遊樂園，除了有緊張刺激的現代遊樂設施（例如：火山歷險、大怒神、西部瘋狂列車、大海盜、獨木舟等）外，建築建材、招牌燈飾、服務人員的服裝、表演活動、餐飲、紀念商品等，都具有相當的特色。全區分為六個主題區，為一趣味活潑的旅遊休閒國度。六福村樂園，該園分為四大主題：美國大西部、南太平洋館、野生動物王國、阿拉伯皇宮，模仿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1881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年美國西部鄉村，走進這裡彷彿進入十九世紀美國大西部鄉村街景，讓人有異國風味感受，為全台唯一與眾不同，值得您一遊再遊的樂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427A-815E-457E-98CD-C8CEEFCA41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一家人 旅游</cp:keywords>
  <dc:language>en-US</dc:language>
  <cp:lastModifiedBy/>
  <cp:revision>0</cp:revision>
  <dc:subject/>
  <dc:title/>
</cp:coreProperties>
</file>