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10.png" ContentType="image/png"/>
  <Override PartName="/ppt/media/image2.wmf" ContentType="image/x-wmf"/>
  <Override PartName="/ppt/media/image3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png" ContentType="image/png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1988C-77CA-4654-9FE2-D8975AEE6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BF3D9-9C20-487C-9242-4129BE7DA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212A6-A3C6-448D-9FDC-7A144E4F3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CD64C-A451-4F26-91ED-814F73E67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BEBA0-1E60-4BB5-88E2-5CF421284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149A9-3070-40F5-AF20-9463458DE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79656-4F5A-487B-BAB6-2A955D124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D3994-2E47-4506-B026-298CF86F0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F1B4C-A0EC-4BA6-BFE6-1927F57FE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AACC1-67E2-4731-8EE8-FF7E339F3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292F4-D500-4A49-851B-265A74948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594EC-381C-4CF0-8319-FC9A9634E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6749D-1AB4-4C0B-9F79-684A47272AA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0" y="2514600"/>
            <a:ext cx="5715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Times New Roman"/>
                <a:ea typeface="方正舒体简体"/>
              </a:rPr>
              <a:t>压力和压强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523880" y="5213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2481840" y="4415040"/>
            <a:ext cx="579240" cy="695520"/>
            <a:chOff x="2481840" y="4415040"/>
            <a:chExt cx="579240" cy="695520"/>
          </a:xfrm>
        </p:grpSpPr>
        <p:sp>
          <p:nvSpPr>
            <p:cNvPr id="44" name=""/>
            <p:cNvSpPr/>
            <p:nvPr/>
          </p:nvSpPr>
          <p:spPr>
            <a:xfrm rot="12686400">
              <a:off x="2609640" y="4576320"/>
              <a:ext cx="152280" cy="533520"/>
            </a:xfrm>
            <a:prstGeom prst="triangle">
              <a:avLst>
                <a:gd name="adj" fmla="val 50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 rot="7014600">
              <a:off x="2657160" y="4429080"/>
              <a:ext cx="293760" cy="4269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819520" y="3581280"/>
            <a:ext cx="2514600" cy="20973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 rot="1842000">
            <a:off x="1242720" y="4827600"/>
            <a:ext cx="3429000" cy="212760"/>
          </a:xfrm>
          <a:prstGeom prst="cube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28600" y="5791320"/>
            <a:ext cx="2819520" cy="838080"/>
          </a:xfrm>
          <a:prstGeom prst="wedgeRectCallout">
            <a:avLst>
              <a:gd name="adj1" fmla="val 31754"/>
              <a:gd name="adj2" fmla="val -131819"/>
            </a:avLst>
          </a:prstGeom>
          <a:solidFill>
            <a:srgbClr val="ff006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为什么那么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尖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1295280"/>
            <a:ext cx="9144000" cy="62056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572000" y="304920"/>
            <a:ext cx="3886200" cy="685800"/>
          </a:xfrm>
          <a:prstGeom prst="wedgeRectCallout">
            <a:avLst>
              <a:gd name="adj1" fmla="val -77819"/>
              <a:gd name="adj2" fmla="val 275462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铁轨为什么铺在枕木上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647800" y="690480"/>
            <a:ext cx="3905280" cy="55580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 rot="11621400">
            <a:off x="4190760" y="2133360"/>
            <a:ext cx="209520" cy="10666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20749200">
            <a:off x="4800600" y="2133360"/>
            <a:ext cx="209520" cy="10666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867280" y="1371600"/>
            <a:ext cx="3276720" cy="685800"/>
          </a:xfrm>
          <a:prstGeom prst="wedgeRectCallout">
            <a:avLst>
              <a:gd name="adj1" fmla="val -79361"/>
              <a:gd name="adj2" fmla="val 133333"/>
            </a:avLst>
          </a:prstGeom>
          <a:solidFill>
            <a:srgbClr val="ff006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书包带为什么是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宽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5562720" y="0"/>
          <a:ext cx="3581280" cy="2340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62720" y="0"/>
                    <a:ext cx="3581280" cy="234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219320" y="3429000"/>
          <a:ext cx="3124080" cy="250344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19320" y="3429000"/>
                    <a:ext cx="3124080" cy="25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" name=""/>
          <p:cNvGraphicFramePr/>
          <p:nvPr/>
        </p:nvGraphicFramePr>
        <p:xfrm>
          <a:off x="4724280" y="3429000"/>
          <a:ext cx="2819520" cy="211140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24280" y="3429000"/>
                    <a:ext cx="2819520" cy="211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" name=""/>
          <p:cNvGraphicFramePr/>
          <p:nvPr/>
        </p:nvGraphicFramePr>
        <p:xfrm>
          <a:off x="1676520" y="533520"/>
          <a:ext cx="2808000" cy="210348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76520" y="533520"/>
                    <a:ext cx="2808000" cy="210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5409720" y="282600"/>
            <a:ext cx="2210040" cy="1622520"/>
            <a:chOff x="5409720" y="282600"/>
            <a:chExt cx="2210040" cy="1622520"/>
          </a:xfrm>
        </p:grpSpPr>
        <p:grpSp>
          <p:nvGrpSpPr>
            <p:cNvPr id="64" name=""/>
            <p:cNvGrpSpPr/>
            <p:nvPr/>
          </p:nvGrpSpPr>
          <p:grpSpPr>
            <a:xfrm>
              <a:off x="5409720" y="1600200"/>
              <a:ext cx="2210040" cy="304920"/>
              <a:chOff x="5409720" y="1600200"/>
              <a:chExt cx="2210040" cy="304920"/>
            </a:xfrm>
          </p:grpSpPr>
          <p:sp>
            <p:nvSpPr>
              <p:cNvPr id="65" name=""/>
              <p:cNvSpPr/>
              <p:nvPr/>
            </p:nvSpPr>
            <p:spPr>
              <a:xfrm>
                <a:off x="5410080" y="1600200"/>
                <a:ext cx="22096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flipH="1">
                <a:off x="5409720" y="1600200"/>
                <a:ext cx="22860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>
                <a:off x="5638320" y="160020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>
                <a:off x="5943240" y="160020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>
                <a:off x="6247800" y="160020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>
                <a:off x="6552720" y="160020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>
                <a:off x="6933960" y="1600200"/>
                <a:ext cx="15264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>
                <a:off x="7162560" y="1600200"/>
                <a:ext cx="15264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>
                <a:off x="7391160" y="1600200"/>
                <a:ext cx="15264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" name=""/>
            <p:cNvSpPr/>
            <p:nvPr/>
          </p:nvSpPr>
          <p:spPr>
            <a:xfrm flipV="1">
              <a:off x="5410080" y="762120"/>
              <a:ext cx="213372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rot="20280600">
              <a:off x="5943240" y="456840"/>
              <a:ext cx="1066680" cy="6858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1295280" y="3276720"/>
            <a:ext cx="1523880" cy="2210040"/>
            <a:chOff x="1295280" y="3276720"/>
            <a:chExt cx="1523880" cy="2210040"/>
          </a:xfrm>
        </p:grpSpPr>
        <p:grpSp>
          <p:nvGrpSpPr>
            <p:cNvPr id="77" name=""/>
            <p:cNvGrpSpPr/>
            <p:nvPr/>
          </p:nvGrpSpPr>
          <p:grpSpPr>
            <a:xfrm>
              <a:off x="2514240" y="3276720"/>
              <a:ext cx="304920" cy="2210040"/>
              <a:chOff x="2514240" y="3276720"/>
              <a:chExt cx="304920" cy="2210040"/>
            </a:xfrm>
          </p:grpSpPr>
          <p:sp>
            <p:nvSpPr>
              <p:cNvPr id="78" name=""/>
              <p:cNvSpPr/>
              <p:nvPr/>
            </p:nvSpPr>
            <p:spPr>
              <a:xfrm flipV="1">
                <a:off x="2514240" y="3276720"/>
                <a:ext cx="0" cy="2209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2514240" y="5258160"/>
                <a:ext cx="22860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2514240" y="5029560"/>
                <a:ext cx="30492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2514240" y="4724640"/>
                <a:ext cx="30492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2514240" y="4420080"/>
                <a:ext cx="30492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2514240" y="4115160"/>
                <a:ext cx="30492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2514240" y="3809880"/>
                <a:ext cx="22860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2514240" y="3581280"/>
                <a:ext cx="30492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2514240" y="3352680"/>
                <a:ext cx="22860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7" name=""/>
            <p:cNvSpPr/>
            <p:nvPr/>
          </p:nvSpPr>
          <p:spPr>
            <a:xfrm>
              <a:off x="1981080" y="3809880"/>
              <a:ext cx="533160" cy="9144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295280" y="4267080"/>
              <a:ext cx="685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824400" y="349560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468200" y="4038480"/>
            <a:ext cx="97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&gt;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5638320" y="3427560"/>
            <a:ext cx="2210400" cy="1677600"/>
            <a:chOff x="5638320" y="3427560"/>
            <a:chExt cx="2210400" cy="1677600"/>
          </a:xfrm>
        </p:grpSpPr>
        <p:grpSp>
          <p:nvGrpSpPr>
            <p:cNvPr id="92" name=""/>
            <p:cNvGrpSpPr/>
            <p:nvPr/>
          </p:nvGrpSpPr>
          <p:grpSpPr>
            <a:xfrm>
              <a:off x="5638320" y="3427560"/>
              <a:ext cx="2210400" cy="307800"/>
              <a:chOff x="5638320" y="3427560"/>
              <a:chExt cx="2210400" cy="307800"/>
            </a:xfrm>
          </p:grpSpPr>
          <p:sp>
            <p:nvSpPr>
              <p:cNvPr id="93" name=""/>
              <p:cNvSpPr/>
              <p:nvPr/>
            </p:nvSpPr>
            <p:spPr>
              <a:xfrm flipH="1" flipV="1">
                <a:off x="5638320" y="3731760"/>
                <a:ext cx="2209680" cy="3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flipV="1">
                <a:off x="7619760" y="3506760"/>
                <a:ext cx="228960" cy="228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flipV="1">
                <a:off x="7391160" y="3430080"/>
                <a:ext cx="22932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flipV="1">
                <a:off x="7086240" y="3429360"/>
                <a:ext cx="22932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V="1">
                <a:off x="6781680" y="3429000"/>
                <a:ext cx="22932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flipV="1">
                <a:off x="6476760" y="3428640"/>
                <a:ext cx="22932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flipV="1">
                <a:off x="6171480" y="3504240"/>
                <a:ext cx="15300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flipV="1">
                <a:off x="5942880" y="3427560"/>
                <a:ext cx="15336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V="1">
                <a:off x="5714280" y="3503520"/>
                <a:ext cx="15300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2" name=""/>
            <p:cNvSpPr/>
            <p:nvPr/>
          </p:nvSpPr>
          <p:spPr>
            <a:xfrm>
              <a:off x="6171840" y="3733920"/>
              <a:ext cx="1067040" cy="5331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flipV="1">
              <a:off x="6629040" y="426672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" name=""/>
          <p:cNvSpPr/>
          <p:nvPr/>
        </p:nvSpPr>
        <p:spPr>
          <a:xfrm>
            <a:off x="228960" y="1219320"/>
            <a:ext cx="65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343760" y="1143000"/>
            <a:ext cx="65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420080" y="3657600"/>
            <a:ext cx="65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60" y="3733920"/>
            <a:ext cx="65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401880" y="365760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1066320" y="304920"/>
            <a:ext cx="2210040" cy="1371600"/>
            <a:chOff x="1066320" y="304920"/>
            <a:chExt cx="2210040" cy="1371600"/>
          </a:xfrm>
        </p:grpSpPr>
        <p:grpSp>
          <p:nvGrpSpPr>
            <p:cNvPr id="110" name=""/>
            <p:cNvGrpSpPr/>
            <p:nvPr/>
          </p:nvGrpSpPr>
          <p:grpSpPr>
            <a:xfrm>
              <a:off x="1066320" y="1371600"/>
              <a:ext cx="2210040" cy="304920"/>
              <a:chOff x="1066320" y="1371600"/>
              <a:chExt cx="2210040" cy="304920"/>
            </a:xfrm>
          </p:grpSpPr>
          <p:sp>
            <p:nvSpPr>
              <p:cNvPr id="111" name=""/>
              <p:cNvSpPr/>
              <p:nvPr/>
            </p:nvSpPr>
            <p:spPr>
              <a:xfrm>
                <a:off x="1066680" y="1371600"/>
                <a:ext cx="22096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H="1">
                <a:off x="1066320" y="1371600"/>
                <a:ext cx="22860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>
                <a:off x="1294920" y="137160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1599840" y="137160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>
                <a:off x="1904400" y="137160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2209320" y="137160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2590560" y="1371600"/>
                <a:ext cx="15264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2819160" y="1371600"/>
                <a:ext cx="15264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3047760" y="1371600"/>
                <a:ext cx="15264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0" name=""/>
            <p:cNvSpPr/>
            <p:nvPr/>
          </p:nvSpPr>
          <p:spPr>
            <a:xfrm>
              <a:off x="1752480" y="304920"/>
              <a:ext cx="762120" cy="1066680"/>
            </a:xfrm>
            <a:custGeom>
              <a:avLst/>
              <a:gdLst>
                <a:gd name="textAreaLeft" fmla="*/ 167400 w 762120"/>
                <a:gd name="textAreaRight" fmla="*/ 594720 w 762120"/>
                <a:gd name="textAreaTop" fmla="*/ 234360 h 1066680"/>
                <a:gd name="textAreaBottom" fmla="*/ 832320 h 1066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362320" y="546120"/>
              <a:ext cx="393480" cy="507960"/>
            </a:xfrm>
            <a:custGeom>
              <a:avLst/>
              <a:gdLst/>
              <a:ahLst/>
              <a:rect l="l" t="t" r="r" b="b"/>
              <a:pathLst>
                <a:path w="248" h="320">
                  <a:moveTo>
                    <a:pt x="48" y="40"/>
                  </a:moveTo>
                  <a:cubicBezTo>
                    <a:pt x="140" y="20"/>
                    <a:pt x="232" y="0"/>
                    <a:pt x="240" y="40"/>
                  </a:cubicBezTo>
                  <a:cubicBezTo>
                    <a:pt x="248" y="80"/>
                    <a:pt x="136" y="240"/>
                    <a:pt x="96" y="280"/>
                  </a:cubicBezTo>
                  <a:cubicBezTo>
                    <a:pt x="56" y="320"/>
                    <a:pt x="16" y="280"/>
                    <a:pt x="0" y="28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5409720" y="282600"/>
            <a:ext cx="2210040" cy="1622520"/>
            <a:chOff x="5409720" y="282600"/>
            <a:chExt cx="2210040" cy="1622520"/>
          </a:xfrm>
        </p:grpSpPr>
        <p:grpSp>
          <p:nvGrpSpPr>
            <p:cNvPr id="123" name=""/>
            <p:cNvGrpSpPr/>
            <p:nvPr/>
          </p:nvGrpSpPr>
          <p:grpSpPr>
            <a:xfrm>
              <a:off x="5409720" y="1600200"/>
              <a:ext cx="2210040" cy="304920"/>
              <a:chOff x="5409720" y="1600200"/>
              <a:chExt cx="2210040" cy="304920"/>
            </a:xfrm>
          </p:grpSpPr>
          <p:sp>
            <p:nvSpPr>
              <p:cNvPr id="124" name=""/>
              <p:cNvSpPr/>
              <p:nvPr/>
            </p:nvSpPr>
            <p:spPr>
              <a:xfrm>
                <a:off x="5410080" y="1600200"/>
                <a:ext cx="22096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5409720" y="1600200"/>
                <a:ext cx="22860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>
                <a:off x="5638320" y="160020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5943240" y="160020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247800" y="160020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6552720" y="160020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>
                <a:off x="6933960" y="1600200"/>
                <a:ext cx="15264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flipH="1">
                <a:off x="7162560" y="1600200"/>
                <a:ext cx="15264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flipH="1">
                <a:off x="7391160" y="1600200"/>
                <a:ext cx="15264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3" name=""/>
            <p:cNvSpPr/>
            <p:nvPr/>
          </p:nvSpPr>
          <p:spPr>
            <a:xfrm flipV="1">
              <a:off x="5410080" y="762120"/>
              <a:ext cx="213372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rot="20280600">
              <a:off x="5943240" y="456840"/>
              <a:ext cx="1066680" cy="6858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1295280" y="3276720"/>
            <a:ext cx="1523880" cy="2210040"/>
            <a:chOff x="1295280" y="3276720"/>
            <a:chExt cx="1523880" cy="2210040"/>
          </a:xfrm>
        </p:grpSpPr>
        <p:grpSp>
          <p:nvGrpSpPr>
            <p:cNvPr id="136" name=""/>
            <p:cNvGrpSpPr/>
            <p:nvPr/>
          </p:nvGrpSpPr>
          <p:grpSpPr>
            <a:xfrm>
              <a:off x="2514240" y="3276720"/>
              <a:ext cx="304920" cy="2210040"/>
              <a:chOff x="2514240" y="3276720"/>
              <a:chExt cx="304920" cy="2210040"/>
            </a:xfrm>
          </p:grpSpPr>
          <p:sp>
            <p:nvSpPr>
              <p:cNvPr id="137" name=""/>
              <p:cNvSpPr/>
              <p:nvPr/>
            </p:nvSpPr>
            <p:spPr>
              <a:xfrm flipV="1">
                <a:off x="2514240" y="3276720"/>
                <a:ext cx="0" cy="2209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514240" y="5258160"/>
                <a:ext cx="22860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2514240" y="5029560"/>
                <a:ext cx="30492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2514240" y="4724640"/>
                <a:ext cx="30492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2514240" y="4420080"/>
                <a:ext cx="30492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2514240" y="4115160"/>
                <a:ext cx="30492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2514240" y="3809880"/>
                <a:ext cx="22860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2514240" y="3581280"/>
                <a:ext cx="30492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514240" y="3352680"/>
                <a:ext cx="22860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1981080" y="3809880"/>
              <a:ext cx="533160" cy="9144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295280" y="4267080"/>
              <a:ext cx="685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824400" y="349560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468200" y="4038480"/>
            <a:ext cx="97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&gt;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5638320" y="3427560"/>
            <a:ext cx="2210400" cy="1677600"/>
            <a:chOff x="5638320" y="3427560"/>
            <a:chExt cx="2210400" cy="1677600"/>
          </a:xfrm>
        </p:grpSpPr>
        <p:grpSp>
          <p:nvGrpSpPr>
            <p:cNvPr id="151" name=""/>
            <p:cNvGrpSpPr/>
            <p:nvPr/>
          </p:nvGrpSpPr>
          <p:grpSpPr>
            <a:xfrm>
              <a:off x="5638320" y="3427560"/>
              <a:ext cx="2210400" cy="307800"/>
              <a:chOff x="5638320" y="3427560"/>
              <a:chExt cx="2210400" cy="307800"/>
            </a:xfrm>
          </p:grpSpPr>
          <p:sp>
            <p:nvSpPr>
              <p:cNvPr id="152" name=""/>
              <p:cNvSpPr/>
              <p:nvPr/>
            </p:nvSpPr>
            <p:spPr>
              <a:xfrm flipH="1" flipV="1">
                <a:off x="5638320" y="3731760"/>
                <a:ext cx="2209680" cy="3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 flipV="1">
                <a:off x="7619760" y="3506760"/>
                <a:ext cx="228960" cy="228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 flipV="1">
                <a:off x="7391160" y="3430080"/>
                <a:ext cx="22932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 flipV="1">
                <a:off x="7086240" y="3429360"/>
                <a:ext cx="22932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 flipV="1">
                <a:off x="6781680" y="3429000"/>
                <a:ext cx="22932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 flipV="1">
                <a:off x="6476760" y="3428640"/>
                <a:ext cx="22932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flipV="1">
                <a:off x="6171480" y="3504240"/>
                <a:ext cx="15300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V="1">
                <a:off x="5942880" y="3427560"/>
                <a:ext cx="15336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V="1">
                <a:off x="5714280" y="3503520"/>
                <a:ext cx="15300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1" name=""/>
            <p:cNvSpPr/>
            <p:nvPr/>
          </p:nvSpPr>
          <p:spPr>
            <a:xfrm>
              <a:off x="6171840" y="3733920"/>
              <a:ext cx="1067040" cy="5331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6629040" y="426672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228960" y="1219320"/>
            <a:ext cx="65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343760" y="1143000"/>
            <a:ext cx="65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420080" y="3657600"/>
            <a:ext cx="65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60" y="3733920"/>
            <a:ext cx="65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401880" y="365760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553080" y="1143000"/>
            <a:ext cx="30492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514600" y="4267080"/>
            <a:ext cx="6094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6629400" y="2971440"/>
            <a:ext cx="0" cy="762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1066320" y="304920"/>
            <a:ext cx="2210040" cy="1371600"/>
            <a:chOff x="1066320" y="304920"/>
            <a:chExt cx="2210040" cy="1371600"/>
          </a:xfrm>
        </p:grpSpPr>
        <p:grpSp>
          <p:nvGrpSpPr>
            <p:cNvPr id="172" name=""/>
            <p:cNvGrpSpPr/>
            <p:nvPr/>
          </p:nvGrpSpPr>
          <p:grpSpPr>
            <a:xfrm>
              <a:off x="1066320" y="1371600"/>
              <a:ext cx="2210040" cy="304920"/>
              <a:chOff x="1066320" y="1371600"/>
              <a:chExt cx="221004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1066680" y="1371600"/>
                <a:ext cx="22096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flipH="1">
                <a:off x="1066320" y="1371600"/>
                <a:ext cx="22860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 flipH="1">
                <a:off x="1294920" y="137160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 flipH="1">
                <a:off x="1599840" y="137160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flipH="1">
                <a:off x="1904400" y="137160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 flipH="1">
                <a:off x="2209320" y="137160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 flipH="1">
                <a:off x="2590560" y="1371600"/>
                <a:ext cx="15264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 flipH="1">
                <a:off x="2819160" y="1371600"/>
                <a:ext cx="15264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flipH="1">
                <a:off x="3047760" y="1371600"/>
                <a:ext cx="15264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2" name=""/>
            <p:cNvSpPr/>
            <p:nvPr/>
          </p:nvSpPr>
          <p:spPr>
            <a:xfrm>
              <a:off x="1752480" y="304920"/>
              <a:ext cx="762120" cy="1066680"/>
            </a:xfrm>
            <a:custGeom>
              <a:avLst/>
              <a:gdLst>
                <a:gd name="textAreaLeft" fmla="*/ 167400 w 762120"/>
                <a:gd name="textAreaRight" fmla="*/ 594720 w 762120"/>
                <a:gd name="textAreaTop" fmla="*/ 234360 h 1066680"/>
                <a:gd name="textAreaBottom" fmla="*/ 832320 h 1066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62320" y="546120"/>
              <a:ext cx="393480" cy="507960"/>
            </a:xfrm>
            <a:custGeom>
              <a:avLst/>
              <a:gdLst/>
              <a:ahLst/>
              <a:rect l="l" t="t" r="r" b="b"/>
              <a:pathLst>
                <a:path w="248" h="320">
                  <a:moveTo>
                    <a:pt x="48" y="40"/>
                  </a:moveTo>
                  <a:cubicBezTo>
                    <a:pt x="140" y="20"/>
                    <a:pt x="232" y="0"/>
                    <a:pt x="240" y="40"/>
                  </a:cubicBezTo>
                  <a:cubicBezTo>
                    <a:pt x="248" y="80"/>
                    <a:pt x="136" y="240"/>
                    <a:pt x="96" y="280"/>
                  </a:cubicBezTo>
                  <a:cubicBezTo>
                    <a:pt x="56" y="320"/>
                    <a:pt x="16" y="280"/>
                    <a:pt x="0" y="28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" name=""/>
          <p:cNvSpPr/>
          <p:nvPr/>
        </p:nvSpPr>
        <p:spPr>
          <a:xfrm>
            <a:off x="2133720" y="1371600"/>
            <a:ext cx="0" cy="762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457200" y="1143000"/>
            <a:ext cx="8381880" cy="45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讨论（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）压力是怎样形成的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）压力方向如何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）压力与重力之间的区别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                  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与联系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rcRect l="0" t="14773" r="0" b="0"/>
          <a:stretch/>
        </p:blipFill>
        <p:spPr>
          <a:xfrm>
            <a:off x="5410080" y="4038480"/>
            <a:ext cx="3276720" cy="214956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5430600" y="3200400"/>
            <a:ext cx="289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体重</a:t>
            </a: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60000</a:t>
            </a: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牛，每只脚掌面积</a:t>
            </a: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600</a:t>
            </a: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平方厘米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2">
            <a:lum contrast="96000"/>
          </a:blip>
          <a:stretch/>
        </p:blipFill>
        <p:spPr>
          <a:xfrm>
            <a:off x="1143000" y="2590920"/>
            <a:ext cx="2933640" cy="380988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2268720" y="914400"/>
            <a:ext cx="4386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例：比较图中芭蕾舞演员足尖对舞台的压强和图大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对地面的压强哪个大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>压力 压强</cp:keywords>
  <dc:language>en-US</dc:language>
  <cp:lastModifiedBy/>
  <cp:revision>0</cp:revision>
  <dc:subject/>
  <dc:title/>
</cp:coreProperties>
</file>