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AC56-1BF3-4922-A092-8CFE6F9E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9466-18F2-46FD-8715-048615C5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CBB-1FAC-4638-A9B2-B982F2A8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FA25-AEE7-4ABB-AB49-E54EE85D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F9D1-F938-4EC7-A6D8-E65E1D9F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CC2D-1019-4610-A9BB-A8D6B35C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4CAD-9264-42A6-9DCA-85B4BF9A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125C-7FAF-48E2-9303-03F8FF1F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C887-4880-4885-9C8E-C3996525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5779-7C0F-4E04-82F9-20EB254B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13FE-E4DB-48E5-A633-DDE89A47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C8D0-39C1-4CAE-BA7F-4A643D73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847A-902E-4A93-A352-DB085393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F347-AD21-4223-8BC3-54B294CD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05DB-D09F-4839-A46E-01D23333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C91B1-F984-4546-A8CB-99C98A8E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66C6-BA79-4B61-9599-2913DF766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026B-04F5-40F0-8A1A-153A88F2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C1BF-9288-426B-9831-754E47C0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2C6-594D-4AC6-85CE-78F6C383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540A-8A46-4B08-B99F-D087C09A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395E-F8C7-4A27-AC0B-AC2F42CE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880-08B5-4E0B-B8E0-91C05DC7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AF78-715E-4885-ACA2-4D49BB89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EB46-91AC-433E-91B5-92F363697255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2F89-F3A7-42D6-A373-33C538FC7610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062000" y="1599840"/>
            <a:ext cx="754848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科级院感管理小组由科主任负责并由科室相关人员组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立与科室功能相关制度及记录文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重点检查整改措施落实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科级院感染管理小组定期召开工作会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半年召开一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要有文字记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紫外线消毒管理：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紫外线消毒登记本（日期、时间、累计时间、签名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灯管保持清洁，定期用酒精棉球擦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的紫外线强度监测指示卡，应取得卫生许可批件，并在有效期内使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用紫外线消毒室内空气时，房间内应保持清洁干燥，减少尘埃和水雾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管理委员会：（防护</a:t>
            </a: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80820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立员工健康档案。（比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员工定期健康检查的机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员工“乙肝”等相关项目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防接种制度与落实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员工遭受感染、化学损伤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化学污染的紧急处理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248520" y="2514600"/>
          <a:ext cx="2590560" cy="342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48520" y="2514600"/>
                    <a:ext cx="259056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锐器伤的预防</a:t>
            </a: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：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不慎被锐器刺伤，应立即采取相应保护措施，清创，对创面进行严格消毒处理，并进行血源性传播疾病的检查和随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BV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阳性病人血液、体液污染的锐器刺伤，应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小时内注射乙肝免疫高价球蛋白，同时进行血液乙肝标志物检查，阴性者皮下注射乙肝疫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月间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824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医院感染管理委员会：</a:t>
            </a:r>
            <a:br>
              <a:rPr sz="4000"/>
            </a:b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（传染病防治管理措施）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2000" y="1766880"/>
            <a:ext cx="75484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立传染病报告制度并明确责任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年对传染病疫情报告执行情况自查次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查传染病漏报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对“院感”突发事件的应急预案及报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关科室传染病登记本、卡片、信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空气传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A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可疑病人及流感可疑病人必须有对应的方法、向相关员工明确通报及相应对策和明确规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必要时设立“隔离房间”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A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麻疹、流腮、流行性角膜炎等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暴露环境工作的医师、护师、技师等每个人的结核菌素皮内试验反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防护用品的适宜、可靠。（口罩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医院各相关部门在院感管理中</a:t>
            </a:r>
            <a:br>
              <a:rPr sz="3600"/>
            </a:br>
            <a:r>
              <a:rPr b="1" lang="zh-CN" sz="3600" spc="-1" strike="noStrike">
                <a:solidFill>
                  <a:srgbClr val="482400"/>
                </a:solidFill>
                <a:latin typeface="Times New Roman"/>
              </a:rPr>
              <a:t>职责分工明确（文字材料）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2057040"/>
            <a:ext cx="685800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院感染管理委员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务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护理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总务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药剂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检验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各临床科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952880" y="2971800"/>
          <a:ext cx="3505320" cy="2819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52880" y="2971800"/>
                    <a:ext cx="35053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23520" y="198072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具有相应的学识水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实际工作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主治医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高年住院医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专职担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609480"/>
            <a:ext cx="965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82400"/>
                </a:solidFill>
                <a:latin typeface="Times New Roman"/>
              </a:rPr>
              <a:t>医院感染管理负责人（要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7"/>
          <a:srcRect l="-11624" t="-11614" r="37216" b="37212"/>
          <a:stretch/>
        </p:blipFill>
        <p:spPr>
          <a:xfrm flipH="1">
            <a:off x="5638680" y="3124080"/>
            <a:ext cx="24386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管理委员会：（权限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明确的职责与管理权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建立相关的工作制度与记录文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能参与医院质量管理决策的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院要建立医院感染管理年度专项工作经费预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专项经费能够得到切实的落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管理委员会：（手册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防院感所采取的方针、对策、相关技术编成手册或指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册要能定期进行修订（记录修订日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修订应以科学为依据，进行必要的讨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册的内容能迅速推广相应的具体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手册中必须是标准的预防规范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具体的院感对策及职业感染对策的内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管理委员会：（制度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各相关科室的医院感染管理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抗生素管理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次性物品管理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消毒隔离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疗废弃物管理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传染病管理制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防员工院内感染管理制度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委员会：（培训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期对全体员工进行院感管理知识培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医院感染的重点部门、重点岗位、重点责任人予以重点教育与考核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传染病防治的培训。对防护用品的合理正确使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对“院感”突发事件能进行定期的教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抗生素适宜使用的相关计划与教育措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新员工上岗前培训符合“院感管理规定”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员工进行遭受感染（含化学损伤）时紧急处理程序的教育及相关基本知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医院感染管理专职人员培训时间每年不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时，其他管理与医务人员培训时间每年不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时，工勤人员每年不少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学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考核记录医、护、技、卫生工（试卷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各级各类相关工作人员培训与考核合格后上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医院感染管理委员会：（监测</a:t>
            </a: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院感染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记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类切口感染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0.5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随访记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院感染漏报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1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记录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住院病人的抗生素使用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70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期对消毒灭菌装置用生物学等检测方法进行效果评价（记录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院污水、污物处理达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医院感染 管理 措施</cp:keywords>
  <dc:language>en-US</dc:language>
  <cp:lastModifiedBy/>
  <cp:revision>0</cp:revision>
  <dc:subject/>
  <dc:title/>
</cp:coreProperties>
</file>