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CD6-D4E3-4805-9195-907A233E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0E3-B483-4AB8-AEC0-A7B98F11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EA8-CD67-4861-9223-99DBD4A8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ED0-B9CE-4D61-ADB7-04FDCE22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AAE-B6C8-4A39-96D4-3AB2415C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FC7-0AA4-42D4-98EA-6187A5F9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DB5-B73E-42F0-BCEF-CBE424BC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B7B-25B5-4EAF-A4A7-DC3FB60A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36D-AC5C-47AA-8872-FED016BF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3CF-101A-4B33-A841-11928034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986-20B0-4062-A155-3E4F1C90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D0C-4FE9-48F7-AB66-E40090C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FB44-856F-4FFB-BE7A-B8D527E239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三篇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营运资本管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4038480"/>
            <a:ext cx="78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讲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三）流动资产项目组合策略（流动资产各项目之间的比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838080"/>
            <a:ext cx="85345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动资产各项目的风险与收益水平也是不同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                                                                  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风险（变现）  现金           有价证券          应收帐款          存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获利能力          存货           应收帐款          有价证券          现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：现金—非盈利资产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价证券—通过出售可以获得收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货、应收帐款—包含企业的潜在收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稳健型策略：高流动资产比率，变现能力强的流动资产比例高，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于低风险低收益策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激进型策略：低流动资产比率，变现能力强的流动资产比例低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于高风险高收益策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16002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380880"/>
            <a:ext cx="8153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某企业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个可供选择的流动资产组合的方案，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80880"/>
            <a:ext cx="8458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三种方案的唯一区别是有价证券的持有量不同（流动负债和长期负债不变）。假设有价证券投资所需资金均为发行股票筹得，即在有价证券增加同时，普通股股本也相应增加。假设有价证券投资收益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其他条件不变的情况下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税息前利润分别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增加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知，随着流动资产持有量的增加，总资产利润率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.38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.71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.13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但流动资产比率和风险却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7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7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对这三个方案的选择，不但取决于方案的收益水平和风险状况，而且取决于决策者的风险规避态度，不同的决策者会得出不同的结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流动负债组合策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57200"/>
            <a:ext cx="85345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同期限负债筹资的风险和成本是不同的。通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期负债属于高风险低成本的负债，而长期负债则属于低风险高成本的负债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原因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短期负债利率低于长期负债利率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长期负债在企业不需要资金时仍要为其支付利息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短期负债增加了企业偿债的压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短期负债的成本较长期负债有较大的不确定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决定了短期负债成本低，而长期负债成本高；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决定了短期负债风险大，而长期负债风险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动负债组合策略：稳健型策略 ：高流动负债，低长期负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折衷型策略：适中的流动负债和长期负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激进型策略：高长期负债，低流动负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某公司资产总额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（流动资产和固定资产不变），股东权益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，预计息税前利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，长短期利率分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该公司目前正在考虑三种不同的筹资方案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激进筹资策略：流动负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，长期负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折中筹资策略：流动负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，长期负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稳健筹资策略：流动负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，长期负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他资料见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从盈利角度来看，激进型融资策略的收益最高，其股东权益报酬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.96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稳健型融资策略的收益最低，股东权益报酬率仅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.25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折衷型融资策略的收益介于两者之间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从风险角度来看，激进型融资策略的风险最大，其流动比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3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净营运资金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；稳健型融资策略的风险最小，其流动比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净营运资金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元；折衷型融资策略仍介于两者之间。总之，企业盈利水平与风险大小与流动负债比重成同方向变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228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营运资本管理综合策略（资产结构与资本结构的对应关系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3352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临时性营运资本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emporary working capit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季节性或临时性需求而占用在流动资产上的资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永久性营运资本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ermanent working capit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满足企业长期稳定需求（最低需求）而占用在流动资产上的资金。永久性营运资本与固定资产相似之处：其所占用的资金是长期的；随时间的发展而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458200" cy="335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632448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临时性营运资本与永久性营运资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折衷型（正常型、对冲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dging matchi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到期日配比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aturity match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每一项资产将与一种与它的到期日大致相同的融资工具相对应，临时性流动资产由短期负债来解决，永久性流动资产和所有的长期资产由长期负债和权益性资本来解决。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229600" cy="3124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54100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折衷型筹资组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71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企业在短期资金需求处于波谷时不借入任何流动负债 ；当企业短期资金需求处于波峰时，进行短期负债，并由临时性资产的减少而释放出来的现金偿还短期负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进型（积极型、冒险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7621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分永久性流动资产的资金来源于短期负债。祥见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838224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46483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激进型筹资组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1814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一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风险、低成本、高盈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筹资策略，图中虚线越低，所冒风险越大。但由于短期负债利率的多变性增加了盈利的不确定性。这种策略适用于企业长期资金来源不足，或短期负债成本较低的企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稳健型（保守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分临时性流动资产的资金来源由长期负债解决。祥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8076960" cy="3124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520" y="5029200"/>
            <a:ext cx="807696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稳健型筹资策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一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低风险、低收益、高成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筹资策略，图中虚线位置越高，就越保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八章  营运资本管理概述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九章  流动资产管理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十章  流动负债管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上例，假设该公司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负债融资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股权资本融资。目前企业正在考虑三种不同的营运资本综合管理策略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激进型策略：流动资产投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，流动负债融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折衷型策略：流动资产投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，流动负债融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稳健型策略：流动资产投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，流动负债融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他情况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由表可知，激进型策略的股东权益报酬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.88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流动比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特点是高收益高风险；稳健型策略的股东权益报酬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5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流动比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特点为低风险低收益；折衷型策略的收益和风险介于两者之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第八章 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营运资本管理概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营运资本概念和营运资本管理的意义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8686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营运资本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king capit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分为净营运资本和总营运资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净营运资本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king capi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流动资产与流动负债之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营运资本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ros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king capi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指占用在流动资产上的资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营运资本管理的意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动资产在制造业中占资产的一半以上，在销售企业中所占比例更高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全国工业普查，国有工业企业中，流动资产占资产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.2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动资产比例高，企业投资回报率低；流动资产比例低，企业财务风险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动负债是小公司外部筹资的主要来源，同时也是大公司迅速增长阶段的主要资金来源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工业普查，国有工业企业中流动负债占负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3.9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流动资产组合策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33520"/>
            <a:ext cx="8305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影响资产组合的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与收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益：流动资产盈利能力低于固定资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除了有价证券外，其他流动资产只是为企业日常经营活动正常进行提供了必要的条件，它们本身并不具有直接的盈利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固定资产投资风险大于流动资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由于流动资产易变现，其本身价值损失的可能性小；另外可以降低企业的财务风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企业所属的行业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同行业的经营范围不同，资产组合差异较大。祥见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营规模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企业筹资能力较强，可以保持较低的流动资产水平；大企业技术含量高，设备先进，固定资产所占比例较高。祥见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2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企业规模对资产组合的影响（美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98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息率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率高，减少流动资产投资（流动负债是其资金来源）；利率低，增加流动资产投资。祥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6095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美国制造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960—198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的资产组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二）流动资产组合的策略（流动资产总和占资产的比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7621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企业所属行业、规模和利率水平确定的情况下，企业在决定流动资产数量时，必须考虑企业的获利能力和风险之间的关系。企业在流动资产水平上有三种选择方案，其与企业产出水平之间的关系如图所示，祥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—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305920" cy="396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6324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—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资产组合 与产出水平之间的关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图可知，产量越大，为支持这一产量的流动资产投资也越大，但其之间并非成线性关系，流动资产以递减的比率随产量的增加而增加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原因：一是由于企业规模增加流动资产比例会下降（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—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；二是流动资产内部各项目之间相互调剂使用的可能性增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28600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流动资产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获利能力和风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点可以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种方案概括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                                                              低     流动性          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获利能力      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风险              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保守（稳健）资产组合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适中（折中）资产组合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冒险（激进）资产组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342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营运 资本管理</cp:keywords>
  <dc:language>en-US</dc:language>
  <cp:lastModifiedBy/>
  <cp:revision>0</cp:revision>
  <dc:subject/>
  <dc:title/>
</cp:coreProperties>
</file>