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CBB-0A63-48C6-B078-2BD31D54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293-5F1B-443C-881C-430F2A6A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066-4A2A-49E8-B5CA-366EB332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AED-14F9-480A-A33A-CFA45C10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FB8-1BC3-4235-9BFE-D86ADE0D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26A4-989F-46E9-9074-320C684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4A7E-C674-431A-B7F9-A9135FC6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9ECF-F251-4790-9556-86896E59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FD3-2E6F-40E5-8E3F-39C9571B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7978-E5BE-40CC-B305-DFE5F669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A62D-5BD1-4C53-AC19-D4191AB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76D-1F61-4248-9979-88A2435E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B868-E6B6-4A6D-9260-5742B17D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F2F9-8BD9-4C8E-A84C-8C66303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CEA-F7C2-4F74-8A90-0CF257D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028C-C004-4DA8-8D12-4F9C683D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7797-BA6F-45E3-A46E-9544E40D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43A8-4368-4414-8F3A-07E14902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D18AA-0835-4F3C-9EAD-54ED0DF6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83C6-63B8-4592-AEB4-F9F616A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DEF5-2B66-4DDB-B371-3BD8A512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E8AE-E90D-4556-87DB-7355834C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4E3-4142-4DBD-B04D-EAAD913A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2EEB-03F8-4DB0-8D4B-786FC466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5492-00F7-4075-B4AA-74995BB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34C3-839F-4496-AA25-98EDFD3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DA79-E282-4CF7-AC43-7C619F4B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010C-350E-48DC-AACC-306B663A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934D-8BFC-41B1-9FA6-54F811E3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3939-AD0D-44A6-AD6A-437C9020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E7CB-CCB0-42AB-9818-4CB698D2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0531-37D9-496C-9002-CF9B4E62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7419-3C50-4277-95D2-01A35F92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F6E-358F-4DC9-8EB1-4B2EFF2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A0B0-4ACE-43D9-B85B-D50154C4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1D7A-98B4-488B-9149-5B8B03F6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C3EF-395E-4D3E-A2B1-E5D390C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0C03-0A82-44E6-9F4E-3B5D8A7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2BA6-6020-48BC-B2B1-8567CDC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D902-A4E6-4A7E-8386-77EA495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E066-683E-4B8D-842F-B0ABB21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9ACC-7581-4C43-A47C-084405A0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8F90-F860-45D9-B08C-B8B51305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4897F-92AA-4EC9-AB04-D95F52E1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CF6-404D-49BF-9951-34EFB0D3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01E5-FC15-4F9E-B5E5-16EDC6B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BFC0-E217-4441-89A1-12CE431A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9B52-6B95-470C-8E44-7FA96B4E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D9F8-CF7D-420B-AE11-D4AB3A46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4E605-926C-402B-A165-A187B742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C932-DE49-4A57-A324-23DB892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36D9-9587-49B3-8B9C-A2CDDE8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06C71-554B-4244-97CE-CAC556EB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D2D3-E941-498B-A644-59510F90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B5B5-094B-4F8F-89D8-05CEE5EE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732-12AB-42C3-B45E-633793F9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3B0E-8EAB-430C-97B6-5DAFB2A5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6E8-A609-41BA-ACC8-BF9D66FB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127-F16F-4AFE-8999-545E3175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EC2-A885-4296-B816-6D69569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7AA2-B25E-428A-8400-B905966994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0DC-0A7D-4215-828D-9428F35224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AD40-9B58-4687-B615-5B349AC53E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5A2-9941-453A-A513-8EC7A3D5FC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DB0F-F5D7-4F98-809A-10CEB539ED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0"/>
          <p:cNvSpPr txBox="1"/>
          <p:nvPr/>
        </p:nvSpPr>
        <p:spPr>
          <a:xfrm>
            <a:off x="1835280" y="2133720"/>
            <a:ext cx="540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扁鹊治病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6597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之家 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11280" y="1484280"/>
            <a:ext cx="806436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王，据我看来，您皮肤上有点小病。要是不治，恐怕会向体内发展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您的病已经发展到皮肉之间了，要不治还会加深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630360" y="620640"/>
            <a:ext cx="8064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王，据我看来，您皮肤上有点小病。要是不治，恐怕会向体内发展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您的病已经发展到皮肉之间了，要不治还会加深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您的病已经发展到肠胃里，再不治会更加严重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蔡桓公的表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蔡桓公说：“我的身体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很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什么病也没有。”扁鹊走后，蔡桓公对左右的人说：“这些做医生的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总喜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给没有病的人治病。医治没有病的人，才容易显示自己的高明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3640" y="1052640"/>
            <a:ext cx="85150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您的病已经发展到皮肉之间了，要不治还会加深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蔡桓公听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很不高兴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没有理睬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他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341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您的病已经发展到肠胃里，再不治会更加严重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蔡桓公听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非常不高兴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789200" y="1834560"/>
            <a:ext cx="4143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9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扁鹊治病"/>
          <p:cNvPicPr/>
          <p:nvPr/>
        </p:nvPicPr>
        <p:blipFill>
          <a:blip r:embed="rId2"/>
          <a:stretch/>
        </p:blipFill>
        <p:spPr>
          <a:xfrm>
            <a:off x="611280" y="0"/>
            <a:ext cx="7885080" cy="6794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水印logo"/>
          <p:cNvPicPr/>
          <p:nvPr/>
        </p:nvPicPr>
        <p:blipFill>
          <a:blip r:embed="rId3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880920" y="69228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皮肤病用热水敷烫就能够治好；发展到皮肉之间，用扎针的方法可以治好；即使发展到肠胃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880920" y="692280"/>
            <a:ext cx="779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皮肉之间，用扎针的方法可以治好；即使发展到肠胃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947880" y="692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肠胃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880920" y="69228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042920" y="1487520"/>
            <a:ext cx="7237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救死扶伤  药到病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妙手回春  对症下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起死回生  杏林春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971640" y="69228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971640" y="62064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5292720" y="141300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966960" y="69228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835280" y="1374840"/>
            <a:ext cx="4760280" cy="1550880"/>
            <a:chOff x="1835280" y="1374840"/>
            <a:chExt cx="4760280" cy="1550880"/>
          </a:xfrm>
        </p:grpSpPr>
        <p:sp>
          <p:nvSpPr>
            <p:cNvPr id="288" name="Line 6"/>
            <p:cNvSpPr/>
            <p:nvPr/>
          </p:nvSpPr>
          <p:spPr>
            <a:xfrm>
              <a:off x="4652640" y="1374840"/>
              <a:ext cx="1942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1835280" y="2925720"/>
              <a:ext cx="100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10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9"/>
          <p:cNvGrpSpPr/>
          <p:nvPr/>
        </p:nvGrpSpPr>
        <p:grpSpPr>
          <a:xfrm>
            <a:off x="880920" y="833400"/>
            <a:ext cx="7561440" cy="2955960"/>
            <a:chOff x="880920" y="833400"/>
            <a:chExt cx="7561440" cy="2955960"/>
          </a:xfrm>
        </p:grpSpPr>
        <p:sp>
          <p:nvSpPr>
            <p:cNvPr id="295" name="Text Box 5"/>
            <p:cNvSpPr/>
            <p:nvPr/>
          </p:nvSpPr>
          <p:spPr>
            <a:xfrm>
              <a:off x="880920" y="833400"/>
              <a:ext cx="75614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皮肤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病用热水敷烫就能够治好；发展到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皮肉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之间，用扎针的方法可以治好；即使发展到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肠胃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里，服几剂汤药也还能治好；一旦深入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骨髓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，只能等死，医生再也无能为力了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6"/>
            <p:cNvSpPr/>
            <p:nvPr/>
          </p:nvSpPr>
          <p:spPr>
            <a:xfrm>
              <a:off x="4427280" y="1557360"/>
              <a:ext cx="194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7"/>
            <p:cNvSpPr/>
            <p:nvPr/>
          </p:nvSpPr>
          <p:spPr>
            <a:xfrm>
              <a:off x="1763640" y="299700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8"/>
            <p:cNvSpPr/>
            <p:nvPr/>
          </p:nvSpPr>
          <p:spPr>
            <a:xfrm>
              <a:off x="6084720" y="3789360"/>
              <a:ext cx="194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10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971640" y="76500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4570560" y="155736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1824120" y="2997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6589800" y="3716280"/>
            <a:ext cx="1654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"/>
          <p:cNvSpPr/>
          <p:nvPr/>
        </p:nvSpPr>
        <p:spPr>
          <a:xfrm>
            <a:off x="7610400" y="1557360"/>
            <a:ext cx="114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3"/>
          <p:cNvSpPr/>
          <p:nvPr/>
        </p:nvSpPr>
        <p:spPr>
          <a:xfrm flipV="1">
            <a:off x="1389240" y="2205000"/>
            <a:ext cx="11556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71640" y="76500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4645080" y="155736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812960" y="2997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6589800" y="371628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2"/>
          <p:cNvGrpSpPr/>
          <p:nvPr/>
        </p:nvGrpSpPr>
        <p:grpSpPr>
          <a:xfrm>
            <a:off x="7359480" y="1557360"/>
            <a:ext cx="647640" cy="100080"/>
            <a:chOff x="7359480" y="1557360"/>
            <a:chExt cx="647640" cy="100080"/>
          </a:xfrm>
        </p:grpSpPr>
        <p:sp>
          <p:nvSpPr>
            <p:cNvPr id="320" name="Oval 10"/>
            <p:cNvSpPr/>
            <p:nvPr/>
          </p:nvSpPr>
          <p:spPr>
            <a:xfrm>
              <a:off x="7359480" y="155736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1"/>
            <p:cNvSpPr/>
            <p:nvPr/>
          </p:nvSpPr>
          <p:spPr>
            <a:xfrm>
              <a:off x="7893000" y="155736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4944960" y="2946240"/>
            <a:ext cx="647640" cy="100080"/>
            <a:chOff x="4944960" y="2946240"/>
            <a:chExt cx="647640" cy="100080"/>
          </a:xfrm>
        </p:grpSpPr>
        <p:sp>
          <p:nvSpPr>
            <p:cNvPr id="323" name="Oval 14"/>
            <p:cNvSpPr/>
            <p:nvPr/>
          </p:nvSpPr>
          <p:spPr>
            <a:xfrm>
              <a:off x="4944960" y="294624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5478480" y="294624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1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971640" y="69228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4587840" y="149688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175572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531120" y="364500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7121520" y="1397160"/>
            <a:ext cx="647640" cy="99720"/>
            <a:chOff x="7121520" y="1397160"/>
            <a:chExt cx="647640" cy="99720"/>
          </a:xfrm>
        </p:grpSpPr>
        <p:sp>
          <p:nvSpPr>
            <p:cNvPr id="335" name="Oval 11"/>
            <p:cNvSpPr/>
            <p:nvPr/>
          </p:nvSpPr>
          <p:spPr>
            <a:xfrm>
              <a:off x="7121520" y="1397160"/>
              <a:ext cx="11448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7655040" y="1397160"/>
              <a:ext cx="11412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5040360" y="2832120"/>
            <a:ext cx="647640" cy="100080"/>
            <a:chOff x="5040360" y="2832120"/>
            <a:chExt cx="647640" cy="100080"/>
          </a:xfrm>
        </p:grpSpPr>
        <p:sp>
          <p:nvSpPr>
            <p:cNvPr id="338" name="Oval 14"/>
            <p:cNvSpPr/>
            <p:nvPr/>
          </p:nvSpPr>
          <p:spPr>
            <a:xfrm>
              <a:off x="5040360" y="283212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5"/>
            <p:cNvSpPr/>
            <p:nvPr/>
          </p:nvSpPr>
          <p:spPr>
            <a:xfrm>
              <a:off x="5573880" y="283212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2627280" y="4437000"/>
            <a:ext cx="647640" cy="100080"/>
            <a:chOff x="2627280" y="4437000"/>
            <a:chExt cx="647640" cy="100080"/>
          </a:xfrm>
        </p:grpSpPr>
        <p:sp>
          <p:nvSpPr>
            <p:cNvPr id="341" name="Oval 17"/>
            <p:cNvSpPr/>
            <p:nvPr/>
          </p:nvSpPr>
          <p:spPr>
            <a:xfrm>
              <a:off x="2627280" y="443700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3160800" y="443700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19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129-0B00-44E4-AB3B-91DC8E06DA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971640" y="76500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4716360" y="155736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839960" y="2997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6445080" y="378936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7750080" y="1457280"/>
            <a:ext cx="647640" cy="100080"/>
            <a:chOff x="7750080" y="1457280"/>
            <a:chExt cx="647640" cy="100080"/>
          </a:xfrm>
        </p:grpSpPr>
        <p:sp>
          <p:nvSpPr>
            <p:cNvPr id="356" name="Oval 11"/>
            <p:cNvSpPr/>
            <p:nvPr/>
          </p:nvSpPr>
          <p:spPr>
            <a:xfrm>
              <a:off x="7750080" y="145728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8283600" y="145728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5040360" y="2997360"/>
            <a:ext cx="647640" cy="99720"/>
            <a:chOff x="5040360" y="2997360"/>
            <a:chExt cx="647640" cy="99720"/>
          </a:xfrm>
        </p:grpSpPr>
        <p:sp>
          <p:nvSpPr>
            <p:cNvPr id="359" name="Oval 14"/>
            <p:cNvSpPr/>
            <p:nvPr/>
          </p:nvSpPr>
          <p:spPr>
            <a:xfrm>
              <a:off x="5040360" y="2997360"/>
              <a:ext cx="11448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5"/>
            <p:cNvSpPr/>
            <p:nvPr/>
          </p:nvSpPr>
          <p:spPr>
            <a:xfrm>
              <a:off x="5573880" y="2997360"/>
              <a:ext cx="11412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9"/>
          <p:cNvGrpSpPr/>
          <p:nvPr/>
        </p:nvGrpSpPr>
        <p:grpSpPr>
          <a:xfrm>
            <a:off x="2505240" y="4437000"/>
            <a:ext cx="647640" cy="100080"/>
            <a:chOff x="2505240" y="4437000"/>
            <a:chExt cx="647640" cy="100080"/>
          </a:xfrm>
        </p:grpSpPr>
        <p:sp>
          <p:nvSpPr>
            <p:cNvPr id="362" name="Oval 20"/>
            <p:cNvSpPr/>
            <p:nvPr/>
          </p:nvSpPr>
          <p:spPr>
            <a:xfrm>
              <a:off x="2505240" y="443700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3038760" y="443700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2"/>
          <p:cNvGrpSpPr/>
          <p:nvPr/>
        </p:nvGrpSpPr>
        <p:grpSpPr>
          <a:xfrm>
            <a:off x="1955880" y="5927760"/>
            <a:ext cx="647640" cy="100080"/>
            <a:chOff x="1955880" y="5927760"/>
            <a:chExt cx="647640" cy="100080"/>
          </a:xfrm>
        </p:grpSpPr>
        <p:sp>
          <p:nvSpPr>
            <p:cNvPr id="365" name="Oval 23"/>
            <p:cNvSpPr/>
            <p:nvPr/>
          </p:nvSpPr>
          <p:spPr>
            <a:xfrm>
              <a:off x="1955880" y="592776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2489400" y="592776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25"/>
          <p:cNvGrpSpPr/>
          <p:nvPr/>
        </p:nvGrpSpPr>
        <p:grpSpPr>
          <a:xfrm>
            <a:off x="1422360" y="5927760"/>
            <a:ext cx="647640" cy="100080"/>
            <a:chOff x="1422360" y="5927760"/>
            <a:chExt cx="647640" cy="100080"/>
          </a:xfrm>
        </p:grpSpPr>
        <p:sp>
          <p:nvSpPr>
            <p:cNvPr id="368" name="Oval 26"/>
            <p:cNvSpPr/>
            <p:nvPr/>
          </p:nvSpPr>
          <p:spPr>
            <a:xfrm>
              <a:off x="1422360" y="592776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7"/>
            <p:cNvSpPr/>
            <p:nvPr/>
          </p:nvSpPr>
          <p:spPr>
            <a:xfrm>
              <a:off x="1955880" y="592776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AutoShape 28"/>
          <p:cNvSpPr/>
          <p:nvPr/>
        </p:nvSpPr>
        <p:spPr>
          <a:xfrm>
            <a:off x="7956720" y="5950080"/>
            <a:ext cx="431640" cy="431640"/>
          </a:xfrm>
          <a:custGeom>
            <a:avLst/>
            <a:gdLst>
              <a:gd name="textAreaLeft" fmla="*/ 27000 w 431640"/>
              <a:gd name="textAreaRight" fmla="*/ 405000 w 431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9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蔡桓公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扁鹊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自己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同学们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0000"/>
          <p:cNvPicPr/>
          <p:nvPr/>
        </p:nvPicPr>
        <p:blipFill>
          <a:blip r:embed="rId2"/>
          <a:stretch/>
        </p:blipFill>
        <p:spPr>
          <a:xfrm>
            <a:off x="2268360" y="765000"/>
            <a:ext cx="4964400" cy="540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2760840" y="112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扁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水印logo"/>
          <p:cNvPicPr/>
          <p:nvPr/>
        </p:nvPicPr>
        <p:blipFill>
          <a:blip r:embed="rId3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68000" y="333000"/>
            <a:ext cx="8280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防患于未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见棺材不落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亡羊补牢，犹未晚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里之堤，溃于蚁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洞不补，大洞吃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听老人言，吃亏在眼前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宁可信其有，不可信其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7777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蔡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桓公  理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睬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肠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敷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烫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   医治   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剂汤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无能为力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扁鹊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治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7" name="Picture 4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扁鹊治病过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扁鹊在蔡桓公身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站了一会儿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说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大王，据我看来，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上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有点小病。要是不治，恐怕会走向体内发展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过了十来天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扁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又来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拜见蔡桓公，说道：“您的病已经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之间了，要不治还会加深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十来天后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扁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再一次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来拜见，对蔡桓公说：“您的病已经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了，再不治会更加严重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又过了十几天，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扁鹊老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望见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蔡桓公，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了几眼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掉头跑了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611280" y="1484280"/>
            <a:ext cx="80643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王，据我看来，您皮肤上有点小病。要是不治，恐怕会向体内发展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4:14:53Z</dcterms:created>
  <dc:creator/>
  <dc:description/>
  <cp:keywords>幻灯片之家 http:/www.eeppt.com</cp:keywords>
  <dc:language>en-US</dc:language>
  <cp:lastModifiedBy/>
  <dcterms:modified xsi:type="dcterms:W3CDTF">2015-07-19T02:40:33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