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A7F-6D36-472C-915F-BACBD4B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F73-1025-42AE-8357-1E81382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535-C480-4400-A627-ACD0A259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918-971F-4CEE-BE41-22844695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1C5-4336-4EA7-A770-FA636A80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0F87-4923-492C-BC89-6561FB7F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E9F3-19F3-425C-8533-C0D7A93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E5DE-58D0-40DC-A052-B362FBA8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A614-B339-48F6-B9B4-56FEBD5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E592-5CF5-4987-AD7B-8C6CB9F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0DDC-6AD1-4FEF-921D-CE571CC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49D-1078-44E6-B295-31B3ABEE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4E9-3AE8-428D-8FF9-B1D6667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BB8-AAB0-4F91-944C-77C8884A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3869-72F9-465C-A24A-390B6BA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1AD0-E1BC-49E1-B58B-218F431F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3FC-99CB-451C-97B8-25FD422F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C5CA-FCA9-4ACE-BD44-53A95448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BEA4-81D9-4137-933B-921A246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300C-A27E-43C5-8912-A9537D95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33B2-80FC-4778-A1FD-65E60979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3D7D-077E-46A3-9E05-27F33D67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3AD-FE43-473E-AA0B-81F40C95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171E-B945-4223-9596-60491DE1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D7F1-8287-4308-A9D6-864267A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E5AE-B292-41A9-A5E9-8951434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83F8-401D-479E-9E34-454BA2D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A5BD-D72C-4549-8E71-BA2FF47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FE81-22C1-46D4-8895-0CCD4F7A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0D03-21FF-4242-97AD-910B7026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089-3D47-4893-B264-6E17E32B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9C1-8D74-4C0C-BCCD-9F70F28A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64E-B53A-4F72-B7C8-5D4E984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00A-F5F9-491B-9748-5A7EB89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5E1-036E-4F50-957E-827B102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578-96E7-46CF-9CB8-7F41732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121"/>
          <p:cNvGrpSpPr/>
          <p:nvPr/>
        </p:nvGrpSpPr>
        <p:grpSpPr>
          <a:xfrm>
            <a:off x="0" y="-4680"/>
            <a:ext cx="1063440" cy="6858000"/>
            <a:chOff x="0" y="-4680"/>
            <a:chExt cx="1063440" cy="6858000"/>
          </a:xfrm>
        </p:grpSpPr>
        <p:grpSp>
          <p:nvGrpSpPr>
            <p:cNvPr id="1" name="组合 5122"/>
            <p:cNvGrpSpPr/>
            <p:nvPr/>
          </p:nvGrpSpPr>
          <p:grpSpPr>
            <a:xfrm>
              <a:off x="41040" y="-4680"/>
              <a:ext cx="1014120" cy="6857640"/>
              <a:chOff x="41040" y="-4680"/>
              <a:chExt cx="1014120" cy="6857640"/>
            </a:xfrm>
          </p:grpSpPr>
          <p:sp>
            <p:nvSpPr>
              <p:cNvPr id="2" name="任意多边形 5123"/>
              <p:cNvSpPr/>
              <p:nvPr/>
            </p:nvSpPr>
            <p:spPr>
              <a:xfrm flipH="1">
                <a:off x="50040" y="-4680"/>
                <a:ext cx="9932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任意多边形 5124"/>
              <p:cNvSpPr/>
              <p:nvPr/>
            </p:nvSpPr>
            <p:spPr>
              <a:xfrm flipH="1">
                <a:off x="48960" y="169200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任意多边形 5125"/>
              <p:cNvSpPr/>
              <p:nvPr/>
            </p:nvSpPr>
            <p:spPr>
              <a:xfrm flipH="1">
                <a:off x="50400" y="12873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任意多边形 5126"/>
              <p:cNvSpPr/>
              <p:nvPr/>
            </p:nvSpPr>
            <p:spPr>
              <a:xfrm flipH="1">
                <a:off x="48960" y="14940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任意多边形 5127"/>
              <p:cNvSpPr/>
              <p:nvPr/>
            </p:nvSpPr>
            <p:spPr>
              <a:xfrm flipH="1">
                <a:off x="50400" y="98496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任意多边形 5128"/>
              <p:cNvSpPr/>
              <p:nvPr/>
            </p:nvSpPr>
            <p:spPr>
              <a:xfrm flipH="1">
                <a:off x="50400" y="680400"/>
                <a:ext cx="9932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任意多边形 5129"/>
              <p:cNvSpPr/>
              <p:nvPr/>
            </p:nvSpPr>
            <p:spPr>
              <a:xfrm flipH="1">
                <a:off x="49320" y="370440"/>
                <a:ext cx="100584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任意多边形 5130"/>
              <p:cNvSpPr/>
              <p:nvPr/>
            </p:nvSpPr>
            <p:spPr>
              <a:xfrm flipH="1">
                <a:off x="40680" y="3938400"/>
                <a:ext cx="993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任意多边形 5131"/>
              <p:cNvSpPr/>
              <p:nvPr/>
            </p:nvSpPr>
            <p:spPr>
              <a:xfrm flipH="1">
                <a:off x="42120" y="35337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任意多边形 5132"/>
              <p:cNvSpPr/>
              <p:nvPr/>
            </p:nvSpPr>
            <p:spPr>
              <a:xfrm flipH="1">
                <a:off x="41040" y="2394360"/>
                <a:ext cx="9932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任意多边形 5133"/>
              <p:cNvSpPr/>
              <p:nvPr/>
            </p:nvSpPr>
            <p:spPr>
              <a:xfrm flipH="1">
                <a:off x="42120" y="323028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任意多边形 5134"/>
              <p:cNvSpPr/>
              <p:nvPr/>
            </p:nvSpPr>
            <p:spPr>
              <a:xfrm flipH="1">
                <a:off x="40680" y="29253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任意多边形 5135"/>
              <p:cNvSpPr/>
              <p:nvPr/>
            </p:nvSpPr>
            <p:spPr>
              <a:xfrm flipH="1">
                <a:off x="42840" y="2617560"/>
                <a:ext cx="1005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任意多边形 5136"/>
              <p:cNvSpPr/>
              <p:nvPr/>
            </p:nvSpPr>
            <p:spPr>
              <a:xfrm flipH="1">
                <a:off x="48600" y="496908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任意多边形 5137"/>
              <p:cNvSpPr/>
              <p:nvPr/>
            </p:nvSpPr>
            <p:spPr>
              <a:xfrm flipH="1">
                <a:off x="50040" y="456444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任意多边形 5138"/>
              <p:cNvSpPr/>
              <p:nvPr/>
            </p:nvSpPr>
            <p:spPr>
              <a:xfrm flipH="1">
                <a:off x="40680" y="567144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任意多边形 5139"/>
              <p:cNvSpPr/>
              <p:nvPr/>
            </p:nvSpPr>
            <p:spPr>
              <a:xfrm flipH="1" rot="16200000">
                <a:off x="365400" y="6182640"/>
                <a:ext cx="345960" cy="994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任意多边形 5140"/>
              <p:cNvSpPr/>
              <p:nvPr/>
            </p:nvSpPr>
            <p:spPr>
              <a:xfrm flipH="1">
                <a:off x="40680" y="62031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任意多边形 5141"/>
              <p:cNvSpPr/>
              <p:nvPr/>
            </p:nvSpPr>
            <p:spPr>
              <a:xfrm flipH="1">
                <a:off x="42840" y="5895000"/>
                <a:ext cx="100584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任意多边形 5142"/>
            <p:cNvSpPr/>
            <p:nvPr/>
          </p:nvSpPr>
          <p:spPr>
            <a:xfrm flipH="1" rot="16200000">
              <a:off x="-3101040" y="3096720"/>
              <a:ext cx="6858000" cy="6552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任意多边形 5143"/>
            <p:cNvSpPr/>
            <p:nvPr/>
          </p:nvSpPr>
          <p:spPr>
            <a:xfrm flipH="1" rot="16200000">
              <a:off x="-25146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C95-9B0C-4A45-8F75-5B0613DCF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C2B-B5CD-499C-982E-E01CB2EC65D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5B7-3D77-4F22-A80F-30721E299E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6145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组合 6146"/>
            <p:cNvGrpSpPr/>
            <p:nvPr/>
          </p:nvGrpSpPr>
          <p:grpSpPr>
            <a:xfrm>
              <a:off x="-3600" y="2479320"/>
              <a:ext cx="9147240" cy="1012680"/>
              <a:chOff x="-3600" y="2479320"/>
              <a:chExt cx="9147240" cy="1012680"/>
            </a:xfrm>
          </p:grpSpPr>
          <p:sp>
            <p:nvSpPr>
              <p:cNvPr id="107" name="任意多边形 6147"/>
              <p:cNvSpPr/>
              <p:nvPr/>
            </p:nvSpPr>
            <p:spPr>
              <a:xfrm flipH="1" rot="5400000">
                <a:off x="4087440" y="-157536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任意多边形 6148"/>
              <p:cNvSpPr/>
              <p:nvPr/>
            </p:nvSpPr>
            <p:spPr>
              <a:xfrm flipH="1" rot="5400000">
                <a:off x="605088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任意多边形 6149"/>
              <p:cNvSpPr/>
              <p:nvPr/>
            </p:nvSpPr>
            <p:spPr>
              <a:xfrm flipH="1" rot="5400000">
                <a:off x="658980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任意多边形 6150"/>
              <p:cNvSpPr/>
              <p:nvPr/>
            </p:nvSpPr>
            <p:spPr>
              <a:xfrm flipH="1" rot="5400000">
                <a:off x="824004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任意多边形 6151"/>
              <p:cNvSpPr/>
              <p:nvPr/>
            </p:nvSpPr>
            <p:spPr>
              <a:xfrm flipH="1" rot="5400000">
                <a:off x="7094880" y="275112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任意多边形 6152"/>
              <p:cNvSpPr/>
              <p:nvPr/>
            </p:nvSpPr>
            <p:spPr>
              <a:xfrm flipH="1" rot="5400000">
                <a:off x="7447320" y="269712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任意多边形 6153"/>
              <p:cNvSpPr/>
              <p:nvPr/>
            </p:nvSpPr>
            <p:spPr>
              <a:xfrm flipH="1" rot="5400000">
                <a:off x="789084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任意多边形 6154"/>
              <p:cNvSpPr/>
              <p:nvPr/>
            </p:nvSpPr>
            <p:spPr>
              <a:xfrm flipH="1" rot="5400000">
                <a:off x="305388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任意多边形 6155"/>
              <p:cNvSpPr/>
              <p:nvPr/>
            </p:nvSpPr>
            <p:spPr>
              <a:xfrm flipH="1" rot="5400000">
                <a:off x="3592800" y="264168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任意多边形 6156"/>
              <p:cNvSpPr/>
              <p:nvPr/>
            </p:nvSpPr>
            <p:spPr>
              <a:xfrm flipH="1" rot="5400000">
                <a:off x="524628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任意多边形 6157"/>
              <p:cNvSpPr/>
              <p:nvPr/>
            </p:nvSpPr>
            <p:spPr>
              <a:xfrm flipH="1" rot="5400000">
                <a:off x="4099320" y="274320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任意多边形 6158"/>
              <p:cNvSpPr/>
              <p:nvPr/>
            </p:nvSpPr>
            <p:spPr>
              <a:xfrm flipH="1" rot="5400000">
                <a:off x="44524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任意多边形 6159"/>
              <p:cNvSpPr/>
              <p:nvPr/>
            </p:nvSpPr>
            <p:spPr>
              <a:xfrm flipH="1" rot="5400000">
                <a:off x="4892760" y="273240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任意多边形 6160"/>
              <p:cNvSpPr/>
              <p:nvPr/>
            </p:nvSpPr>
            <p:spPr>
              <a:xfrm flipH="1" rot="5400000">
                <a:off x="167904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6161"/>
              <p:cNvSpPr/>
              <p:nvPr/>
            </p:nvSpPr>
            <p:spPr>
              <a:xfrm flipH="1" rot="5400000">
                <a:off x="221796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6162"/>
              <p:cNvSpPr/>
              <p:nvPr/>
            </p:nvSpPr>
            <p:spPr>
              <a:xfrm flipH="1" rot="5400000">
                <a:off x="87408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任意多边形 6163"/>
              <p:cNvSpPr/>
              <p:nvPr/>
            </p:nvSpPr>
            <p:spPr>
              <a:xfrm flipH="1">
                <a:off x="-3960" y="247968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任意多边形 6164"/>
              <p:cNvSpPr/>
              <p:nvPr/>
            </p:nvSpPr>
            <p:spPr>
              <a:xfrm flipH="1" rot="5400000">
                <a:off x="8064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任意多边形 6165"/>
              <p:cNvSpPr/>
              <p:nvPr/>
            </p:nvSpPr>
            <p:spPr>
              <a:xfrm flipH="1" rot="5400000">
                <a:off x="520920" y="273240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任意多边形 6166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6167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939-E3A1-4931-91F8-D661BB2B7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Times New Roman"/>
                <a:ea typeface="宋体"/>
              </a:rPr>
              <a:t>财务报表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按有关规定，分为新设项目法人项目和既有项目法人项目两类分别进行评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资本金财务现金流量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资本金的角度考虑项目的收益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资本金利润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利润总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目资本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财务上的杠杆效应可深入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324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905120" y="533520"/>
          <a:ext cx="6095880" cy="6559560"/>
        </p:xfrm>
        <a:graphic>
          <a:graphicData uri="http://schemas.openxmlformats.org/drawingml/2006/table">
            <a:tbl>
              <a:tblPr/>
              <a:tblGrid>
                <a:gridCol w="609480"/>
                <a:gridCol w="2286000"/>
                <a:gridCol w="609840"/>
                <a:gridCol w="609480"/>
                <a:gridCol w="685800"/>
                <a:gridCol w="762120"/>
                <a:gridCol w="53316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固定资产余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流动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资本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款本金偿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款利息支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得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净现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金流入项目与全部资金的现金流量表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目资本金包括固定资产投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设投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流动投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借款本金偿还与利息支付可参照借款偿还表中的项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表中有所得税一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考虑的是所得税后的资本金盈利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损益和利润分配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两个部分构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前半部分反映利润的实现情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后半部分反映利润的分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-36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457200"/>
          <a:ext cx="6858000" cy="6767640"/>
        </p:xfrm>
        <a:graphic>
          <a:graphicData uri="http://schemas.openxmlformats.org/drawingml/2006/table">
            <a:tbl>
              <a:tblPr/>
              <a:tblGrid>
                <a:gridCol w="533520"/>
                <a:gridCol w="3124080"/>
                <a:gridCol w="685800"/>
                <a:gridCol w="609480"/>
                <a:gridCol w="609840"/>
                <a:gridCol w="609480"/>
                <a:gridCol w="685800"/>
              </a:tblGrid>
              <a:tr h="366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成本费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润总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-2-3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弥补以前年度亏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纳税所得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-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得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税后利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-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取法定盈余公积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取公益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取任意盈余公积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供分配利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-10-11-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付利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未分配利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3-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未分配利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弥补以前年度亏损是指按照企业财务通则，在五年之内的亏损可以在交纳所得税前弥补（从而减少所得税，这是一种税收优惠），在填表时该项只影响所得税，不影响税后利润的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法定盈余公积金与公益金是必须的，而任意盈余公积金可根据具体情况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未分配利润是指该年度用折旧、摊销等偿还本年应还借款本金尚有不足时，用税后利润来偿还的差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资金来源与运用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于反映项目计算期内各年的投资、融资及生产经营活动的资金流入、流出情况，以考察项目的资金平衡和余缺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该表的作用包括：选择资金筹措方案，编制借款偿还计划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76520" y="228600"/>
          <a:ext cx="6476760" cy="7032600"/>
        </p:xfrm>
        <a:graphic>
          <a:graphicData uri="http://schemas.openxmlformats.org/drawingml/2006/table">
            <a:tbl>
              <a:tblPr/>
              <a:tblGrid>
                <a:gridCol w="685440"/>
                <a:gridCol w="2133720"/>
                <a:gridCol w="761760"/>
                <a:gridCol w="762120"/>
                <a:gridCol w="685800"/>
                <a:gridCol w="762120"/>
                <a:gridCol w="685800"/>
              </a:tblGrid>
              <a:tr h="311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资金流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期借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短期借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行债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资本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资金流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得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设投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利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流动资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息支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金偿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股利分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付利润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盈余资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盈余资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原表有所不同，销售收入作为了现金流入，而将经营成本等作为现金流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借款偿还计划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目的：反映项目在计算期内各年借款的使用、还本付息情况，以及偿债资金来源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表的用途包括：考察项目的最大还款能力（借款偿还期），考察项目在借款偿还期间的偿债能力（利息备付率和偿债备付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不考虑发行债券情况，该表的编制主要考虑两个部分，即借款偿还部分和还款来源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基础报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销售收入、税金及附加和增值税估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投入物和产出物的价格采用的是预测市场价格，可采用固定价格（用于计算期较短的项目）和变动价格（盈利能力分析时用相对价格变动，偿债能力分析时应考虑通货膨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理计算各项税费，一般分为营业税及附加、增值税、所得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理确定项目在生产期间的生产能力发挥程度，即生产负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057400" y="1143000"/>
          <a:ext cx="6095880" cy="4572000"/>
        </p:xfrm>
        <a:graphic>
          <a:graphicData uri="http://schemas.openxmlformats.org/drawingml/2006/table">
            <a:tbl>
              <a:tblPr/>
              <a:tblGrid>
                <a:gridCol w="685800"/>
                <a:gridCol w="2362320"/>
                <a:gridCol w="609480"/>
                <a:gridCol w="457200"/>
                <a:gridCol w="533520"/>
                <a:gridCol w="533160"/>
                <a:gridCol w="381240"/>
                <a:gridCol w="5331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初本息余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年借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年应计利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年还本付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还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付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末借款余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3805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981080" y="1447920"/>
          <a:ext cx="6095880" cy="4135320"/>
        </p:xfrm>
        <a:graphic>
          <a:graphicData uri="http://schemas.openxmlformats.org/drawingml/2006/table">
            <a:tbl>
              <a:tblPr/>
              <a:tblGrid>
                <a:gridCol w="609480"/>
                <a:gridCol w="3276720"/>
                <a:gridCol w="533520"/>
                <a:gridCol w="304560"/>
                <a:gridCol w="381240"/>
                <a:gridCol w="304560"/>
                <a:gridCol w="381240"/>
                <a:gridCol w="304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还本资金来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当年可用于还本的未分配利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当年可用于还本的折旧和摊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前年度结余可用于还本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于还本的短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用于还款的其他资金来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-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总成本费用估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本费用分类多样，如分为固定成本与变动成本（用于盈亏平衡分析）、按制造成本法、按要素估算法等，在财务评价中主要是按经营成本方式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营成本又称付现成本，但注意不包括财务费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固定成本与变动成本的划分可依照制造成本法，对长期借款利息应视为固定成本，流动借款利息具有半固定成本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23880" y="609480"/>
          <a:ext cx="7010280" cy="7153200"/>
        </p:xfrm>
        <a:graphic>
          <a:graphicData uri="http://schemas.openxmlformats.org/drawingml/2006/table">
            <a:tbl>
              <a:tblPr/>
              <a:tblGrid>
                <a:gridCol w="609480"/>
                <a:gridCol w="2971800"/>
                <a:gridCol w="685800"/>
                <a:gridCol w="838440"/>
                <a:gridCol w="838080"/>
                <a:gridCol w="1066680"/>
              </a:tblGrid>
              <a:tr h="398520">
                <a:tc rowSpan="2">
                  <a:txBody>
                    <a:bodyPr lIns="38160" rIns="3816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 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购原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购燃料及动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资及福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修理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折旧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维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摊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财务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费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如土地使用费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成本费用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中：固定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动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5-6-7-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购原材料费用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购燃料动力费用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资及福利费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6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固定资产折旧费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固定资产原值应考虑固定资产投资的构成，特别是预备费和建设期利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折旧应考虑折旧方法，是直线折旧还是加速折旧，应根据不同的战略确定折旧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7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形及递延资产摊销费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项目财务现金流量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途：计算项目财务内 部收益率、财务净现值等指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制原则：不分资金来源，只考虑流入与流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进：由于对项目而言，不同的融资方案会产生不同的利率，不同的税收政策也会带来不同的影响，因此为保持方案的可比性，应在表中不考虑利息支出与所得税，即讨论的是项目的息前税前盈利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47920" y="609480"/>
          <a:ext cx="6476760" cy="7480440"/>
        </p:xfrm>
        <a:graphic>
          <a:graphicData uri="http://schemas.openxmlformats.org/drawingml/2006/table">
            <a:tbl>
              <a:tblPr/>
              <a:tblGrid>
                <a:gridCol w="609120"/>
                <a:gridCol w="2438640"/>
                <a:gridCol w="761760"/>
                <a:gridCol w="762120"/>
                <a:gridCol w="685800"/>
                <a:gridCol w="609480"/>
                <a:gridCol w="609840"/>
              </a:tblGrid>
              <a:tr h="412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固定资产余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流动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设投资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利息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流动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净现金流量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净现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收固定资产余值应考虑资产折旧期限与项目计算期的差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项目期末折旧没有提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余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原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期内累计已提折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流动资金回收不分自有与借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也不考虑损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此其金额应与投入的资金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设投资即统计口径的固定资产投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不包括建设期利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营成本可根据总成本费用表计算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增值税需考虑销项与进项的差异进行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2:19Z</dcterms:created>
  <dc:creator/>
  <dc:description/>
  <cp:keywords>财务 报表</cp:keywords>
  <dc:language>en-US</dc:language>
  <cp:lastModifiedBy>An</cp:lastModifiedBy>
  <dcterms:modified xsi:type="dcterms:W3CDTF">2016-05-01T01:02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