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  <p:custShowLst>
    <p:custShow name="自定义放映2" id="0">
      <p:sldLst>
        <p:sld r:id="rId8"/>
        <p:sld r:id="rId9"/>
        <p:sld r:id="rId10"/>
        <p:sld r:id="rId1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D2F1-22C5-4D17-A22C-141F0344C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0435-8A1E-4FD5-A39A-57AA3168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6C4B-BC7E-4C60-AB4C-5FBA611DC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EA2B-B5FD-4F4F-8840-5869B3848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700A-60D1-49CD-A0E0-239AE669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7BCA-4DDC-4222-8155-CCD63865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3945-6909-4BC7-AE33-D3263560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7981-3D38-4B31-A955-35921319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F992-388F-411D-A9A8-6F28C9A0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4513-09EC-4AC8-A7E5-D4A1E921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B497-0934-4E56-83B6-4813FE3B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1C11-C9E4-4E92-A598-2BA7EA03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3886200" y="0"/>
            <a:ext cx="5257800" cy="6858000"/>
          </a:xfrm>
          <a:prstGeom prst="rect">
            <a:avLst/>
          </a:prstGeom>
          <a:solidFill>
            <a:srgbClr val="8dc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" name="Picture 17" descr="education 2-2"/>
          <p:cNvPicPr/>
          <p:nvPr/>
        </p:nvPicPr>
        <p:blipFill>
          <a:blip r:embed="rId3"/>
          <a:stretch/>
        </p:blipFill>
        <p:spPr>
          <a:xfrm>
            <a:off x="0" y="0"/>
            <a:ext cx="40291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1AB3-1AA6-45D3-9FDC-F1A24E548BD5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HIMES.WAV" TargetMode="External"/><Relationship Id="rId2" Type="http://schemas.microsoft.com/office/2007/relationships/media" Target="file:///tmp/home/.config/libreoffice/4/user/gallery/CHIMES.WAV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5" name="Picture 5" descr="《称象》曹冲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4600" y="5302080"/>
            <a:ext cx="134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a0a0d"/>
                </a:solidFill>
                <a:latin typeface="Times New Roman"/>
              </a:rPr>
              <a:t>《称象》课件</a:t>
            </a:r>
            <a:r>
              <a:rPr b="0" lang="en-US" sz="3200" spc="-1" strike="noStrike">
                <a:solidFill>
                  <a:srgbClr val="0a0a0d"/>
                </a:solidFill>
                <a:latin typeface="Times New Roman"/>
              </a:rPr>
              <a:t>PP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imes New Roman"/>
                <a:ea typeface="宋体"/>
              </a:rPr>
              <a:t>      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-36360" y="-27000"/>
            <a:ext cx="91440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先把大象（               ）一艘大船上，看船身下沉多少，就（               ）水面，在船舷上（              ）。再把大象（                 ），往船上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。等船下沉到画线的地方，（                  ）船上的石头。这样，就称出了大象的重量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3708360" y="11592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赶  到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6156360" y="105264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沿  着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4067280" y="198900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画  线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611280" y="299736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赶上岸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5508720" y="2997360"/>
            <a:ext cx="23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装石头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6227640" y="3860640"/>
            <a:ext cx="23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称 一 称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1023840" y="1851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73512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0" y="260280"/>
            <a:ext cx="9144000" cy="51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我觉得曹冲是一个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            )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的人。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我长大了，要做一个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(                                                          )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的人。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4120920" y="105264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聪明、爱动脑筋，遇到问题善于动脑筋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0" y="0"/>
            <a:ext cx="903600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00b5b"/>
                </a:solidFill>
                <a:latin typeface="Times New Roman"/>
              </a:rPr>
              <a:t>冒号、引号的用法。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00b5b"/>
                </a:solidFill>
                <a:latin typeface="Times New Roman"/>
              </a:rPr>
              <a:t>      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00b5b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200b5b"/>
                </a:solidFill>
                <a:latin typeface="Times New Roman"/>
              </a:rPr>
              <a:t>曹操问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200b5b"/>
                </a:solidFill>
                <a:latin typeface="Times New Roman"/>
              </a:rPr>
              <a:t>谁有办法把这头大象称一称？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”</a:t>
            </a:r>
            <a:r>
              <a:rPr b="1" lang="zh-CN" sz="4800" spc="-1" strike="noStrike">
                <a:solidFill>
                  <a:srgbClr val="200b5b"/>
                </a:solidFill>
                <a:latin typeface="Times New Roman"/>
              </a:rPr>
              <a:t>有的说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200b5b"/>
                </a:solidFill>
                <a:latin typeface="Times New Roman"/>
              </a:rPr>
              <a:t>得造一杆大秤，砍一棵大树做秤杆。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”</a:t>
            </a:r>
            <a:r>
              <a:rPr b="1" lang="zh-CN" sz="4800" spc="-1" strike="noStrike">
                <a:solidFill>
                  <a:srgbClr val="200b5b"/>
                </a:solidFill>
                <a:latin typeface="Times New Roman"/>
              </a:rPr>
              <a:t>有的说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200b5b"/>
                </a:solidFill>
                <a:latin typeface="Times New Roman"/>
              </a:rPr>
              <a:t>有了大秤也不成啊，谁有那么大的力气提得起这杆大秤呢？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”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566100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447840" y="914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08200" y="1130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0" y="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00b5b"/>
                </a:solidFill>
                <a:latin typeface="Times New Roman"/>
              </a:rPr>
              <a:t>练习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00b5b"/>
                </a:solidFill>
                <a:latin typeface="Times New Roman"/>
              </a:rPr>
              <a:t>（</a:t>
            </a:r>
            <a:r>
              <a:rPr b="1" lang="en-US" sz="4400" spc="-1" strike="noStrike">
                <a:solidFill>
                  <a:srgbClr val="200b5b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200b5b"/>
                </a:solidFill>
                <a:latin typeface="Times New Roman"/>
              </a:rPr>
              <a:t>）曹操问      谁有办法把这头大象称一称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0b5b"/>
                </a:solidFill>
                <a:latin typeface="Times New Roman"/>
              </a:rPr>
              <a:t>(2)</a:t>
            </a:r>
            <a:r>
              <a:rPr b="1" lang="zh-CN" sz="4400" spc="-1" strike="noStrike">
                <a:solidFill>
                  <a:srgbClr val="200b5b"/>
                </a:solidFill>
                <a:latin typeface="Times New Roman"/>
              </a:rPr>
              <a:t>曹冲站出来说       我有办法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00b5b"/>
                </a:solidFill>
                <a:latin typeface="Times New Roman"/>
              </a:rPr>
              <a:t>（</a:t>
            </a:r>
            <a:r>
              <a:rPr b="1" lang="en-US" sz="4400" spc="-1" strike="noStrike">
                <a:solidFill>
                  <a:srgbClr val="200b5b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200b5b"/>
                </a:solidFill>
                <a:latin typeface="Times New Roman"/>
              </a:rPr>
              <a:t>）他大声喊       快回来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3203640" y="9079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2987640" y="620640"/>
            <a:ext cx="153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“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2413080" y="1341360"/>
            <a:ext cx="71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?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”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3995640" y="256536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“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7451640" y="2637000"/>
            <a:ext cx="16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。</a:t>
            </a:r>
            <a:r>
              <a:rPr b="0" lang="zh-CN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”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3564000" y="386064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“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6372360" y="4005360"/>
            <a:ext cx="16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!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”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ff33cc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0"/>
            <a:ext cx="91440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读读下面的词语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Times New Roman"/>
              </a:rPr>
              <a:t>称象    柱子    议论      大秤   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Times New Roman"/>
              </a:rPr>
              <a:t>一艘    船舷    官员们    宰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Times New Roman"/>
              </a:rPr>
              <a:t>割        线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4048200" y="5667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08000" y="544500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得 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(děi)</a:t>
            </a:r>
            <a:r>
              <a:rPr b="1" lang="zh-CN" sz="5400" spc="-1" strike="noStrike">
                <a:solidFill>
                  <a:srgbClr val="200b5b"/>
                </a:solidFill>
                <a:latin typeface="Times New Roman"/>
              </a:rPr>
              <a:t>造一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杆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(gǎn)</a:t>
            </a:r>
            <a:r>
              <a:rPr b="1" lang="zh-CN" sz="5400" spc="-1" strike="noStrike">
                <a:solidFill>
                  <a:srgbClr val="200b5b"/>
                </a:solidFill>
                <a:latin typeface="Times New Roman"/>
              </a:rPr>
              <a:t>大秤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D77D-EF24-48E8-90F0-FE32CC6DD1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231840" y="193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663480" y="843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735120" y="985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0" y="1159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读一读，比较每组中的两句话意思有什么不同。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曹操听了摇头。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曹操听了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Times New Roman"/>
              </a:rPr>
              <a:t>直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摇头。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0" y="3860640"/>
            <a:ext cx="70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1675080" y="3933720"/>
            <a:ext cx="4184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曹操的儿子曹冲七岁。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曹操的儿子曹冲</a:t>
            </a:r>
            <a:r>
              <a:rPr b="1" lang="zh-CN" sz="4800" spc="-1" strike="noStrike" u="sng">
                <a:solidFill>
                  <a:srgbClr val="ff3300"/>
                </a:solidFill>
                <a:uFillTx/>
                <a:latin typeface="Times New Roman"/>
              </a:rPr>
              <a:t>才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七岁。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0" y="6602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听到称大象的方法，曹冲想：</a:t>
            </a:r>
            <a:r>
              <a:rPr b="1" lang="zh-CN" sz="4800" spc="-1" strike="noStrike">
                <a:solidFill>
                  <a:srgbClr val="eaeaea"/>
                </a:solidFill>
                <a:latin typeface="Times New Roman"/>
              </a:rPr>
              <a:t>               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0" y="310824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听到宰大象的方法，曹冲想：                              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680760" y="1808280"/>
            <a:ext cx="269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用船当大称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108000" y="3860640"/>
            <a:ext cx="1297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用石头代替大象，可以一块一块地称</a:t>
            </a: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)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                          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0" y="4797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如果我是曹冲，还会想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: (                        )             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称象第一步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: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赶象上船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,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沿水面画线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6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523880" y="1523880"/>
            <a:ext cx="640080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宋体"/>
              </a:rPr>
              <a:t>称象第二步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宋体"/>
              </a:rPr>
              <a:t>: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宋体"/>
              </a:rPr>
              <a:t>赶象上岸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宋体"/>
              </a:rPr>
              <a:t>,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宋体"/>
              </a:rPr>
              <a:t>船装石头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68" name="曹冲称象1.avi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17220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宋体"/>
              </a:rPr>
              <a:t>称象第三步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宋体"/>
              </a:rPr>
              <a:t>: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宋体"/>
              </a:rPr>
              <a:t>船沉画线处，称石头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70" name="曹冲称象2.avi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5257800" cy="3852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宋体"/>
              </a:rPr>
              <a:t>称象第四步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  <a:ea typeface="宋体"/>
              </a:rPr>
              <a:t>: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宋体"/>
              </a:rPr>
              <a:t>计算石头总重量</a:t>
            </a:r>
            <a:endParaRPr b="0" lang="en-US" sz="48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73" name="Picture 6" descr="秤"/>
          <p:cNvPicPr/>
          <p:nvPr/>
        </p:nvPicPr>
        <p:blipFill>
          <a:blip r:embed="rId1"/>
          <a:stretch/>
        </p:blipFill>
        <p:spPr>
          <a:xfrm>
            <a:off x="1523880" y="1676520"/>
            <a:ext cx="57913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0T05:24:00Z</dcterms:created>
  <dc:creator/>
  <dc:description/>
  <cp:keywords>幻灯片之家 http:/www.eeppt.com</cp:keywords>
  <dc:language>en-US</dc:language>
  <cp:lastModifiedBy/>
  <dcterms:modified xsi:type="dcterms:W3CDTF">2015-07-03T11:12:36Z</dcterms:modified>
  <cp:revision>3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ersion">
    <vt:r8>1</vt:r8>
  </property>
</Properties>
</file>