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85D-A861-413A-9ED0-E38C9876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A7D-943C-4E00-BDA1-D6BF2A44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79F-C353-4E54-A4EB-99E91681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2B7-0751-43BF-AD2A-9ACE87A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154E-C4CD-451D-A3F9-AF6F067D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C67-0FBA-4F89-8EB5-1AB3B719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2BD-C007-48F5-B581-7E3887B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A621-1790-456F-9600-65665F6A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96A0-E2DA-4F81-BE41-419C19FE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0A4-295B-463C-A526-A0951B09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6F7E-80ED-4C62-A6A5-271E0ED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0C3-ACD9-4E1A-94C0-AF2D6F09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14E-6F33-437E-9D86-C381B34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705-CFFC-49B4-9946-FBAF5348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7B5A-3A59-48CD-ACAC-A44CAF3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09F1-2058-44AA-90E0-6E221EF2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8D5F-4465-4496-ACFF-C1C690A8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9F4B-F613-4E8C-926F-D7888A22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B31B-6DBA-4D9E-A59C-A2C6169D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ABE8-D0C1-4D99-9BFA-97E129B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504D-E9EA-4F80-BC00-53015F63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A10C-785A-4FA2-A0B4-ACC8E54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F81-F7D0-493E-8797-4E353E9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3497-5F08-4F41-B197-F014311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E8B7-9A44-4C84-BC2E-95EC644A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62CB-DD69-4525-9898-88FB85B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8461-D4F5-4D2E-9087-81D07FBE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B01E-33FA-4D6F-979A-43EB8363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0A8C-1701-4513-B0D2-A9C9D811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5225-CBC4-4CA9-A933-FA0CA585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533-A7F3-4F9D-A293-2EBEEAD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32B-5CE2-47D5-A1B8-5D25E10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4D3-F5AA-45DA-BB96-84A7655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7A7-BE21-4567-A016-6211AC7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505-CBAD-47DE-B7A3-05077BD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30A-6B55-489F-9011-B0CC406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8433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矩形 18434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" name="图片 18435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749C-F1C6-4A71-A1D4-545036F148B1}" type="slidenum">
              <a:rPr b="0" lang="zh-CN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1B30-955C-4A91-B7E2-ED2F3931374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E984-F27C-45FD-8E32-DA9B2FC4C6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9457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16F2-FCF1-401B-812D-0D7F5A9F7122}" type="slidenum">
              <a:rPr b="0" lang="zh-CN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563904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短期资金的筹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短期资金的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筹资成本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风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筹资速度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筹资机动性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内容占位符 4102" descr="dw17"/>
          <p:cNvPicPr/>
          <p:nvPr/>
        </p:nvPicPr>
        <p:blipFill>
          <a:blip r:embed="rId1"/>
          <a:stretch/>
        </p:blipFill>
        <p:spPr>
          <a:xfrm>
            <a:off x="8172360" y="5516640"/>
            <a:ext cx="600120" cy="955440"/>
          </a:xfrm>
          <a:prstGeom prst="rect">
            <a:avLst/>
          </a:prstGeom>
          <a:ln w="0">
            <a:noFill/>
          </a:ln>
        </p:spPr>
      </p:pic>
      <p:sp>
        <p:nvSpPr>
          <p:cNvPr id="129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971440" y="838080"/>
            <a:ext cx="52038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一、商业信用的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2/1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n/3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00400" y="990360"/>
            <a:ext cx="5051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（一）无成本的商业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折扣期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（二）有成本的商业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超过折扣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90920" y="152280"/>
            <a:ext cx="58672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二、商业信用的成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2/1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n/3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00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成本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使用代价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使用的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20/980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60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0-1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1000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2%/100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-2%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60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0-1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折扣百分比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-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折扣百分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60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信用期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折扣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放弃折扣的成本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40000" y="40464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三、商业信用筹资决策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一）不打算享用：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二）打算享用：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三）与筹资成本、投资收益率的关系：</a:t>
            </a: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筹资成本低于放弃折扣的成本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→</a:t>
            </a: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享受；投资的收益率高于放弃折扣的成本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→</a:t>
            </a: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放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352320" y="304920"/>
            <a:ext cx="342900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流动负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短期借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应付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应付票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预收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666520" y="1066680"/>
            <a:ext cx="61182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第一节   银行信用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P27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一、银行信用的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一）信用贷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二）抵押贷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三）贴现借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90560" y="914400"/>
            <a:ext cx="60418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（一）信用贷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信用额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99"/>
                </a:solidFill>
                <a:latin typeface="Arial"/>
                <a:ea typeface="黑体"/>
              </a:rPr>
              <a:t>⒉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sz="3200" spc="-1" strike="noStrike">
                <a:solidFill>
                  <a:srgbClr val="000099"/>
                </a:solidFill>
                <a:latin typeface="Arial"/>
                <a:ea typeface="黑体"/>
              </a:rPr>
              <a:t>周转信贷协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万 ；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7.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7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270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00"/>
                </a:solidFill>
                <a:uFillTx/>
                <a:latin typeface="Arial"/>
                <a:ea typeface="黑体"/>
              </a:rPr>
              <a:t>信用额度与周转信贷协定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周转信贷协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法律约束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信用额度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承诺费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0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70×0.2%×6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971800" y="609120"/>
            <a:ext cx="550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二、银行信用的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单利法（收款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实际利率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名义利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⒉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贴现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实际利率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&gt;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名义利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339640" y="404280"/>
            <a:ext cx="665172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黑体"/>
              </a:rPr>
              <a:t>⒊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分期付款法（附加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约为名义利率的两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实际利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利息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贷款金额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/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黑体"/>
              </a:rPr>
              <a:t>⒋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补偿性余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实际利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名义利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－补偿性余额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7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7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7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7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7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7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666520" y="380880"/>
            <a:ext cx="5715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三、银行信用筹资的优缺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一）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短期借款筹资比较方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⒉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弹性较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二）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资本成本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⒉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限制较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819160" y="609480"/>
            <a:ext cx="5584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第二节  商业信用筹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商业信用产生的根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预收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应付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商业票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自发性的资金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4:39Z</dcterms:created>
  <dc:creator/>
  <dc:description/>
  <cp:keywords>短期资金 筹集</cp:keywords>
  <dc:language>en-US</dc:language>
  <cp:lastModifiedBy>An</cp:lastModifiedBy>
  <dcterms:modified xsi:type="dcterms:W3CDTF">2016-05-01T00:54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