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8F2D3-5294-4238-B065-CF884B6A3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ACE4F-A2CF-444D-B3E9-4AD03621F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A0895-33F9-427D-B23E-87289AD0F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E5ED6-B49E-4DBA-8686-5D757FE1F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2F35C-BE58-48C3-B2C5-1CC19B362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0C110-0ECB-47B8-80A7-87ED5876C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949A2-6AB3-496E-AC61-919469A0C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57F6F-2BB5-4B42-8ED8-6B52C407D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ABF69-50AB-4DD6-9058-F4CAEC90B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F3B1E-6286-44D8-A320-7F1BF3B7E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CA221-F078-439F-9377-9E194AC9C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4E22F-FEFA-4B90-919B-F674D4D3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A7F30-7997-48B0-BCC2-FDF2944D6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9754-5FF0-41E7-AE2E-EB9058BFA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F13EA-6253-4748-AFF2-6F94B5D68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CDBCD-F3CE-4A06-A363-FBCDF4A19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83B46-2A9F-4536-8A93-C3BBEEA8F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235E91-27CF-48AC-B8B8-601FE3E912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6DC69-FE6D-4C7E-8D49-712499701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17F90-7700-44BC-916E-EC2D821BD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632D1-2B22-4EDC-924E-900D920C8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0DDB0-D81B-4646-AACE-8A3F9B74B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08CB-25F0-47DC-94E3-BE3C5CDBA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BE235-E9D1-4EF4-96F5-D9E4C1E5C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E11EE-9537-4BB3-88CF-DE6AB15F0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1CC52-D3C7-4175-BD39-F08C1EAAE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10194-5AC5-4E5D-B33E-914827347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0D687-16DD-42CC-8831-26624D844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7D36E-9000-47E6-8A1A-1C3490BD52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5FC05-2836-4807-A1C2-6FBB860A4C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DB329-E01F-49B4-BCEB-AB82C3678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D323-D8B5-4CE4-B9BF-EE95E50D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07AD-2DED-41EE-B8A2-29E514451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F308-E4BC-46DE-B2EF-1D06A7C0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03C9-CD69-4F57-A744-0B7ECA77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8318-B46B-4AF3-8354-EEB1FFD49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96257"/>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矩形 96258"/>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矩形 96259"/>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矩形 96260"/>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矩形 96261"/>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矩形 96262"/>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矩形 96263"/>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8C25-16B7-445C-AD6B-2343A4C85C1B}"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 name="图片 96269" descr="bkg"/>
          <p:cNvPicPr/>
          <p:nvPr/>
        </p:nvPicPr>
        <p:blipFill>
          <a:blip r:embed="rId2"/>
          <a:stretch/>
        </p:blipFill>
        <p:spPr>
          <a:xfrm>
            <a:off x="0" y="5181480"/>
            <a:ext cx="2743200" cy="138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4F90-F8F4-4C6E-8FC9-F6107B1E6F40}"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9FEE-FBEC-4BE3-8E10-A910F34B465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组合 97281"/>
          <p:cNvGrpSpPr/>
          <p:nvPr/>
        </p:nvGrpSpPr>
        <p:grpSpPr>
          <a:xfrm>
            <a:off x="0" y="2438280"/>
            <a:ext cx="9009000" cy="1052640"/>
            <a:chOff x="0" y="2438280"/>
            <a:chExt cx="9009000" cy="1052640"/>
          </a:xfrm>
        </p:grpSpPr>
        <p:grpSp>
          <p:nvGrpSpPr>
            <p:cNvPr id="91" name="组合 97282"/>
            <p:cNvGrpSpPr/>
            <p:nvPr/>
          </p:nvGrpSpPr>
          <p:grpSpPr>
            <a:xfrm>
              <a:off x="290520" y="2546280"/>
              <a:ext cx="711360" cy="474840"/>
              <a:chOff x="290520" y="2546280"/>
              <a:chExt cx="711360" cy="474840"/>
            </a:xfrm>
          </p:grpSpPr>
          <p:sp>
            <p:nvSpPr>
              <p:cNvPr id="92" name="矩形 9728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矩形 97284"/>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 name="组合 97285"/>
            <p:cNvGrpSpPr/>
            <p:nvPr/>
          </p:nvGrpSpPr>
          <p:grpSpPr>
            <a:xfrm>
              <a:off x="414360" y="2968560"/>
              <a:ext cx="737640" cy="474840"/>
              <a:chOff x="414360" y="2968560"/>
              <a:chExt cx="737640" cy="474840"/>
            </a:xfrm>
          </p:grpSpPr>
          <p:sp>
            <p:nvSpPr>
              <p:cNvPr id="95" name="矩形 9728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矩形 97287"/>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矩形 9728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矩形 9728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矩形 97290"/>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图片 97296" descr="logo"/>
          <p:cNvPicPr/>
          <p:nvPr/>
        </p:nvPicPr>
        <p:blipFill>
          <a:blip r:embed="rId2"/>
          <a:stretch/>
        </p:blipFill>
        <p:spPr>
          <a:xfrm>
            <a:off x="0" y="5475240"/>
            <a:ext cx="2590920" cy="1382760"/>
          </a:xfrm>
          <a:prstGeom prst="rect">
            <a:avLst/>
          </a:prstGeom>
          <a:ln w="0">
            <a:noFill/>
          </a:ln>
        </p:spPr>
      </p:pic>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0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3"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9333-6482-46F1-9AA3-8E1B86302891}"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imes New Roman"/>
                <a:ea typeface="DFKai-SB"/>
              </a:rPr>
              <a:t>泛朦第三系</a:t>
            </a:r>
            <a:r>
              <a:rPr b="0" lang="en-US" sz="4400" spc="-1" strike="noStrike">
                <a:solidFill>
                  <a:srgbClr val="ff0000"/>
                </a:solidFill>
                <a:latin typeface="Times New Roman"/>
                <a:ea typeface="Tahoma"/>
              </a:rPr>
              <a:t>—</a:t>
            </a:r>
            <a:r>
              <a:rPr b="0" lang="zh-TW" sz="4400" spc="-1" strike="noStrike">
                <a:solidFill>
                  <a:srgbClr val="ff0000"/>
                </a:solidFill>
                <a:latin typeface="Times New Roman"/>
                <a:ea typeface="DFKai-SB"/>
              </a:rPr>
              <a:t>神經系</a:t>
            </a:r>
            <a:br>
              <a:rPr sz="4400"/>
            </a:br>
            <a:r>
              <a:rPr b="0" lang="en-US" sz="3600" spc="-1" strike="noStrike">
                <a:solidFill>
                  <a:srgbClr val="ff0000"/>
                </a:solidFill>
                <a:latin typeface="Arial"/>
                <a:ea typeface="DFKai-SB"/>
              </a:rPr>
              <a:t>(Neural Network)</a:t>
            </a:r>
            <a:endParaRPr b="0" lang="en-US" sz="3600" spc="-1" strike="noStrike">
              <a:solidFill>
                <a:srgbClr val="333399"/>
              </a:solidFill>
              <a:latin typeface="Times New Roman"/>
            </a:endParaRPr>
          </a:p>
        </p:txBody>
      </p:sp>
      <p:sp>
        <p:nvSpPr>
          <p:cNvPr id="143" name="PlaceHolder 2"/>
          <p:cNvSpPr>
            <a:spLocks noGrp="1"/>
          </p:cNvSpPr>
          <p:nvPr>
            <p:ph/>
          </p:nvPr>
        </p:nvSpPr>
        <p:spPr>
          <a:xfrm>
            <a:off x="-360" y="2017800"/>
            <a:ext cx="8955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99ff"/>
                </a:solidFill>
                <a:latin typeface="Times New Roman"/>
                <a:ea typeface="DFKai-SB"/>
              </a:rPr>
              <a:t>生物神經元模型</a:t>
            </a:r>
            <a:endParaRPr b="0" lang="en-US" sz="4000" spc="-1" strike="noStrike">
              <a:solidFill>
                <a:srgbClr val="333399"/>
              </a:solidFill>
              <a:latin typeface="Times New Roman"/>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生物神經網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   </a:t>
            </a:r>
            <a:r>
              <a:rPr b="0" lang="zh-TW" sz="3200" spc="-1" strike="noStrike">
                <a:solidFill>
                  <a:srgbClr val="000000"/>
                </a:solidFill>
                <a:latin typeface="Times New Roman"/>
                <a:ea typeface="DFKai-SB"/>
              </a:rPr>
              <a:t>由巨量的神經細胞，或稱神經元所組成，神經細胞的形狀和一般的細胞有很大的不同。</a:t>
            </a:r>
            <a:endParaRPr b="0" lang="en-US" sz="3200" spc="-1" strike="noStrike">
              <a:solidFill>
                <a:srgbClr val="000000"/>
              </a:solidFill>
              <a:latin typeface="Times New Roman"/>
            </a:endParaRPr>
          </a:p>
        </p:txBody>
      </p:sp>
      <p:sp>
        <p:nvSpPr>
          <p:cNvPr id="17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神經細胞</a:t>
            </a:r>
            <a:endParaRPr b="0" lang="en-US" sz="4400" spc="-1" strike="noStrike">
              <a:solidFill>
                <a:srgbClr val="333399"/>
              </a:solidFill>
              <a:latin typeface="Times New Roman"/>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神經核：神經細胞呈核狀的處理機構。</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軸索（神經軸）：神經細胞成軸索狀的輸送機構。</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樹突（神經樹）：神經細胞成樹枝狀的輸出入機構。</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突觸（神經節）：神經細胞神經樹上乘點狀的連結機構。</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组合 48129"/>
          <p:cNvGrpSpPr/>
          <p:nvPr/>
        </p:nvGrpSpPr>
        <p:grpSpPr>
          <a:xfrm>
            <a:off x="228600" y="380880"/>
            <a:ext cx="8305560" cy="6172200"/>
            <a:chOff x="228600" y="380880"/>
            <a:chExt cx="8305560" cy="6172200"/>
          </a:xfrm>
        </p:grpSpPr>
        <p:sp>
          <p:nvSpPr>
            <p:cNvPr id="176" name="任意多边形 48130"/>
            <p:cNvSpPr/>
            <p:nvPr/>
          </p:nvSpPr>
          <p:spPr>
            <a:xfrm>
              <a:off x="1560960" y="1932480"/>
              <a:ext cx="6508440" cy="2131200"/>
            </a:xfrm>
            <a:custGeom>
              <a:avLst/>
              <a:gdLst/>
              <a:ahLst/>
              <a:rect l="l" t="t" r="r" b="b"/>
              <a:pathLst>
                <a:path w="20000" h="20000">
                  <a:moveTo>
                    <a:pt x="887" y="10390"/>
                  </a:moveTo>
                  <a:lnTo>
                    <a:pt x="591" y="10113"/>
                  </a:lnTo>
                  <a:lnTo>
                    <a:pt x="591" y="9649"/>
                  </a:lnTo>
                  <a:lnTo>
                    <a:pt x="527" y="9424"/>
                  </a:lnTo>
                  <a:lnTo>
                    <a:pt x="527" y="9186"/>
                  </a:lnTo>
                  <a:lnTo>
                    <a:pt x="463" y="8961"/>
                  </a:lnTo>
                  <a:lnTo>
                    <a:pt x="463" y="8736"/>
                  </a:lnTo>
                  <a:lnTo>
                    <a:pt x="330" y="8273"/>
                  </a:lnTo>
                  <a:lnTo>
                    <a:pt x="330" y="8048"/>
                  </a:lnTo>
                  <a:lnTo>
                    <a:pt x="265" y="8048"/>
                  </a:lnTo>
                  <a:lnTo>
                    <a:pt x="197" y="7584"/>
                  </a:lnTo>
                  <a:lnTo>
                    <a:pt x="197" y="7359"/>
                  </a:lnTo>
                  <a:lnTo>
                    <a:pt x="133" y="7359"/>
                  </a:lnTo>
                  <a:lnTo>
                    <a:pt x="68" y="7121"/>
                  </a:lnTo>
                  <a:lnTo>
                    <a:pt x="68" y="6671"/>
                  </a:lnTo>
                  <a:lnTo>
                    <a:pt x="0" y="6433"/>
                  </a:lnTo>
                  <a:lnTo>
                    <a:pt x="0" y="3455"/>
                  </a:lnTo>
                  <a:lnTo>
                    <a:pt x="68" y="3455"/>
                  </a:lnTo>
                  <a:lnTo>
                    <a:pt x="133" y="2991"/>
                  </a:lnTo>
                  <a:lnTo>
                    <a:pt x="197" y="2991"/>
                  </a:lnTo>
                  <a:lnTo>
                    <a:pt x="197" y="2766"/>
                  </a:lnTo>
                  <a:lnTo>
                    <a:pt x="330" y="2766"/>
                  </a:lnTo>
                  <a:lnTo>
                    <a:pt x="330" y="2528"/>
                  </a:lnTo>
                  <a:lnTo>
                    <a:pt x="463" y="2528"/>
                  </a:lnTo>
                  <a:lnTo>
                    <a:pt x="463" y="6208"/>
                  </a:lnTo>
                  <a:lnTo>
                    <a:pt x="789" y="6208"/>
                  </a:lnTo>
                  <a:lnTo>
                    <a:pt x="857" y="5745"/>
                  </a:lnTo>
                  <a:lnTo>
                    <a:pt x="921" y="5520"/>
                  </a:lnTo>
                  <a:lnTo>
                    <a:pt x="986" y="5281"/>
                  </a:lnTo>
                  <a:lnTo>
                    <a:pt x="986" y="5056"/>
                  </a:lnTo>
                  <a:lnTo>
                    <a:pt x="1054" y="4831"/>
                  </a:lnTo>
                  <a:lnTo>
                    <a:pt x="1054" y="4593"/>
                  </a:lnTo>
                  <a:lnTo>
                    <a:pt x="1118" y="4593"/>
                  </a:lnTo>
                  <a:lnTo>
                    <a:pt x="1118" y="4368"/>
                  </a:lnTo>
                  <a:lnTo>
                    <a:pt x="1187" y="4143"/>
                  </a:lnTo>
                  <a:lnTo>
                    <a:pt x="1187" y="3905"/>
                  </a:lnTo>
                  <a:lnTo>
                    <a:pt x="1251" y="3905"/>
                  </a:lnTo>
                  <a:lnTo>
                    <a:pt x="1251" y="3680"/>
                  </a:lnTo>
                  <a:lnTo>
                    <a:pt x="1316" y="3680"/>
                  </a:lnTo>
                  <a:lnTo>
                    <a:pt x="1316" y="3455"/>
                  </a:lnTo>
                  <a:lnTo>
                    <a:pt x="1384" y="3455"/>
                  </a:lnTo>
                  <a:lnTo>
                    <a:pt x="1384" y="4143"/>
                  </a:lnTo>
                  <a:lnTo>
                    <a:pt x="1316" y="4368"/>
                  </a:lnTo>
                  <a:lnTo>
                    <a:pt x="1316" y="4593"/>
                  </a:lnTo>
                  <a:lnTo>
                    <a:pt x="1251" y="4831"/>
                  </a:lnTo>
                  <a:lnTo>
                    <a:pt x="1251" y="5056"/>
                  </a:lnTo>
                  <a:lnTo>
                    <a:pt x="1187" y="5281"/>
                  </a:lnTo>
                  <a:lnTo>
                    <a:pt x="1187" y="5520"/>
                  </a:lnTo>
                  <a:lnTo>
                    <a:pt x="1118" y="5520"/>
                  </a:lnTo>
                  <a:lnTo>
                    <a:pt x="1118" y="8961"/>
                  </a:lnTo>
                  <a:lnTo>
                    <a:pt x="1316" y="9649"/>
                  </a:lnTo>
                  <a:lnTo>
                    <a:pt x="1384" y="10113"/>
                  </a:lnTo>
                  <a:lnTo>
                    <a:pt x="1448" y="10338"/>
                  </a:lnTo>
                  <a:lnTo>
                    <a:pt x="1513" y="10338"/>
                  </a:lnTo>
                  <a:lnTo>
                    <a:pt x="1513" y="10563"/>
                  </a:lnTo>
                  <a:lnTo>
                    <a:pt x="1645" y="10563"/>
                  </a:lnTo>
                  <a:lnTo>
                    <a:pt x="1645" y="10801"/>
                  </a:lnTo>
                  <a:lnTo>
                    <a:pt x="3094" y="10801"/>
                  </a:lnTo>
                  <a:lnTo>
                    <a:pt x="3158" y="10338"/>
                  </a:lnTo>
                  <a:lnTo>
                    <a:pt x="3158" y="8961"/>
                  </a:lnTo>
                  <a:lnTo>
                    <a:pt x="3223" y="8961"/>
                  </a:lnTo>
                  <a:lnTo>
                    <a:pt x="3223" y="8273"/>
                  </a:lnTo>
                  <a:lnTo>
                    <a:pt x="3488" y="8273"/>
                  </a:lnTo>
                  <a:lnTo>
                    <a:pt x="3488" y="8498"/>
                  </a:lnTo>
                  <a:lnTo>
                    <a:pt x="3553" y="8736"/>
                  </a:lnTo>
                  <a:lnTo>
                    <a:pt x="3617" y="8961"/>
                  </a:lnTo>
                  <a:lnTo>
                    <a:pt x="3617" y="9424"/>
                  </a:lnTo>
                  <a:lnTo>
                    <a:pt x="3814" y="9424"/>
                  </a:lnTo>
                  <a:lnTo>
                    <a:pt x="3814" y="9649"/>
                  </a:lnTo>
                  <a:lnTo>
                    <a:pt x="3882" y="9649"/>
                  </a:lnTo>
                  <a:lnTo>
                    <a:pt x="3882" y="10338"/>
                  </a:lnTo>
                  <a:lnTo>
                    <a:pt x="3947" y="10338"/>
                  </a:lnTo>
                  <a:lnTo>
                    <a:pt x="3947" y="10563"/>
                  </a:lnTo>
                  <a:lnTo>
                    <a:pt x="4015" y="10801"/>
                  </a:lnTo>
                  <a:lnTo>
                    <a:pt x="4015" y="11026"/>
                  </a:lnTo>
                  <a:lnTo>
                    <a:pt x="4080" y="11026"/>
                  </a:lnTo>
                  <a:lnTo>
                    <a:pt x="4080" y="11251"/>
                  </a:lnTo>
                  <a:lnTo>
                    <a:pt x="4144" y="11251"/>
                  </a:lnTo>
                  <a:lnTo>
                    <a:pt x="4277" y="11489"/>
                  </a:lnTo>
                  <a:lnTo>
                    <a:pt x="4538" y="11489"/>
                  </a:lnTo>
                  <a:lnTo>
                    <a:pt x="4538" y="5281"/>
                  </a:lnTo>
                  <a:lnTo>
                    <a:pt x="4607" y="4831"/>
                  </a:lnTo>
                  <a:lnTo>
                    <a:pt x="4607" y="4593"/>
                  </a:lnTo>
                  <a:lnTo>
                    <a:pt x="4671" y="4143"/>
                  </a:lnTo>
                  <a:lnTo>
                    <a:pt x="4671" y="3216"/>
                  </a:lnTo>
                  <a:lnTo>
                    <a:pt x="4736" y="2991"/>
                  </a:lnTo>
                  <a:lnTo>
                    <a:pt x="4804" y="2528"/>
                  </a:lnTo>
                  <a:lnTo>
                    <a:pt x="4804" y="1840"/>
                  </a:lnTo>
                  <a:lnTo>
                    <a:pt x="4868" y="1840"/>
                  </a:lnTo>
                  <a:lnTo>
                    <a:pt x="4868" y="1615"/>
                  </a:lnTo>
                  <a:lnTo>
                    <a:pt x="4933" y="1377"/>
                  </a:lnTo>
                  <a:lnTo>
                    <a:pt x="4933" y="1152"/>
                  </a:lnTo>
                  <a:lnTo>
                    <a:pt x="5065" y="1152"/>
                  </a:lnTo>
                  <a:lnTo>
                    <a:pt x="5065" y="927"/>
                  </a:lnTo>
                  <a:lnTo>
                    <a:pt x="5130" y="927"/>
                  </a:lnTo>
                  <a:lnTo>
                    <a:pt x="5198" y="688"/>
                  </a:lnTo>
                  <a:lnTo>
                    <a:pt x="5263" y="688"/>
                  </a:lnTo>
                  <a:lnTo>
                    <a:pt x="5331" y="463"/>
                  </a:lnTo>
                  <a:lnTo>
                    <a:pt x="5331" y="238"/>
                  </a:lnTo>
                  <a:lnTo>
                    <a:pt x="5528" y="238"/>
                  </a:lnTo>
                  <a:lnTo>
                    <a:pt x="5528" y="0"/>
                  </a:lnTo>
                  <a:lnTo>
                    <a:pt x="5657" y="0"/>
                  </a:lnTo>
                  <a:lnTo>
                    <a:pt x="5657" y="688"/>
                  </a:lnTo>
                  <a:lnTo>
                    <a:pt x="5528" y="688"/>
                  </a:lnTo>
                  <a:lnTo>
                    <a:pt x="5460" y="1152"/>
                  </a:lnTo>
                  <a:lnTo>
                    <a:pt x="5331" y="1377"/>
                  </a:lnTo>
                  <a:lnTo>
                    <a:pt x="5331" y="1615"/>
                  </a:lnTo>
                  <a:lnTo>
                    <a:pt x="5263" y="1615"/>
                  </a:lnTo>
                  <a:lnTo>
                    <a:pt x="5263" y="1840"/>
                  </a:lnTo>
                  <a:lnTo>
                    <a:pt x="5198" y="2078"/>
                  </a:lnTo>
                  <a:lnTo>
                    <a:pt x="5198" y="2528"/>
                  </a:lnTo>
                  <a:lnTo>
                    <a:pt x="5130" y="2991"/>
                  </a:lnTo>
                  <a:lnTo>
                    <a:pt x="5130" y="3216"/>
                  </a:lnTo>
                  <a:lnTo>
                    <a:pt x="5065" y="3680"/>
                  </a:lnTo>
                  <a:lnTo>
                    <a:pt x="5065" y="5520"/>
                  </a:lnTo>
                  <a:lnTo>
                    <a:pt x="5198" y="5520"/>
                  </a:lnTo>
                  <a:lnTo>
                    <a:pt x="5198" y="5281"/>
                  </a:lnTo>
                  <a:lnTo>
                    <a:pt x="5331" y="5281"/>
                  </a:lnTo>
                  <a:lnTo>
                    <a:pt x="5395" y="4831"/>
                  </a:lnTo>
                  <a:lnTo>
                    <a:pt x="5528" y="4831"/>
                  </a:lnTo>
                  <a:lnTo>
                    <a:pt x="5528" y="4593"/>
                  </a:lnTo>
                  <a:lnTo>
                    <a:pt x="5592" y="4593"/>
                  </a:lnTo>
                  <a:lnTo>
                    <a:pt x="5592" y="4368"/>
                  </a:lnTo>
                  <a:lnTo>
                    <a:pt x="5725" y="4368"/>
                  </a:lnTo>
                  <a:lnTo>
                    <a:pt x="5725" y="4143"/>
                  </a:lnTo>
                  <a:lnTo>
                    <a:pt x="5854" y="4143"/>
                  </a:lnTo>
                  <a:lnTo>
                    <a:pt x="5854" y="5281"/>
                  </a:lnTo>
                  <a:lnTo>
                    <a:pt x="5790" y="5281"/>
                  </a:lnTo>
                  <a:lnTo>
                    <a:pt x="5790" y="5520"/>
                  </a:lnTo>
                  <a:lnTo>
                    <a:pt x="5725" y="5745"/>
                  </a:lnTo>
                  <a:lnTo>
                    <a:pt x="5592" y="5745"/>
                  </a:lnTo>
                  <a:lnTo>
                    <a:pt x="5592" y="5970"/>
                  </a:lnTo>
                  <a:lnTo>
                    <a:pt x="5528" y="5970"/>
                  </a:lnTo>
                  <a:lnTo>
                    <a:pt x="5528" y="6208"/>
                  </a:lnTo>
                  <a:lnTo>
                    <a:pt x="5395" y="6208"/>
                  </a:lnTo>
                  <a:lnTo>
                    <a:pt x="5395" y="6433"/>
                  </a:lnTo>
                  <a:lnTo>
                    <a:pt x="5331" y="6433"/>
                  </a:lnTo>
                  <a:lnTo>
                    <a:pt x="5331" y="6671"/>
                  </a:lnTo>
                  <a:lnTo>
                    <a:pt x="5263" y="6671"/>
                  </a:lnTo>
                  <a:lnTo>
                    <a:pt x="5263" y="10563"/>
                  </a:lnTo>
                  <a:lnTo>
                    <a:pt x="5331" y="10563"/>
                  </a:lnTo>
                  <a:lnTo>
                    <a:pt x="5331" y="11026"/>
                  </a:lnTo>
                  <a:lnTo>
                    <a:pt x="5395" y="11251"/>
                  </a:lnTo>
                  <a:lnTo>
                    <a:pt x="5460" y="11251"/>
                  </a:lnTo>
                  <a:lnTo>
                    <a:pt x="5460" y="11489"/>
                  </a:lnTo>
                  <a:lnTo>
                    <a:pt x="5528" y="11489"/>
                  </a:lnTo>
                  <a:lnTo>
                    <a:pt x="5592" y="11714"/>
                  </a:lnTo>
                  <a:lnTo>
                    <a:pt x="5657" y="11714"/>
                  </a:lnTo>
                  <a:lnTo>
                    <a:pt x="5657" y="11952"/>
                  </a:lnTo>
                  <a:lnTo>
                    <a:pt x="5725" y="12177"/>
                  </a:lnTo>
                  <a:lnTo>
                    <a:pt x="5854" y="12177"/>
                  </a:lnTo>
                  <a:lnTo>
                    <a:pt x="5854" y="12402"/>
                  </a:lnTo>
                  <a:lnTo>
                    <a:pt x="6578" y="12402"/>
                  </a:lnTo>
                  <a:lnTo>
                    <a:pt x="6646" y="12177"/>
                  </a:lnTo>
                  <a:lnTo>
                    <a:pt x="6775" y="12177"/>
                  </a:lnTo>
                  <a:lnTo>
                    <a:pt x="6908" y="11952"/>
                  </a:lnTo>
                  <a:lnTo>
                    <a:pt x="7105" y="11952"/>
                  </a:lnTo>
                  <a:lnTo>
                    <a:pt x="7105" y="11714"/>
                  </a:lnTo>
                  <a:lnTo>
                    <a:pt x="7435" y="11714"/>
                  </a:lnTo>
                  <a:lnTo>
                    <a:pt x="7435" y="12402"/>
                  </a:lnTo>
                  <a:lnTo>
                    <a:pt x="7500" y="12641"/>
                  </a:lnTo>
                  <a:lnTo>
                    <a:pt x="7500" y="14242"/>
                  </a:lnTo>
                  <a:lnTo>
                    <a:pt x="7435" y="14242"/>
                  </a:lnTo>
                  <a:lnTo>
                    <a:pt x="7435" y="14467"/>
                  </a:lnTo>
                  <a:lnTo>
                    <a:pt x="7302" y="14467"/>
                  </a:lnTo>
                  <a:lnTo>
                    <a:pt x="7302" y="14705"/>
                  </a:lnTo>
                  <a:lnTo>
                    <a:pt x="7170" y="14705"/>
                  </a:lnTo>
                  <a:lnTo>
                    <a:pt x="7170" y="14931"/>
                  </a:lnTo>
                  <a:lnTo>
                    <a:pt x="7041" y="14931"/>
                  </a:lnTo>
                  <a:lnTo>
                    <a:pt x="7041" y="15156"/>
                  </a:lnTo>
                  <a:lnTo>
                    <a:pt x="6973" y="15156"/>
                  </a:lnTo>
                  <a:lnTo>
                    <a:pt x="6908" y="15394"/>
                  </a:lnTo>
                  <a:lnTo>
                    <a:pt x="6844" y="15394"/>
                  </a:lnTo>
                  <a:lnTo>
                    <a:pt x="6844" y="15619"/>
                  </a:lnTo>
                  <a:lnTo>
                    <a:pt x="6775" y="15844"/>
                  </a:lnTo>
                  <a:lnTo>
                    <a:pt x="6775" y="16082"/>
                  </a:lnTo>
                  <a:lnTo>
                    <a:pt x="6646" y="16082"/>
                  </a:lnTo>
                  <a:lnTo>
                    <a:pt x="6646" y="19298"/>
                  </a:lnTo>
                  <a:lnTo>
                    <a:pt x="6711" y="19298"/>
                  </a:lnTo>
                  <a:lnTo>
                    <a:pt x="6711" y="19523"/>
                  </a:lnTo>
                  <a:lnTo>
                    <a:pt x="9934" y="19523"/>
                  </a:lnTo>
                  <a:lnTo>
                    <a:pt x="10066" y="19749"/>
                  </a:lnTo>
                  <a:lnTo>
                    <a:pt x="11905" y="19749"/>
                  </a:lnTo>
                  <a:lnTo>
                    <a:pt x="12038" y="19987"/>
                  </a:lnTo>
                  <a:lnTo>
                    <a:pt x="15655" y="19987"/>
                  </a:lnTo>
                  <a:lnTo>
                    <a:pt x="15788" y="19523"/>
                  </a:lnTo>
                  <a:lnTo>
                    <a:pt x="15852" y="19523"/>
                  </a:lnTo>
                  <a:lnTo>
                    <a:pt x="15920" y="19298"/>
                  </a:lnTo>
                  <a:lnTo>
                    <a:pt x="16049" y="19060"/>
                  </a:lnTo>
                  <a:lnTo>
                    <a:pt x="16182" y="18835"/>
                  </a:lnTo>
                  <a:lnTo>
                    <a:pt x="16250" y="18610"/>
                  </a:lnTo>
                  <a:lnTo>
                    <a:pt x="16379" y="18372"/>
                  </a:lnTo>
                  <a:lnTo>
                    <a:pt x="16645" y="17922"/>
                  </a:lnTo>
                  <a:lnTo>
                    <a:pt x="16709" y="17684"/>
                  </a:lnTo>
                  <a:lnTo>
                    <a:pt x="16773" y="17684"/>
                  </a:lnTo>
                  <a:lnTo>
                    <a:pt x="16842" y="17459"/>
                  </a:lnTo>
                  <a:lnTo>
                    <a:pt x="16971" y="17234"/>
                  </a:lnTo>
                  <a:lnTo>
                    <a:pt x="17103" y="16995"/>
                  </a:lnTo>
                  <a:lnTo>
                    <a:pt x="17236" y="16770"/>
                  </a:lnTo>
                  <a:lnTo>
                    <a:pt x="17365" y="16545"/>
                  </a:lnTo>
                  <a:lnTo>
                    <a:pt x="17498" y="16307"/>
                  </a:lnTo>
                  <a:lnTo>
                    <a:pt x="17566" y="16307"/>
                  </a:lnTo>
                  <a:lnTo>
                    <a:pt x="17630" y="15844"/>
                  </a:lnTo>
                  <a:lnTo>
                    <a:pt x="17695" y="15844"/>
                  </a:lnTo>
                  <a:lnTo>
                    <a:pt x="17763" y="15619"/>
                  </a:lnTo>
                  <a:lnTo>
                    <a:pt x="17892" y="15394"/>
                  </a:lnTo>
                  <a:lnTo>
                    <a:pt x="17960" y="15394"/>
                  </a:lnTo>
                  <a:lnTo>
                    <a:pt x="18089" y="14931"/>
                  </a:lnTo>
                  <a:lnTo>
                    <a:pt x="18483" y="14467"/>
                  </a:lnTo>
                  <a:lnTo>
                    <a:pt x="18878" y="14017"/>
                  </a:lnTo>
                  <a:lnTo>
                    <a:pt x="19276" y="13554"/>
                  </a:lnTo>
                  <a:lnTo>
                    <a:pt x="19405" y="13329"/>
                  </a:lnTo>
                  <a:lnTo>
                    <a:pt x="19473" y="13091"/>
                  </a:lnTo>
                  <a:lnTo>
                    <a:pt x="19537" y="13091"/>
                  </a:lnTo>
                  <a:lnTo>
                    <a:pt x="19537" y="12866"/>
                  </a:lnTo>
                  <a:lnTo>
                    <a:pt x="19602" y="12866"/>
                  </a:lnTo>
                  <a:lnTo>
                    <a:pt x="19670" y="12641"/>
                  </a:lnTo>
                  <a:lnTo>
                    <a:pt x="19735" y="12641"/>
                  </a:lnTo>
                  <a:lnTo>
                    <a:pt x="19996" y="12773"/>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任意多边形 48131"/>
            <p:cNvSpPr/>
            <p:nvPr/>
          </p:nvSpPr>
          <p:spPr>
            <a:xfrm>
              <a:off x="7335000" y="3455640"/>
              <a:ext cx="1199160" cy="540000"/>
            </a:xfrm>
            <a:custGeom>
              <a:avLst/>
              <a:gdLst/>
              <a:ahLst/>
              <a:rect l="l" t="t" r="r" b="b"/>
              <a:pathLst>
                <a:path w="20000" h="20000">
                  <a:moveTo>
                    <a:pt x="13189" y="4178"/>
                  </a:moveTo>
                  <a:lnTo>
                    <a:pt x="12840" y="0"/>
                  </a:lnTo>
                  <a:lnTo>
                    <a:pt x="12840" y="940"/>
                  </a:lnTo>
                  <a:lnTo>
                    <a:pt x="12119" y="1828"/>
                  </a:lnTo>
                  <a:lnTo>
                    <a:pt x="11770" y="2715"/>
                  </a:lnTo>
                  <a:lnTo>
                    <a:pt x="11420" y="3655"/>
                  </a:lnTo>
                  <a:lnTo>
                    <a:pt x="10700" y="3655"/>
                  </a:lnTo>
                  <a:lnTo>
                    <a:pt x="10700" y="5431"/>
                  </a:lnTo>
                  <a:lnTo>
                    <a:pt x="9280" y="5431"/>
                  </a:lnTo>
                  <a:lnTo>
                    <a:pt x="9280" y="6371"/>
                  </a:lnTo>
                  <a:lnTo>
                    <a:pt x="7840" y="6371"/>
                  </a:lnTo>
                  <a:lnTo>
                    <a:pt x="7840" y="7258"/>
                  </a:lnTo>
                  <a:lnTo>
                    <a:pt x="6770" y="7258"/>
                  </a:lnTo>
                  <a:lnTo>
                    <a:pt x="6770" y="8146"/>
                  </a:lnTo>
                  <a:lnTo>
                    <a:pt x="6420" y="8146"/>
                  </a:lnTo>
                  <a:lnTo>
                    <a:pt x="6049" y="9086"/>
                  </a:lnTo>
                  <a:lnTo>
                    <a:pt x="4979" y="9086"/>
                  </a:lnTo>
                  <a:lnTo>
                    <a:pt x="4979" y="9974"/>
                  </a:lnTo>
                  <a:lnTo>
                    <a:pt x="4280" y="9974"/>
                  </a:lnTo>
                  <a:lnTo>
                    <a:pt x="4280" y="10862"/>
                  </a:lnTo>
                  <a:lnTo>
                    <a:pt x="3560" y="10862"/>
                  </a:lnTo>
                  <a:lnTo>
                    <a:pt x="3560" y="11802"/>
                  </a:lnTo>
                  <a:lnTo>
                    <a:pt x="3210" y="11802"/>
                  </a:lnTo>
                  <a:lnTo>
                    <a:pt x="3210" y="12689"/>
                  </a:lnTo>
                  <a:lnTo>
                    <a:pt x="2490" y="12689"/>
                  </a:lnTo>
                  <a:lnTo>
                    <a:pt x="2490" y="13577"/>
                  </a:lnTo>
                  <a:lnTo>
                    <a:pt x="1770" y="13577"/>
                  </a:lnTo>
                  <a:lnTo>
                    <a:pt x="1770" y="14517"/>
                  </a:lnTo>
                  <a:lnTo>
                    <a:pt x="1420" y="14517"/>
                  </a:lnTo>
                  <a:lnTo>
                    <a:pt x="1420" y="15405"/>
                  </a:lnTo>
                  <a:lnTo>
                    <a:pt x="1070" y="16292"/>
                  </a:lnTo>
                  <a:lnTo>
                    <a:pt x="700" y="16292"/>
                  </a:lnTo>
                  <a:lnTo>
                    <a:pt x="700" y="17232"/>
                  </a:lnTo>
                  <a:lnTo>
                    <a:pt x="0" y="17232"/>
                  </a:lnTo>
                  <a:lnTo>
                    <a:pt x="0" y="19948"/>
                  </a:lnTo>
                  <a:lnTo>
                    <a:pt x="3560" y="19948"/>
                  </a:lnTo>
                  <a:lnTo>
                    <a:pt x="3560" y="19060"/>
                  </a:lnTo>
                  <a:lnTo>
                    <a:pt x="4280" y="19060"/>
                  </a:lnTo>
                  <a:lnTo>
                    <a:pt x="4280" y="18120"/>
                  </a:lnTo>
                  <a:lnTo>
                    <a:pt x="4979" y="18120"/>
                  </a:lnTo>
                  <a:lnTo>
                    <a:pt x="4979" y="17232"/>
                  </a:lnTo>
                  <a:lnTo>
                    <a:pt x="5350" y="17232"/>
                  </a:lnTo>
                  <a:lnTo>
                    <a:pt x="5700" y="16292"/>
                  </a:lnTo>
                  <a:lnTo>
                    <a:pt x="6420" y="16292"/>
                  </a:lnTo>
                  <a:lnTo>
                    <a:pt x="6420" y="15405"/>
                  </a:lnTo>
                  <a:lnTo>
                    <a:pt x="7119" y="15405"/>
                  </a:lnTo>
                  <a:lnTo>
                    <a:pt x="7119" y="14517"/>
                  </a:lnTo>
                  <a:lnTo>
                    <a:pt x="8560" y="14517"/>
                  </a:lnTo>
                  <a:lnTo>
                    <a:pt x="8560" y="13577"/>
                  </a:lnTo>
                  <a:lnTo>
                    <a:pt x="8909" y="13577"/>
                  </a:lnTo>
                  <a:lnTo>
                    <a:pt x="8909" y="12689"/>
                  </a:lnTo>
                  <a:lnTo>
                    <a:pt x="9979" y="12689"/>
                  </a:lnTo>
                  <a:lnTo>
                    <a:pt x="9979" y="11802"/>
                  </a:lnTo>
                  <a:lnTo>
                    <a:pt x="11420" y="11802"/>
                  </a:lnTo>
                  <a:lnTo>
                    <a:pt x="11420" y="10862"/>
                  </a:lnTo>
                  <a:lnTo>
                    <a:pt x="12840" y="10862"/>
                  </a:lnTo>
                  <a:lnTo>
                    <a:pt x="12840" y="9974"/>
                  </a:lnTo>
                  <a:lnTo>
                    <a:pt x="13560" y="9974"/>
                  </a:lnTo>
                  <a:lnTo>
                    <a:pt x="13560" y="9086"/>
                  </a:lnTo>
                  <a:lnTo>
                    <a:pt x="19979" y="9086"/>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任意多边形 48132"/>
            <p:cNvSpPr/>
            <p:nvPr/>
          </p:nvSpPr>
          <p:spPr>
            <a:xfrm>
              <a:off x="7335000" y="3963240"/>
              <a:ext cx="1135440" cy="832320"/>
            </a:xfrm>
            <a:custGeom>
              <a:avLst/>
              <a:gdLst/>
              <a:ahLst/>
              <a:rect l="l" t="t" r="r" b="b"/>
              <a:pathLst>
                <a:path w="20000" h="20000">
                  <a:moveTo>
                    <a:pt x="19739" y="2542"/>
                  </a:moveTo>
                  <a:lnTo>
                    <a:pt x="19609" y="0"/>
                  </a:lnTo>
                  <a:lnTo>
                    <a:pt x="19609" y="576"/>
                  </a:lnTo>
                  <a:lnTo>
                    <a:pt x="18848" y="1153"/>
                  </a:lnTo>
                  <a:lnTo>
                    <a:pt x="18478" y="1153"/>
                  </a:lnTo>
                  <a:lnTo>
                    <a:pt x="18109" y="1763"/>
                  </a:lnTo>
                  <a:lnTo>
                    <a:pt x="17717" y="1763"/>
                  </a:lnTo>
                  <a:lnTo>
                    <a:pt x="17348" y="2339"/>
                  </a:lnTo>
                  <a:lnTo>
                    <a:pt x="9413" y="2339"/>
                  </a:lnTo>
                  <a:lnTo>
                    <a:pt x="9043" y="2915"/>
                  </a:lnTo>
                  <a:lnTo>
                    <a:pt x="9043" y="3525"/>
                  </a:lnTo>
                  <a:lnTo>
                    <a:pt x="7913" y="3525"/>
                  </a:lnTo>
                  <a:lnTo>
                    <a:pt x="7913" y="4102"/>
                  </a:lnTo>
                  <a:lnTo>
                    <a:pt x="7543" y="4102"/>
                  </a:lnTo>
                  <a:lnTo>
                    <a:pt x="7543" y="4678"/>
                  </a:lnTo>
                  <a:lnTo>
                    <a:pt x="6783" y="4678"/>
                  </a:lnTo>
                  <a:lnTo>
                    <a:pt x="6783" y="5288"/>
                  </a:lnTo>
                  <a:lnTo>
                    <a:pt x="6413" y="5288"/>
                  </a:lnTo>
                  <a:lnTo>
                    <a:pt x="6022" y="5864"/>
                  </a:lnTo>
                  <a:lnTo>
                    <a:pt x="5652" y="5864"/>
                  </a:lnTo>
                  <a:lnTo>
                    <a:pt x="5652" y="6441"/>
                  </a:lnTo>
                  <a:lnTo>
                    <a:pt x="4522" y="6441"/>
                  </a:lnTo>
                  <a:lnTo>
                    <a:pt x="4152" y="7051"/>
                  </a:lnTo>
                  <a:lnTo>
                    <a:pt x="1130" y="7051"/>
                  </a:lnTo>
                  <a:lnTo>
                    <a:pt x="1130" y="7627"/>
                  </a:lnTo>
                  <a:lnTo>
                    <a:pt x="739" y="7627"/>
                  </a:lnTo>
                  <a:lnTo>
                    <a:pt x="739" y="8203"/>
                  </a:lnTo>
                  <a:lnTo>
                    <a:pt x="370" y="8203"/>
                  </a:lnTo>
                  <a:lnTo>
                    <a:pt x="370" y="8814"/>
                  </a:lnTo>
                  <a:lnTo>
                    <a:pt x="0" y="8814"/>
                  </a:lnTo>
                  <a:lnTo>
                    <a:pt x="0" y="10576"/>
                  </a:lnTo>
                  <a:lnTo>
                    <a:pt x="6783" y="10576"/>
                  </a:lnTo>
                  <a:lnTo>
                    <a:pt x="7543" y="11153"/>
                  </a:lnTo>
                  <a:lnTo>
                    <a:pt x="9804" y="11763"/>
                  </a:lnTo>
                  <a:lnTo>
                    <a:pt x="10565" y="12339"/>
                  </a:lnTo>
                  <a:lnTo>
                    <a:pt x="10935" y="12915"/>
                  </a:lnTo>
                  <a:lnTo>
                    <a:pt x="11696" y="12915"/>
                  </a:lnTo>
                  <a:lnTo>
                    <a:pt x="12065" y="13525"/>
                  </a:lnTo>
                  <a:lnTo>
                    <a:pt x="12435" y="13525"/>
                  </a:lnTo>
                  <a:lnTo>
                    <a:pt x="13957" y="14678"/>
                  </a:lnTo>
                  <a:lnTo>
                    <a:pt x="14326" y="15288"/>
                  </a:lnTo>
                  <a:lnTo>
                    <a:pt x="15087" y="15864"/>
                  </a:lnTo>
                  <a:lnTo>
                    <a:pt x="16217" y="16441"/>
                  </a:lnTo>
                  <a:lnTo>
                    <a:pt x="16957" y="16441"/>
                  </a:lnTo>
                  <a:lnTo>
                    <a:pt x="16957" y="17051"/>
                  </a:lnTo>
                  <a:lnTo>
                    <a:pt x="17348" y="17051"/>
                  </a:lnTo>
                  <a:lnTo>
                    <a:pt x="17348" y="17627"/>
                  </a:lnTo>
                  <a:lnTo>
                    <a:pt x="18109" y="17627"/>
                  </a:lnTo>
                  <a:lnTo>
                    <a:pt x="18109" y="18203"/>
                  </a:lnTo>
                  <a:lnTo>
                    <a:pt x="18848" y="18203"/>
                  </a:lnTo>
                  <a:lnTo>
                    <a:pt x="18848" y="18814"/>
                  </a:lnTo>
                  <a:lnTo>
                    <a:pt x="19239" y="18814"/>
                  </a:lnTo>
                  <a:lnTo>
                    <a:pt x="19239" y="19390"/>
                  </a:lnTo>
                  <a:lnTo>
                    <a:pt x="19609" y="19390"/>
                  </a:lnTo>
                  <a:lnTo>
                    <a:pt x="19978" y="19966"/>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任意多边形 48133"/>
            <p:cNvSpPr/>
            <p:nvPr/>
          </p:nvSpPr>
          <p:spPr>
            <a:xfrm>
              <a:off x="7335000" y="4725000"/>
              <a:ext cx="1185480" cy="833760"/>
            </a:xfrm>
            <a:custGeom>
              <a:avLst/>
              <a:gdLst/>
              <a:ahLst/>
              <a:rect l="l" t="t" r="r" b="b"/>
              <a:pathLst>
                <a:path w="20000" h="20000">
                  <a:moveTo>
                    <a:pt x="19979" y="10491"/>
                  </a:moveTo>
                  <a:lnTo>
                    <a:pt x="18418" y="8832"/>
                  </a:lnTo>
                  <a:lnTo>
                    <a:pt x="18418" y="8223"/>
                  </a:lnTo>
                  <a:lnTo>
                    <a:pt x="17690" y="8223"/>
                  </a:lnTo>
                  <a:lnTo>
                    <a:pt x="17690" y="7648"/>
                  </a:lnTo>
                  <a:lnTo>
                    <a:pt x="16961" y="7648"/>
                  </a:lnTo>
                  <a:lnTo>
                    <a:pt x="16961" y="7073"/>
                  </a:lnTo>
                  <a:lnTo>
                    <a:pt x="16233" y="7073"/>
                  </a:lnTo>
                  <a:lnTo>
                    <a:pt x="16233" y="6464"/>
                  </a:lnTo>
                  <a:lnTo>
                    <a:pt x="15879" y="6464"/>
                  </a:lnTo>
                  <a:lnTo>
                    <a:pt x="15879" y="5888"/>
                  </a:lnTo>
                  <a:lnTo>
                    <a:pt x="14797" y="5888"/>
                  </a:lnTo>
                  <a:lnTo>
                    <a:pt x="14069" y="5279"/>
                  </a:lnTo>
                  <a:lnTo>
                    <a:pt x="13715" y="5279"/>
                  </a:lnTo>
                  <a:lnTo>
                    <a:pt x="13361" y="4704"/>
                  </a:lnTo>
                  <a:lnTo>
                    <a:pt x="12279" y="4704"/>
                  </a:lnTo>
                  <a:lnTo>
                    <a:pt x="11904" y="4129"/>
                  </a:lnTo>
                  <a:lnTo>
                    <a:pt x="11550" y="3519"/>
                  </a:lnTo>
                  <a:lnTo>
                    <a:pt x="10822" y="3519"/>
                  </a:lnTo>
                  <a:lnTo>
                    <a:pt x="10822" y="2944"/>
                  </a:lnTo>
                  <a:lnTo>
                    <a:pt x="10094" y="2944"/>
                  </a:lnTo>
                  <a:lnTo>
                    <a:pt x="9740" y="2369"/>
                  </a:lnTo>
                  <a:lnTo>
                    <a:pt x="9011" y="2369"/>
                  </a:lnTo>
                  <a:lnTo>
                    <a:pt x="8304" y="1760"/>
                  </a:lnTo>
                  <a:lnTo>
                    <a:pt x="7575" y="1184"/>
                  </a:lnTo>
                  <a:lnTo>
                    <a:pt x="7222" y="609"/>
                  </a:lnTo>
                  <a:lnTo>
                    <a:pt x="6139" y="609"/>
                  </a:lnTo>
                  <a:lnTo>
                    <a:pt x="6139" y="0"/>
                  </a:lnTo>
                  <a:lnTo>
                    <a:pt x="708" y="0"/>
                  </a:lnTo>
                  <a:lnTo>
                    <a:pt x="354" y="1184"/>
                  </a:lnTo>
                  <a:lnTo>
                    <a:pt x="354" y="1760"/>
                  </a:lnTo>
                  <a:lnTo>
                    <a:pt x="0" y="1760"/>
                  </a:lnTo>
                  <a:lnTo>
                    <a:pt x="0" y="11168"/>
                  </a:lnTo>
                  <a:lnTo>
                    <a:pt x="354" y="11743"/>
                  </a:lnTo>
                  <a:lnTo>
                    <a:pt x="708" y="12352"/>
                  </a:lnTo>
                  <a:lnTo>
                    <a:pt x="708" y="12927"/>
                  </a:lnTo>
                  <a:lnTo>
                    <a:pt x="1082" y="14112"/>
                  </a:lnTo>
                  <a:lnTo>
                    <a:pt x="1790" y="15262"/>
                  </a:lnTo>
                  <a:lnTo>
                    <a:pt x="1790" y="15871"/>
                  </a:lnTo>
                  <a:lnTo>
                    <a:pt x="2164" y="15871"/>
                  </a:lnTo>
                  <a:lnTo>
                    <a:pt x="2164" y="16447"/>
                  </a:lnTo>
                  <a:lnTo>
                    <a:pt x="2518" y="16447"/>
                  </a:lnTo>
                  <a:lnTo>
                    <a:pt x="2518" y="17631"/>
                  </a:lnTo>
                  <a:lnTo>
                    <a:pt x="2893" y="17631"/>
                  </a:lnTo>
                  <a:lnTo>
                    <a:pt x="2893" y="18206"/>
                  </a:lnTo>
                  <a:lnTo>
                    <a:pt x="3247" y="18206"/>
                  </a:lnTo>
                  <a:lnTo>
                    <a:pt x="3247" y="18782"/>
                  </a:lnTo>
                  <a:lnTo>
                    <a:pt x="3975" y="18782"/>
                  </a:lnTo>
                  <a:lnTo>
                    <a:pt x="3975" y="19391"/>
                  </a:lnTo>
                  <a:lnTo>
                    <a:pt x="4683" y="19966"/>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任意多边形 48134"/>
            <p:cNvSpPr/>
            <p:nvPr/>
          </p:nvSpPr>
          <p:spPr>
            <a:xfrm>
              <a:off x="672480" y="2948040"/>
              <a:ext cx="6551640" cy="2962080"/>
            </a:xfrm>
            <a:custGeom>
              <a:avLst/>
              <a:gdLst/>
              <a:ahLst/>
              <a:rect l="l" t="t" r="r" b="b"/>
              <a:pathLst>
                <a:path w="20000" h="20000">
                  <a:moveTo>
                    <a:pt x="19766" y="16390"/>
                  </a:moveTo>
                  <a:lnTo>
                    <a:pt x="19996" y="17010"/>
                  </a:lnTo>
                  <a:lnTo>
                    <a:pt x="19932" y="17010"/>
                  </a:lnTo>
                  <a:lnTo>
                    <a:pt x="19864" y="16848"/>
                  </a:lnTo>
                  <a:lnTo>
                    <a:pt x="19864" y="16686"/>
                  </a:lnTo>
                  <a:lnTo>
                    <a:pt x="19800" y="16686"/>
                  </a:lnTo>
                  <a:lnTo>
                    <a:pt x="19800" y="16190"/>
                  </a:lnTo>
                  <a:lnTo>
                    <a:pt x="19736" y="16190"/>
                  </a:lnTo>
                  <a:lnTo>
                    <a:pt x="19736" y="14867"/>
                  </a:lnTo>
                  <a:lnTo>
                    <a:pt x="19669" y="14867"/>
                  </a:lnTo>
                  <a:lnTo>
                    <a:pt x="19669" y="14705"/>
                  </a:lnTo>
                  <a:lnTo>
                    <a:pt x="19605" y="14705"/>
                  </a:lnTo>
                  <a:lnTo>
                    <a:pt x="19605" y="14210"/>
                  </a:lnTo>
                  <a:lnTo>
                    <a:pt x="19540" y="14210"/>
                  </a:lnTo>
                  <a:lnTo>
                    <a:pt x="19540" y="14038"/>
                  </a:lnTo>
                  <a:lnTo>
                    <a:pt x="19473" y="14038"/>
                  </a:lnTo>
                  <a:lnTo>
                    <a:pt x="19473" y="13876"/>
                  </a:lnTo>
                  <a:lnTo>
                    <a:pt x="19409" y="13876"/>
                  </a:lnTo>
                  <a:lnTo>
                    <a:pt x="19409" y="13714"/>
                  </a:lnTo>
                  <a:lnTo>
                    <a:pt x="19345" y="13714"/>
                  </a:lnTo>
                  <a:lnTo>
                    <a:pt x="19277" y="13543"/>
                  </a:lnTo>
                  <a:lnTo>
                    <a:pt x="19213" y="13543"/>
                  </a:lnTo>
                  <a:lnTo>
                    <a:pt x="19149" y="13381"/>
                  </a:lnTo>
                  <a:lnTo>
                    <a:pt x="19017" y="13210"/>
                  </a:lnTo>
                  <a:lnTo>
                    <a:pt x="18953" y="13048"/>
                  </a:lnTo>
                  <a:lnTo>
                    <a:pt x="18689" y="13048"/>
                  </a:lnTo>
                  <a:lnTo>
                    <a:pt x="18689" y="12886"/>
                  </a:lnTo>
                  <a:lnTo>
                    <a:pt x="18625" y="12886"/>
                  </a:lnTo>
                  <a:lnTo>
                    <a:pt x="18493" y="12714"/>
                  </a:lnTo>
                  <a:lnTo>
                    <a:pt x="18429" y="12714"/>
                  </a:lnTo>
                  <a:lnTo>
                    <a:pt x="18429" y="12552"/>
                  </a:lnTo>
                  <a:lnTo>
                    <a:pt x="18362" y="12390"/>
                  </a:lnTo>
                  <a:lnTo>
                    <a:pt x="18298" y="12390"/>
                  </a:lnTo>
                  <a:lnTo>
                    <a:pt x="18234" y="12219"/>
                  </a:lnTo>
                  <a:lnTo>
                    <a:pt x="18166" y="12219"/>
                  </a:lnTo>
                  <a:lnTo>
                    <a:pt x="18166" y="12057"/>
                  </a:lnTo>
                  <a:lnTo>
                    <a:pt x="18102" y="12057"/>
                  </a:lnTo>
                  <a:lnTo>
                    <a:pt x="18038" y="11895"/>
                  </a:lnTo>
                  <a:lnTo>
                    <a:pt x="18038" y="11724"/>
                  </a:lnTo>
                  <a:lnTo>
                    <a:pt x="17906" y="11724"/>
                  </a:lnTo>
                  <a:lnTo>
                    <a:pt x="17906" y="11562"/>
                  </a:lnTo>
                  <a:lnTo>
                    <a:pt x="17842" y="11562"/>
                  </a:lnTo>
                  <a:lnTo>
                    <a:pt x="17774" y="11400"/>
                  </a:lnTo>
                  <a:lnTo>
                    <a:pt x="17646" y="11400"/>
                  </a:lnTo>
                  <a:lnTo>
                    <a:pt x="17646" y="11229"/>
                  </a:lnTo>
                  <a:lnTo>
                    <a:pt x="17514" y="11229"/>
                  </a:lnTo>
                  <a:lnTo>
                    <a:pt x="17382" y="11067"/>
                  </a:lnTo>
                  <a:lnTo>
                    <a:pt x="16859" y="11067"/>
                  </a:lnTo>
                  <a:lnTo>
                    <a:pt x="16795" y="10905"/>
                  </a:lnTo>
                  <a:lnTo>
                    <a:pt x="16339" y="10905"/>
                  </a:lnTo>
                  <a:lnTo>
                    <a:pt x="16339" y="10733"/>
                  </a:lnTo>
                  <a:lnTo>
                    <a:pt x="15944" y="10733"/>
                  </a:lnTo>
                  <a:lnTo>
                    <a:pt x="15815" y="10571"/>
                  </a:lnTo>
                  <a:lnTo>
                    <a:pt x="15684" y="10410"/>
                  </a:lnTo>
                  <a:lnTo>
                    <a:pt x="15488" y="10410"/>
                  </a:lnTo>
                  <a:lnTo>
                    <a:pt x="15424" y="10238"/>
                  </a:lnTo>
                  <a:lnTo>
                    <a:pt x="15228" y="10238"/>
                  </a:lnTo>
                  <a:lnTo>
                    <a:pt x="15228" y="10076"/>
                  </a:lnTo>
                  <a:lnTo>
                    <a:pt x="14704" y="10076"/>
                  </a:lnTo>
                  <a:lnTo>
                    <a:pt x="14704" y="9905"/>
                  </a:lnTo>
                  <a:lnTo>
                    <a:pt x="14573" y="9905"/>
                  </a:lnTo>
                  <a:lnTo>
                    <a:pt x="14573" y="9743"/>
                  </a:lnTo>
                  <a:lnTo>
                    <a:pt x="14313" y="9743"/>
                  </a:lnTo>
                  <a:lnTo>
                    <a:pt x="14313" y="9581"/>
                  </a:lnTo>
                  <a:lnTo>
                    <a:pt x="14117" y="9581"/>
                  </a:lnTo>
                  <a:lnTo>
                    <a:pt x="14117" y="9410"/>
                  </a:lnTo>
                  <a:lnTo>
                    <a:pt x="13789" y="9410"/>
                  </a:lnTo>
                  <a:lnTo>
                    <a:pt x="13725" y="9248"/>
                  </a:lnTo>
                  <a:lnTo>
                    <a:pt x="13593" y="9248"/>
                  </a:lnTo>
                  <a:lnTo>
                    <a:pt x="13593" y="9086"/>
                  </a:lnTo>
                  <a:lnTo>
                    <a:pt x="10324" y="9086"/>
                  </a:lnTo>
                  <a:lnTo>
                    <a:pt x="10324" y="9248"/>
                  </a:lnTo>
                  <a:lnTo>
                    <a:pt x="10064" y="9248"/>
                  </a:lnTo>
                  <a:lnTo>
                    <a:pt x="10064" y="9410"/>
                  </a:lnTo>
                  <a:lnTo>
                    <a:pt x="9868" y="9410"/>
                  </a:lnTo>
                  <a:lnTo>
                    <a:pt x="9868" y="9581"/>
                  </a:lnTo>
                  <a:lnTo>
                    <a:pt x="9804" y="9743"/>
                  </a:lnTo>
                  <a:lnTo>
                    <a:pt x="9672" y="9743"/>
                  </a:lnTo>
                  <a:lnTo>
                    <a:pt x="9540" y="10076"/>
                  </a:lnTo>
                  <a:lnTo>
                    <a:pt x="9476" y="10076"/>
                  </a:lnTo>
                  <a:lnTo>
                    <a:pt x="9281" y="10571"/>
                  </a:lnTo>
                  <a:lnTo>
                    <a:pt x="9149" y="10733"/>
                  </a:lnTo>
                  <a:lnTo>
                    <a:pt x="9085" y="10733"/>
                  </a:lnTo>
                  <a:lnTo>
                    <a:pt x="8821" y="11400"/>
                  </a:lnTo>
                  <a:lnTo>
                    <a:pt x="8757" y="11400"/>
                  </a:lnTo>
                  <a:lnTo>
                    <a:pt x="8757" y="11562"/>
                  </a:lnTo>
                  <a:lnTo>
                    <a:pt x="8625" y="11724"/>
                  </a:lnTo>
                  <a:lnTo>
                    <a:pt x="8561" y="11895"/>
                  </a:lnTo>
                  <a:lnTo>
                    <a:pt x="8497" y="11895"/>
                  </a:lnTo>
                  <a:lnTo>
                    <a:pt x="8497" y="12057"/>
                  </a:lnTo>
                  <a:lnTo>
                    <a:pt x="8429" y="12219"/>
                  </a:lnTo>
                  <a:lnTo>
                    <a:pt x="8429" y="12390"/>
                  </a:lnTo>
                  <a:lnTo>
                    <a:pt x="8365" y="12390"/>
                  </a:lnTo>
                  <a:lnTo>
                    <a:pt x="8365" y="12552"/>
                  </a:lnTo>
                  <a:lnTo>
                    <a:pt x="8301" y="12552"/>
                  </a:lnTo>
                  <a:lnTo>
                    <a:pt x="8301" y="13048"/>
                  </a:lnTo>
                  <a:lnTo>
                    <a:pt x="8234" y="13048"/>
                  </a:lnTo>
                  <a:lnTo>
                    <a:pt x="8234" y="15695"/>
                  </a:lnTo>
                  <a:lnTo>
                    <a:pt x="8301" y="15695"/>
                  </a:lnTo>
                  <a:lnTo>
                    <a:pt x="8365" y="15857"/>
                  </a:lnTo>
                  <a:lnTo>
                    <a:pt x="8365" y="16019"/>
                  </a:lnTo>
                  <a:lnTo>
                    <a:pt x="8429" y="16190"/>
                  </a:lnTo>
                  <a:lnTo>
                    <a:pt x="8497" y="16352"/>
                  </a:lnTo>
                  <a:lnTo>
                    <a:pt x="8625" y="16686"/>
                  </a:lnTo>
                  <a:lnTo>
                    <a:pt x="8625" y="17010"/>
                  </a:lnTo>
                  <a:lnTo>
                    <a:pt x="8693" y="17181"/>
                  </a:lnTo>
                  <a:lnTo>
                    <a:pt x="8693" y="17343"/>
                  </a:lnTo>
                  <a:lnTo>
                    <a:pt x="8821" y="18010"/>
                  </a:lnTo>
                  <a:lnTo>
                    <a:pt x="8889" y="18333"/>
                  </a:lnTo>
                  <a:lnTo>
                    <a:pt x="8889" y="19990"/>
                  </a:lnTo>
                  <a:lnTo>
                    <a:pt x="8625" y="19990"/>
                  </a:lnTo>
                  <a:lnTo>
                    <a:pt x="8625" y="18171"/>
                  </a:lnTo>
                  <a:lnTo>
                    <a:pt x="8561" y="18171"/>
                  </a:lnTo>
                  <a:lnTo>
                    <a:pt x="8561" y="18010"/>
                  </a:lnTo>
                  <a:lnTo>
                    <a:pt x="8497" y="18010"/>
                  </a:lnTo>
                  <a:lnTo>
                    <a:pt x="8497" y="17676"/>
                  </a:lnTo>
                  <a:lnTo>
                    <a:pt x="8429" y="17676"/>
                  </a:lnTo>
                  <a:lnTo>
                    <a:pt x="8429" y="17514"/>
                  </a:lnTo>
                  <a:lnTo>
                    <a:pt x="8365" y="17514"/>
                  </a:lnTo>
                  <a:lnTo>
                    <a:pt x="8365" y="17343"/>
                  </a:lnTo>
                  <a:lnTo>
                    <a:pt x="8301" y="17343"/>
                  </a:lnTo>
                  <a:lnTo>
                    <a:pt x="8301" y="17181"/>
                  </a:lnTo>
                  <a:lnTo>
                    <a:pt x="8234" y="17010"/>
                  </a:lnTo>
                  <a:lnTo>
                    <a:pt x="8038" y="17010"/>
                  </a:lnTo>
                  <a:lnTo>
                    <a:pt x="7974" y="16848"/>
                  </a:lnTo>
                  <a:lnTo>
                    <a:pt x="7710" y="16848"/>
                  </a:lnTo>
                  <a:lnTo>
                    <a:pt x="7710" y="16686"/>
                  </a:lnTo>
                  <a:lnTo>
                    <a:pt x="7386" y="16686"/>
                  </a:lnTo>
                  <a:lnTo>
                    <a:pt x="7386" y="16514"/>
                  </a:lnTo>
                  <a:lnTo>
                    <a:pt x="7386" y="18505"/>
                  </a:lnTo>
                  <a:lnTo>
                    <a:pt x="7318" y="18667"/>
                  </a:lnTo>
                  <a:lnTo>
                    <a:pt x="7318" y="19162"/>
                  </a:lnTo>
                  <a:lnTo>
                    <a:pt x="7254" y="19162"/>
                  </a:lnTo>
                  <a:lnTo>
                    <a:pt x="7254" y="19324"/>
                  </a:lnTo>
                  <a:lnTo>
                    <a:pt x="7190" y="19324"/>
                  </a:lnTo>
                  <a:lnTo>
                    <a:pt x="7190" y="19657"/>
                  </a:lnTo>
                  <a:lnTo>
                    <a:pt x="7058" y="19657"/>
                  </a:lnTo>
                  <a:lnTo>
                    <a:pt x="7058" y="19819"/>
                  </a:lnTo>
                  <a:lnTo>
                    <a:pt x="6927" y="19819"/>
                  </a:lnTo>
                  <a:lnTo>
                    <a:pt x="6927" y="18505"/>
                  </a:lnTo>
                  <a:lnTo>
                    <a:pt x="6994" y="18333"/>
                  </a:lnTo>
                  <a:lnTo>
                    <a:pt x="7058" y="18333"/>
                  </a:lnTo>
                  <a:lnTo>
                    <a:pt x="7058" y="18010"/>
                  </a:lnTo>
                  <a:lnTo>
                    <a:pt x="7122" y="18010"/>
                  </a:lnTo>
                  <a:lnTo>
                    <a:pt x="7122" y="17838"/>
                  </a:lnTo>
                  <a:lnTo>
                    <a:pt x="7190" y="17838"/>
                  </a:lnTo>
                  <a:lnTo>
                    <a:pt x="7190" y="15362"/>
                  </a:lnTo>
                  <a:lnTo>
                    <a:pt x="7122" y="15362"/>
                  </a:lnTo>
                  <a:lnTo>
                    <a:pt x="7122" y="15200"/>
                  </a:lnTo>
                  <a:lnTo>
                    <a:pt x="7058" y="15029"/>
                  </a:lnTo>
                  <a:lnTo>
                    <a:pt x="7058" y="14867"/>
                  </a:lnTo>
                  <a:lnTo>
                    <a:pt x="6994" y="14867"/>
                  </a:lnTo>
                  <a:lnTo>
                    <a:pt x="6994" y="14705"/>
                  </a:lnTo>
                  <a:lnTo>
                    <a:pt x="6927" y="14705"/>
                  </a:lnTo>
                  <a:lnTo>
                    <a:pt x="6863" y="14533"/>
                  </a:lnTo>
                  <a:lnTo>
                    <a:pt x="6798" y="14533"/>
                  </a:lnTo>
                  <a:lnTo>
                    <a:pt x="6667" y="14371"/>
                  </a:lnTo>
                  <a:lnTo>
                    <a:pt x="5096" y="14371"/>
                  </a:lnTo>
                  <a:lnTo>
                    <a:pt x="5032" y="14533"/>
                  </a:lnTo>
                  <a:lnTo>
                    <a:pt x="4968" y="14705"/>
                  </a:lnTo>
                  <a:lnTo>
                    <a:pt x="4900" y="14867"/>
                  </a:lnTo>
                  <a:lnTo>
                    <a:pt x="4836" y="15029"/>
                  </a:lnTo>
                  <a:lnTo>
                    <a:pt x="4772" y="15200"/>
                  </a:lnTo>
                  <a:lnTo>
                    <a:pt x="4704" y="15200"/>
                  </a:lnTo>
                  <a:lnTo>
                    <a:pt x="4704" y="15362"/>
                  </a:lnTo>
                  <a:lnTo>
                    <a:pt x="4640" y="15362"/>
                  </a:lnTo>
                  <a:lnTo>
                    <a:pt x="4576" y="15695"/>
                  </a:lnTo>
                  <a:lnTo>
                    <a:pt x="4576" y="15857"/>
                  </a:lnTo>
                  <a:lnTo>
                    <a:pt x="4444" y="16019"/>
                  </a:lnTo>
                  <a:lnTo>
                    <a:pt x="4444" y="16352"/>
                  </a:lnTo>
                  <a:lnTo>
                    <a:pt x="4380" y="16514"/>
                  </a:lnTo>
                  <a:lnTo>
                    <a:pt x="4313" y="16514"/>
                  </a:lnTo>
                  <a:lnTo>
                    <a:pt x="4313" y="16848"/>
                  </a:lnTo>
                  <a:lnTo>
                    <a:pt x="4249" y="17010"/>
                  </a:lnTo>
                  <a:lnTo>
                    <a:pt x="4185" y="17010"/>
                  </a:lnTo>
                  <a:lnTo>
                    <a:pt x="4185" y="17343"/>
                  </a:lnTo>
                  <a:lnTo>
                    <a:pt x="4053" y="17343"/>
                  </a:lnTo>
                  <a:lnTo>
                    <a:pt x="4053" y="17514"/>
                  </a:lnTo>
                  <a:lnTo>
                    <a:pt x="3989" y="17676"/>
                  </a:lnTo>
                  <a:lnTo>
                    <a:pt x="3921" y="17838"/>
                  </a:lnTo>
                  <a:lnTo>
                    <a:pt x="3857" y="18010"/>
                  </a:lnTo>
                  <a:lnTo>
                    <a:pt x="3793" y="18010"/>
                  </a:lnTo>
                  <a:lnTo>
                    <a:pt x="3793" y="18171"/>
                  </a:lnTo>
                  <a:lnTo>
                    <a:pt x="3725" y="18333"/>
                  </a:lnTo>
                  <a:lnTo>
                    <a:pt x="3661" y="18333"/>
                  </a:lnTo>
                  <a:lnTo>
                    <a:pt x="3661" y="18505"/>
                  </a:lnTo>
                  <a:lnTo>
                    <a:pt x="3465" y="18505"/>
                  </a:lnTo>
                  <a:lnTo>
                    <a:pt x="3465" y="18667"/>
                  </a:lnTo>
                  <a:lnTo>
                    <a:pt x="3006" y="18667"/>
                  </a:lnTo>
                  <a:lnTo>
                    <a:pt x="3006" y="17010"/>
                  </a:lnTo>
                  <a:lnTo>
                    <a:pt x="3073" y="17010"/>
                  </a:lnTo>
                  <a:lnTo>
                    <a:pt x="3202" y="16848"/>
                  </a:lnTo>
                  <a:lnTo>
                    <a:pt x="3857" y="16848"/>
                  </a:lnTo>
                  <a:lnTo>
                    <a:pt x="3857" y="16686"/>
                  </a:lnTo>
                  <a:lnTo>
                    <a:pt x="3989" y="16686"/>
                  </a:lnTo>
                  <a:lnTo>
                    <a:pt x="3989" y="16514"/>
                  </a:lnTo>
                  <a:lnTo>
                    <a:pt x="4053" y="16352"/>
                  </a:lnTo>
                  <a:lnTo>
                    <a:pt x="4117" y="16352"/>
                  </a:lnTo>
                  <a:lnTo>
                    <a:pt x="4185" y="16190"/>
                  </a:lnTo>
                  <a:lnTo>
                    <a:pt x="4185" y="16019"/>
                  </a:lnTo>
                  <a:lnTo>
                    <a:pt x="4249" y="16019"/>
                  </a:lnTo>
                  <a:lnTo>
                    <a:pt x="4249" y="15695"/>
                  </a:lnTo>
                  <a:lnTo>
                    <a:pt x="4313" y="15695"/>
                  </a:lnTo>
                  <a:lnTo>
                    <a:pt x="4380" y="15362"/>
                  </a:lnTo>
                  <a:lnTo>
                    <a:pt x="4444" y="15362"/>
                  </a:lnTo>
                  <a:lnTo>
                    <a:pt x="4444" y="15029"/>
                  </a:lnTo>
                  <a:lnTo>
                    <a:pt x="4508" y="15029"/>
                  </a:lnTo>
                  <a:lnTo>
                    <a:pt x="4508" y="14533"/>
                  </a:lnTo>
                  <a:lnTo>
                    <a:pt x="4576" y="14533"/>
                  </a:lnTo>
                  <a:lnTo>
                    <a:pt x="4576" y="13714"/>
                  </a:lnTo>
                  <a:lnTo>
                    <a:pt x="4640" y="13714"/>
                  </a:lnTo>
                  <a:lnTo>
                    <a:pt x="4640" y="13381"/>
                  </a:lnTo>
                  <a:lnTo>
                    <a:pt x="4704" y="13381"/>
                  </a:lnTo>
                  <a:lnTo>
                    <a:pt x="4704" y="13210"/>
                  </a:lnTo>
                  <a:lnTo>
                    <a:pt x="4640" y="13210"/>
                  </a:lnTo>
                  <a:lnTo>
                    <a:pt x="4640" y="13381"/>
                  </a:lnTo>
                  <a:lnTo>
                    <a:pt x="4576" y="13381"/>
                  </a:lnTo>
                  <a:lnTo>
                    <a:pt x="4576" y="13543"/>
                  </a:lnTo>
                  <a:lnTo>
                    <a:pt x="4508" y="13543"/>
                  </a:lnTo>
                  <a:lnTo>
                    <a:pt x="4508" y="13714"/>
                  </a:lnTo>
                  <a:lnTo>
                    <a:pt x="4444" y="13714"/>
                  </a:lnTo>
                  <a:lnTo>
                    <a:pt x="4444" y="13876"/>
                  </a:lnTo>
                  <a:lnTo>
                    <a:pt x="4313" y="13876"/>
                  </a:lnTo>
                  <a:lnTo>
                    <a:pt x="4313" y="14038"/>
                  </a:lnTo>
                  <a:lnTo>
                    <a:pt x="4185" y="14038"/>
                  </a:lnTo>
                  <a:lnTo>
                    <a:pt x="4185" y="14210"/>
                  </a:lnTo>
                  <a:lnTo>
                    <a:pt x="4117" y="14210"/>
                  </a:lnTo>
                  <a:lnTo>
                    <a:pt x="4053" y="14371"/>
                  </a:lnTo>
                  <a:lnTo>
                    <a:pt x="3989" y="14371"/>
                  </a:lnTo>
                  <a:lnTo>
                    <a:pt x="3921" y="14533"/>
                  </a:lnTo>
                  <a:lnTo>
                    <a:pt x="3857" y="14533"/>
                  </a:lnTo>
                  <a:lnTo>
                    <a:pt x="3857" y="14705"/>
                  </a:lnTo>
                  <a:lnTo>
                    <a:pt x="3725" y="14705"/>
                  </a:lnTo>
                  <a:lnTo>
                    <a:pt x="3661" y="14867"/>
                  </a:lnTo>
                  <a:lnTo>
                    <a:pt x="3593" y="15029"/>
                  </a:lnTo>
                  <a:lnTo>
                    <a:pt x="3529" y="15029"/>
                  </a:lnTo>
                  <a:lnTo>
                    <a:pt x="3465" y="15200"/>
                  </a:lnTo>
                  <a:lnTo>
                    <a:pt x="3397" y="15200"/>
                  </a:lnTo>
                  <a:lnTo>
                    <a:pt x="3397" y="15362"/>
                  </a:lnTo>
                  <a:lnTo>
                    <a:pt x="3137" y="15362"/>
                  </a:lnTo>
                  <a:lnTo>
                    <a:pt x="3006" y="15695"/>
                  </a:lnTo>
                  <a:lnTo>
                    <a:pt x="2614" y="15695"/>
                  </a:lnTo>
                  <a:lnTo>
                    <a:pt x="2614" y="14867"/>
                  </a:lnTo>
                  <a:lnTo>
                    <a:pt x="2682" y="14867"/>
                  </a:lnTo>
                  <a:lnTo>
                    <a:pt x="2682" y="14705"/>
                  </a:lnTo>
                  <a:lnTo>
                    <a:pt x="2746" y="14705"/>
                  </a:lnTo>
                  <a:lnTo>
                    <a:pt x="2746" y="14533"/>
                  </a:lnTo>
                  <a:lnTo>
                    <a:pt x="2810" y="14533"/>
                  </a:lnTo>
                  <a:lnTo>
                    <a:pt x="2878" y="14371"/>
                  </a:lnTo>
                  <a:lnTo>
                    <a:pt x="2942" y="14371"/>
                  </a:lnTo>
                  <a:lnTo>
                    <a:pt x="2942" y="14210"/>
                  </a:lnTo>
                  <a:lnTo>
                    <a:pt x="3529" y="14210"/>
                  </a:lnTo>
                  <a:lnTo>
                    <a:pt x="3529" y="14038"/>
                  </a:lnTo>
                  <a:lnTo>
                    <a:pt x="3593" y="14038"/>
                  </a:lnTo>
                  <a:lnTo>
                    <a:pt x="3661" y="13876"/>
                  </a:lnTo>
                  <a:lnTo>
                    <a:pt x="3661" y="13714"/>
                  </a:lnTo>
                  <a:lnTo>
                    <a:pt x="3793" y="13714"/>
                  </a:lnTo>
                  <a:lnTo>
                    <a:pt x="3793" y="13543"/>
                  </a:lnTo>
                  <a:lnTo>
                    <a:pt x="3921" y="13543"/>
                  </a:lnTo>
                  <a:lnTo>
                    <a:pt x="3921" y="13381"/>
                  </a:lnTo>
                  <a:lnTo>
                    <a:pt x="4053" y="13381"/>
                  </a:lnTo>
                  <a:lnTo>
                    <a:pt x="4053" y="13210"/>
                  </a:lnTo>
                  <a:lnTo>
                    <a:pt x="4185" y="13048"/>
                  </a:lnTo>
                  <a:lnTo>
                    <a:pt x="4249" y="12886"/>
                  </a:lnTo>
                  <a:lnTo>
                    <a:pt x="4313" y="12714"/>
                  </a:lnTo>
                  <a:lnTo>
                    <a:pt x="4380" y="12714"/>
                  </a:lnTo>
                  <a:lnTo>
                    <a:pt x="4444" y="12552"/>
                  </a:lnTo>
                  <a:lnTo>
                    <a:pt x="4444" y="12390"/>
                  </a:lnTo>
                  <a:lnTo>
                    <a:pt x="4508" y="12390"/>
                  </a:lnTo>
                  <a:lnTo>
                    <a:pt x="4508" y="12219"/>
                  </a:lnTo>
                  <a:lnTo>
                    <a:pt x="4576" y="12219"/>
                  </a:lnTo>
                  <a:lnTo>
                    <a:pt x="4576" y="11724"/>
                  </a:lnTo>
                  <a:lnTo>
                    <a:pt x="4640" y="11724"/>
                  </a:lnTo>
                  <a:lnTo>
                    <a:pt x="4640" y="11562"/>
                  </a:lnTo>
                  <a:lnTo>
                    <a:pt x="4704" y="11562"/>
                  </a:lnTo>
                  <a:lnTo>
                    <a:pt x="4704" y="11067"/>
                  </a:lnTo>
                  <a:lnTo>
                    <a:pt x="4772" y="10905"/>
                  </a:lnTo>
                  <a:lnTo>
                    <a:pt x="4772" y="8752"/>
                  </a:lnTo>
                  <a:lnTo>
                    <a:pt x="4704" y="8752"/>
                  </a:lnTo>
                  <a:lnTo>
                    <a:pt x="4704" y="8419"/>
                  </a:lnTo>
                  <a:lnTo>
                    <a:pt x="4640" y="8419"/>
                  </a:lnTo>
                  <a:lnTo>
                    <a:pt x="4576" y="8257"/>
                  </a:lnTo>
                  <a:lnTo>
                    <a:pt x="4576" y="8095"/>
                  </a:lnTo>
                  <a:lnTo>
                    <a:pt x="4444" y="8095"/>
                  </a:lnTo>
                  <a:lnTo>
                    <a:pt x="4444" y="7924"/>
                  </a:lnTo>
                  <a:lnTo>
                    <a:pt x="4313" y="7924"/>
                  </a:lnTo>
                  <a:lnTo>
                    <a:pt x="4313" y="7762"/>
                  </a:lnTo>
                  <a:lnTo>
                    <a:pt x="3465" y="7762"/>
                  </a:lnTo>
                  <a:lnTo>
                    <a:pt x="3397" y="7924"/>
                  </a:lnTo>
                  <a:lnTo>
                    <a:pt x="3333" y="7924"/>
                  </a:lnTo>
                  <a:lnTo>
                    <a:pt x="3269" y="8095"/>
                  </a:lnTo>
                  <a:lnTo>
                    <a:pt x="3137" y="8095"/>
                  </a:lnTo>
                  <a:lnTo>
                    <a:pt x="3006" y="8419"/>
                  </a:lnTo>
                  <a:lnTo>
                    <a:pt x="2942" y="8419"/>
                  </a:lnTo>
                  <a:lnTo>
                    <a:pt x="2810" y="8590"/>
                  </a:lnTo>
                  <a:lnTo>
                    <a:pt x="2746" y="8590"/>
                  </a:lnTo>
                  <a:lnTo>
                    <a:pt x="2746" y="8752"/>
                  </a:lnTo>
                  <a:lnTo>
                    <a:pt x="2614" y="8752"/>
                  </a:lnTo>
                  <a:lnTo>
                    <a:pt x="2614" y="9086"/>
                  </a:lnTo>
                  <a:lnTo>
                    <a:pt x="2486" y="9086"/>
                  </a:lnTo>
                  <a:lnTo>
                    <a:pt x="2486" y="9248"/>
                  </a:lnTo>
                  <a:lnTo>
                    <a:pt x="2354" y="9410"/>
                  </a:lnTo>
                  <a:lnTo>
                    <a:pt x="2286" y="9410"/>
                  </a:lnTo>
                  <a:lnTo>
                    <a:pt x="2286" y="9581"/>
                  </a:lnTo>
                  <a:lnTo>
                    <a:pt x="2222" y="9581"/>
                  </a:lnTo>
                  <a:lnTo>
                    <a:pt x="2222" y="9743"/>
                  </a:lnTo>
                  <a:lnTo>
                    <a:pt x="2158" y="9743"/>
                  </a:lnTo>
                  <a:lnTo>
                    <a:pt x="2090" y="9581"/>
                  </a:lnTo>
                  <a:lnTo>
                    <a:pt x="2026" y="9410"/>
                  </a:lnTo>
                  <a:lnTo>
                    <a:pt x="2026" y="8752"/>
                  </a:lnTo>
                  <a:lnTo>
                    <a:pt x="2090" y="8752"/>
                  </a:lnTo>
                  <a:lnTo>
                    <a:pt x="2158" y="8590"/>
                  </a:lnTo>
                  <a:lnTo>
                    <a:pt x="2222" y="8419"/>
                  </a:lnTo>
                  <a:lnTo>
                    <a:pt x="2354" y="8419"/>
                  </a:lnTo>
                  <a:lnTo>
                    <a:pt x="2354" y="8257"/>
                  </a:lnTo>
                  <a:lnTo>
                    <a:pt x="2418" y="8257"/>
                  </a:lnTo>
                  <a:lnTo>
                    <a:pt x="2418" y="8095"/>
                  </a:lnTo>
                  <a:lnTo>
                    <a:pt x="2550" y="8095"/>
                  </a:lnTo>
                  <a:lnTo>
                    <a:pt x="2550" y="7924"/>
                  </a:lnTo>
                  <a:lnTo>
                    <a:pt x="2614" y="7924"/>
                  </a:lnTo>
                  <a:lnTo>
                    <a:pt x="2614" y="7762"/>
                  </a:lnTo>
                  <a:lnTo>
                    <a:pt x="2682" y="7762"/>
                  </a:lnTo>
                  <a:lnTo>
                    <a:pt x="2682" y="7600"/>
                  </a:lnTo>
                  <a:lnTo>
                    <a:pt x="2746" y="7600"/>
                  </a:lnTo>
                  <a:lnTo>
                    <a:pt x="2746" y="7429"/>
                  </a:lnTo>
                  <a:lnTo>
                    <a:pt x="2810" y="7429"/>
                  </a:lnTo>
                  <a:lnTo>
                    <a:pt x="2810" y="7267"/>
                  </a:lnTo>
                  <a:lnTo>
                    <a:pt x="2878" y="7105"/>
                  </a:lnTo>
                  <a:lnTo>
                    <a:pt x="2878" y="6771"/>
                  </a:lnTo>
                  <a:lnTo>
                    <a:pt x="2090" y="6771"/>
                  </a:lnTo>
                  <a:lnTo>
                    <a:pt x="2090" y="6933"/>
                  </a:lnTo>
                  <a:lnTo>
                    <a:pt x="2026" y="7105"/>
                  </a:lnTo>
                  <a:lnTo>
                    <a:pt x="1766" y="7105"/>
                  </a:lnTo>
                  <a:lnTo>
                    <a:pt x="1766" y="7267"/>
                  </a:lnTo>
                  <a:lnTo>
                    <a:pt x="1571" y="7267"/>
                  </a:lnTo>
                  <a:lnTo>
                    <a:pt x="1503" y="7429"/>
                  </a:lnTo>
                  <a:lnTo>
                    <a:pt x="1307" y="7429"/>
                  </a:lnTo>
                  <a:lnTo>
                    <a:pt x="1179" y="7600"/>
                  </a:lnTo>
                  <a:lnTo>
                    <a:pt x="1047" y="7762"/>
                  </a:lnTo>
                  <a:lnTo>
                    <a:pt x="915" y="7762"/>
                  </a:lnTo>
                  <a:lnTo>
                    <a:pt x="783" y="7924"/>
                  </a:lnTo>
                  <a:lnTo>
                    <a:pt x="655" y="7924"/>
                  </a:lnTo>
                  <a:lnTo>
                    <a:pt x="655" y="8095"/>
                  </a:lnTo>
                  <a:lnTo>
                    <a:pt x="392" y="8095"/>
                  </a:lnTo>
                  <a:lnTo>
                    <a:pt x="328" y="8257"/>
                  </a:lnTo>
                  <a:lnTo>
                    <a:pt x="0" y="8257"/>
                  </a:lnTo>
                  <a:lnTo>
                    <a:pt x="0" y="7600"/>
                  </a:lnTo>
                  <a:lnTo>
                    <a:pt x="132" y="7600"/>
                  </a:lnTo>
                  <a:lnTo>
                    <a:pt x="132" y="7429"/>
                  </a:lnTo>
                  <a:lnTo>
                    <a:pt x="264" y="7429"/>
                  </a:lnTo>
                  <a:lnTo>
                    <a:pt x="264" y="7267"/>
                  </a:lnTo>
                  <a:lnTo>
                    <a:pt x="328" y="7105"/>
                  </a:lnTo>
                  <a:lnTo>
                    <a:pt x="655" y="7105"/>
                  </a:lnTo>
                  <a:lnTo>
                    <a:pt x="719" y="6933"/>
                  </a:lnTo>
                  <a:lnTo>
                    <a:pt x="915" y="6933"/>
                  </a:lnTo>
                  <a:lnTo>
                    <a:pt x="915" y="6771"/>
                  </a:lnTo>
                  <a:lnTo>
                    <a:pt x="979" y="6771"/>
                  </a:lnTo>
                  <a:lnTo>
                    <a:pt x="979" y="6600"/>
                  </a:lnTo>
                  <a:lnTo>
                    <a:pt x="1047" y="6438"/>
                  </a:lnTo>
                  <a:lnTo>
                    <a:pt x="1047" y="6105"/>
                  </a:lnTo>
                  <a:lnTo>
                    <a:pt x="1111" y="6105"/>
                  </a:lnTo>
                  <a:lnTo>
                    <a:pt x="1111" y="4124"/>
                  </a:lnTo>
                  <a:lnTo>
                    <a:pt x="1503" y="4124"/>
                  </a:lnTo>
                  <a:lnTo>
                    <a:pt x="1503" y="4457"/>
                  </a:lnTo>
                  <a:lnTo>
                    <a:pt x="1571" y="4457"/>
                  </a:lnTo>
                  <a:lnTo>
                    <a:pt x="1571" y="4619"/>
                  </a:lnTo>
                  <a:lnTo>
                    <a:pt x="1895" y="4619"/>
                  </a:lnTo>
                  <a:lnTo>
                    <a:pt x="1895" y="4790"/>
                  </a:lnTo>
                  <a:lnTo>
                    <a:pt x="2682" y="4790"/>
                  </a:lnTo>
                  <a:lnTo>
                    <a:pt x="2746" y="4457"/>
                  </a:lnTo>
                  <a:lnTo>
                    <a:pt x="2878" y="4457"/>
                  </a:lnTo>
                  <a:lnTo>
                    <a:pt x="2878" y="4295"/>
                  </a:lnTo>
                  <a:lnTo>
                    <a:pt x="2942" y="4295"/>
                  </a:lnTo>
                  <a:lnTo>
                    <a:pt x="3006" y="4124"/>
                  </a:lnTo>
                  <a:lnTo>
                    <a:pt x="3006" y="3962"/>
                  </a:lnTo>
                  <a:lnTo>
                    <a:pt x="3073" y="3800"/>
                  </a:lnTo>
                  <a:lnTo>
                    <a:pt x="3137" y="3800"/>
                  </a:lnTo>
                  <a:lnTo>
                    <a:pt x="3202" y="3629"/>
                  </a:lnTo>
                  <a:lnTo>
                    <a:pt x="3202" y="3467"/>
                  </a:lnTo>
                  <a:lnTo>
                    <a:pt x="3269" y="3467"/>
                  </a:lnTo>
                  <a:lnTo>
                    <a:pt x="3269" y="2971"/>
                  </a:lnTo>
                  <a:lnTo>
                    <a:pt x="3333" y="2971"/>
                  </a:lnTo>
                  <a:lnTo>
                    <a:pt x="3333" y="2800"/>
                  </a:lnTo>
                  <a:lnTo>
                    <a:pt x="3397" y="2800"/>
                  </a:lnTo>
                  <a:lnTo>
                    <a:pt x="3397" y="2476"/>
                  </a:lnTo>
                  <a:lnTo>
                    <a:pt x="3465" y="2476"/>
                  </a:lnTo>
                  <a:lnTo>
                    <a:pt x="3465" y="819"/>
                  </a:lnTo>
                  <a:lnTo>
                    <a:pt x="3397" y="819"/>
                  </a:lnTo>
                  <a:lnTo>
                    <a:pt x="3397" y="657"/>
                  </a:lnTo>
                  <a:lnTo>
                    <a:pt x="3333" y="657"/>
                  </a:lnTo>
                  <a:lnTo>
                    <a:pt x="3333" y="495"/>
                  </a:lnTo>
                  <a:lnTo>
                    <a:pt x="3137" y="495"/>
                  </a:lnTo>
                  <a:lnTo>
                    <a:pt x="3073" y="324"/>
                  </a:lnTo>
                  <a:lnTo>
                    <a:pt x="3073" y="0"/>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椭圆 48135"/>
            <p:cNvSpPr/>
            <p:nvPr/>
          </p:nvSpPr>
          <p:spPr>
            <a:xfrm>
              <a:off x="2449080" y="3709800"/>
              <a:ext cx="667440" cy="509040"/>
            </a:xfrm>
            <a:prstGeom prst="ellipse">
              <a:avLst/>
            </a:prstGeom>
            <a:solidFill>
              <a:srgbClr val="e5e5e5"/>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任意多边形 48136"/>
            <p:cNvSpPr/>
            <p:nvPr/>
          </p:nvSpPr>
          <p:spPr>
            <a:xfrm>
              <a:off x="1116360" y="5549040"/>
              <a:ext cx="887400" cy="1004040"/>
            </a:xfrm>
            <a:custGeom>
              <a:avLst/>
              <a:gdLst/>
              <a:ahLst/>
              <a:rect l="l" t="t" r="r" b="b"/>
              <a:pathLst>
                <a:path w="20000" h="20000">
                  <a:moveTo>
                    <a:pt x="0" y="18989"/>
                  </a:moveTo>
                  <a:lnTo>
                    <a:pt x="1168" y="16573"/>
                  </a:lnTo>
                  <a:lnTo>
                    <a:pt x="2114" y="16573"/>
                  </a:lnTo>
                  <a:lnTo>
                    <a:pt x="2114" y="16067"/>
                  </a:lnTo>
                  <a:lnTo>
                    <a:pt x="2615" y="15590"/>
                  </a:lnTo>
                  <a:lnTo>
                    <a:pt x="3088" y="15112"/>
                  </a:lnTo>
                  <a:lnTo>
                    <a:pt x="3561" y="14607"/>
                  </a:lnTo>
                  <a:lnTo>
                    <a:pt x="3561" y="13652"/>
                  </a:lnTo>
                  <a:lnTo>
                    <a:pt x="4061" y="13652"/>
                  </a:lnTo>
                  <a:lnTo>
                    <a:pt x="4061" y="12191"/>
                  </a:lnTo>
                  <a:lnTo>
                    <a:pt x="4534" y="12191"/>
                  </a:lnTo>
                  <a:lnTo>
                    <a:pt x="4534" y="11208"/>
                  </a:lnTo>
                  <a:lnTo>
                    <a:pt x="5007" y="11208"/>
                  </a:lnTo>
                  <a:lnTo>
                    <a:pt x="5007" y="9747"/>
                  </a:lnTo>
                  <a:lnTo>
                    <a:pt x="5508" y="9747"/>
                  </a:lnTo>
                  <a:lnTo>
                    <a:pt x="5508" y="7781"/>
                  </a:lnTo>
                  <a:lnTo>
                    <a:pt x="5981" y="7781"/>
                  </a:lnTo>
                  <a:lnTo>
                    <a:pt x="5981" y="6826"/>
                  </a:lnTo>
                  <a:lnTo>
                    <a:pt x="6453" y="6320"/>
                  </a:lnTo>
                  <a:lnTo>
                    <a:pt x="6453" y="5843"/>
                  </a:lnTo>
                  <a:lnTo>
                    <a:pt x="6954" y="5843"/>
                  </a:lnTo>
                  <a:lnTo>
                    <a:pt x="6954" y="4860"/>
                  </a:lnTo>
                  <a:lnTo>
                    <a:pt x="7427" y="4860"/>
                  </a:lnTo>
                  <a:lnTo>
                    <a:pt x="7427" y="3904"/>
                  </a:lnTo>
                  <a:lnTo>
                    <a:pt x="7928" y="3399"/>
                  </a:lnTo>
                  <a:lnTo>
                    <a:pt x="7928" y="2921"/>
                  </a:lnTo>
                  <a:lnTo>
                    <a:pt x="8401" y="2444"/>
                  </a:lnTo>
                  <a:lnTo>
                    <a:pt x="8401" y="983"/>
                  </a:lnTo>
                  <a:lnTo>
                    <a:pt x="8873" y="983"/>
                  </a:lnTo>
                  <a:lnTo>
                    <a:pt x="8873" y="0"/>
                  </a:lnTo>
                  <a:lnTo>
                    <a:pt x="9374" y="0"/>
                  </a:lnTo>
                  <a:lnTo>
                    <a:pt x="9374" y="2921"/>
                  </a:lnTo>
                  <a:lnTo>
                    <a:pt x="9847" y="2921"/>
                  </a:lnTo>
                  <a:lnTo>
                    <a:pt x="9847" y="4382"/>
                  </a:lnTo>
                  <a:lnTo>
                    <a:pt x="10320" y="4382"/>
                  </a:lnTo>
                  <a:lnTo>
                    <a:pt x="10320" y="5365"/>
                  </a:lnTo>
                  <a:lnTo>
                    <a:pt x="10821" y="5365"/>
                  </a:lnTo>
                  <a:lnTo>
                    <a:pt x="10821" y="5843"/>
                  </a:lnTo>
                  <a:lnTo>
                    <a:pt x="15633" y="5843"/>
                  </a:lnTo>
                  <a:lnTo>
                    <a:pt x="15633" y="5365"/>
                  </a:lnTo>
                  <a:lnTo>
                    <a:pt x="16606" y="5365"/>
                  </a:lnTo>
                  <a:lnTo>
                    <a:pt x="16606" y="4382"/>
                  </a:lnTo>
                  <a:lnTo>
                    <a:pt x="17079" y="4382"/>
                  </a:lnTo>
                  <a:lnTo>
                    <a:pt x="17079" y="3904"/>
                  </a:lnTo>
                  <a:lnTo>
                    <a:pt x="17580" y="3904"/>
                  </a:lnTo>
                  <a:lnTo>
                    <a:pt x="17580" y="3399"/>
                  </a:lnTo>
                  <a:lnTo>
                    <a:pt x="19972" y="3399"/>
                  </a:lnTo>
                  <a:lnTo>
                    <a:pt x="19972" y="4860"/>
                  </a:lnTo>
                  <a:lnTo>
                    <a:pt x="19499" y="4860"/>
                  </a:lnTo>
                  <a:lnTo>
                    <a:pt x="19499" y="5843"/>
                  </a:lnTo>
                  <a:lnTo>
                    <a:pt x="19026" y="5843"/>
                  </a:lnTo>
                  <a:lnTo>
                    <a:pt x="19026" y="6320"/>
                  </a:lnTo>
                  <a:lnTo>
                    <a:pt x="18526" y="6320"/>
                  </a:lnTo>
                  <a:lnTo>
                    <a:pt x="18526" y="6826"/>
                  </a:lnTo>
                  <a:lnTo>
                    <a:pt x="17580" y="6826"/>
                  </a:lnTo>
                  <a:lnTo>
                    <a:pt x="17580" y="7781"/>
                  </a:lnTo>
                  <a:lnTo>
                    <a:pt x="16606" y="7781"/>
                  </a:lnTo>
                  <a:lnTo>
                    <a:pt x="16606" y="8287"/>
                  </a:lnTo>
                  <a:lnTo>
                    <a:pt x="15633" y="8287"/>
                  </a:lnTo>
                  <a:lnTo>
                    <a:pt x="15633" y="8764"/>
                  </a:lnTo>
                  <a:lnTo>
                    <a:pt x="14186" y="8764"/>
                  </a:lnTo>
                  <a:lnTo>
                    <a:pt x="14186" y="9242"/>
                  </a:lnTo>
                  <a:lnTo>
                    <a:pt x="13713" y="9242"/>
                  </a:lnTo>
                  <a:lnTo>
                    <a:pt x="13713" y="9747"/>
                  </a:lnTo>
                  <a:lnTo>
                    <a:pt x="12740" y="9747"/>
                  </a:lnTo>
                  <a:lnTo>
                    <a:pt x="12740" y="10225"/>
                  </a:lnTo>
                  <a:lnTo>
                    <a:pt x="11766" y="10225"/>
                  </a:lnTo>
                  <a:lnTo>
                    <a:pt x="11766" y="10702"/>
                  </a:lnTo>
                  <a:lnTo>
                    <a:pt x="10821" y="10702"/>
                  </a:lnTo>
                  <a:lnTo>
                    <a:pt x="10821" y="11208"/>
                  </a:lnTo>
                  <a:lnTo>
                    <a:pt x="10320" y="11208"/>
                  </a:lnTo>
                  <a:lnTo>
                    <a:pt x="9847" y="11685"/>
                  </a:lnTo>
                  <a:lnTo>
                    <a:pt x="9374" y="11685"/>
                  </a:lnTo>
                  <a:lnTo>
                    <a:pt x="9374" y="12191"/>
                  </a:lnTo>
                  <a:lnTo>
                    <a:pt x="8873" y="12191"/>
                  </a:lnTo>
                  <a:lnTo>
                    <a:pt x="8873" y="12669"/>
                  </a:lnTo>
                  <a:lnTo>
                    <a:pt x="7928" y="12669"/>
                  </a:lnTo>
                  <a:lnTo>
                    <a:pt x="7928" y="13146"/>
                  </a:lnTo>
                  <a:lnTo>
                    <a:pt x="6954" y="14129"/>
                  </a:lnTo>
                  <a:lnTo>
                    <a:pt x="6954" y="14607"/>
                  </a:lnTo>
                  <a:lnTo>
                    <a:pt x="6453" y="14607"/>
                  </a:lnTo>
                  <a:lnTo>
                    <a:pt x="6453" y="15112"/>
                  </a:lnTo>
                  <a:lnTo>
                    <a:pt x="5981" y="15590"/>
                  </a:lnTo>
                  <a:lnTo>
                    <a:pt x="5981" y="16573"/>
                  </a:lnTo>
                  <a:lnTo>
                    <a:pt x="5508" y="16573"/>
                  </a:lnTo>
                  <a:lnTo>
                    <a:pt x="5508" y="19972"/>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任意多边形 48137"/>
            <p:cNvSpPr/>
            <p:nvPr/>
          </p:nvSpPr>
          <p:spPr>
            <a:xfrm>
              <a:off x="228600" y="2588040"/>
              <a:ext cx="1047240" cy="1175040"/>
            </a:xfrm>
            <a:custGeom>
              <a:avLst/>
              <a:gdLst/>
              <a:ahLst/>
              <a:rect l="l" t="t" r="r" b="b"/>
              <a:pathLst>
                <a:path w="20000" h="20000">
                  <a:moveTo>
                    <a:pt x="0" y="1801"/>
                  </a:moveTo>
                  <a:lnTo>
                    <a:pt x="1602" y="3745"/>
                  </a:lnTo>
                  <a:lnTo>
                    <a:pt x="4452" y="6651"/>
                  </a:lnTo>
                  <a:lnTo>
                    <a:pt x="5277" y="6651"/>
                  </a:lnTo>
                  <a:lnTo>
                    <a:pt x="5277" y="7491"/>
                  </a:lnTo>
                  <a:lnTo>
                    <a:pt x="5677" y="7491"/>
                  </a:lnTo>
                  <a:lnTo>
                    <a:pt x="6101" y="7899"/>
                  </a:lnTo>
                  <a:lnTo>
                    <a:pt x="6101" y="8331"/>
                  </a:lnTo>
                  <a:lnTo>
                    <a:pt x="6502" y="8331"/>
                  </a:lnTo>
                  <a:lnTo>
                    <a:pt x="6902" y="8739"/>
                  </a:lnTo>
                  <a:lnTo>
                    <a:pt x="6902" y="9148"/>
                  </a:lnTo>
                  <a:lnTo>
                    <a:pt x="7326" y="9148"/>
                  </a:lnTo>
                  <a:lnTo>
                    <a:pt x="7326" y="10828"/>
                  </a:lnTo>
                  <a:lnTo>
                    <a:pt x="7727" y="10828"/>
                  </a:lnTo>
                  <a:lnTo>
                    <a:pt x="7727" y="12077"/>
                  </a:lnTo>
                  <a:lnTo>
                    <a:pt x="8127" y="12077"/>
                  </a:lnTo>
                  <a:lnTo>
                    <a:pt x="8127" y="12485"/>
                  </a:lnTo>
                  <a:lnTo>
                    <a:pt x="8551" y="12485"/>
                  </a:lnTo>
                  <a:lnTo>
                    <a:pt x="8551" y="17071"/>
                  </a:lnTo>
                  <a:lnTo>
                    <a:pt x="8952" y="17071"/>
                  </a:lnTo>
                  <a:lnTo>
                    <a:pt x="9352" y="17479"/>
                  </a:lnTo>
                  <a:lnTo>
                    <a:pt x="9352" y="18319"/>
                  </a:lnTo>
                  <a:lnTo>
                    <a:pt x="9776" y="18319"/>
                  </a:lnTo>
                  <a:lnTo>
                    <a:pt x="9776" y="18727"/>
                  </a:lnTo>
                  <a:lnTo>
                    <a:pt x="10177" y="18727"/>
                  </a:lnTo>
                  <a:lnTo>
                    <a:pt x="10177" y="19160"/>
                  </a:lnTo>
                  <a:lnTo>
                    <a:pt x="10577" y="19160"/>
                  </a:lnTo>
                  <a:lnTo>
                    <a:pt x="10577" y="19568"/>
                  </a:lnTo>
                  <a:lnTo>
                    <a:pt x="11001" y="19568"/>
                  </a:lnTo>
                  <a:lnTo>
                    <a:pt x="11001" y="19976"/>
                  </a:lnTo>
                  <a:lnTo>
                    <a:pt x="13451" y="19976"/>
                  </a:lnTo>
                  <a:lnTo>
                    <a:pt x="13451" y="15390"/>
                  </a:lnTo>
                  <a:lnTo>
                    <a:pt x="13852" y="15390"/>
                  </a:lnTo>
                  <a:lnTo>
                    <a:pt x="13852" y="14982"/>
                  </a:lnTo>
                  <a:lnTo>
                    <a:pt x="15077" y="14982"/>
                  </a:lnTo>
                  <a:lnTo>
                    <a:pt x="15077" y="14574"/>
                  </a:lnTo>
                  <a:lnTo>
                    <a:pt x="18351" y="14574"/>
                  </a:lnTo>
                  <a:lnTo>
                    <a:pt x="18351" y="14982"/>
                  </a:lnTo>
                  <a:lnTo>
                    <a:pt x="18751" y="14982"/>
                  </a:lnTo>
                  <a:lnTo>
                    <a:pt x="18751" y="15390"/>
                  </a:lnTo>
                  <a:lnTo>
                    <a:pt x="19576" y="15390"/>
                  </a:lnTo>
                  <a:lnTo>
                    <a:pt x="19576" y="14982"/>
                  </a:lnTo>
                  <a:lnTo>
                    <a:pt x="19976" y="14982"/>
                  </a:lnTo>
                  <a:lnTo>
                    <a:pt x="19976" y="11645"/>
                  </a:lnTo>
                  <a:lnTo>
                    <a:pt x="10577" y="11645"/>
                  </a:lnTo>
                  <a:lnTo>
                    <a:pt x="10577" y="9148"/>
                  </a:lnTo>
                  <a:lnTo>
                    <a:pt x="10177" y="9148"/>
                  </a:lnTo>
                  <a:lnTo>
                    <a:pt x="10177" y="7899"/>
                  </a:lnTo>
                  <a:lnTo>
                    <a:pt x="9776" y="7899"/>
                  </a:lnTo>
                  <a:lnTo>
                    <a:pt x="9776" y="7491"/>
                  </a:lnTo>
                  <a:lnTo>
                    <a:pt x="9352" y="7491"/>
                  </a:lnTo>
                  <a:lnTo>
                    <a:pt x="9352" y="6242"/>
                  </a:lnTo>
                  <a:lnTo>
                    <a:pt x="8952" y="6242"/>
                  </a:lnTo>
                  <a:lnTo>
                    <a:pt x="8952" y="5810"/>
                  </a:lnTo>
                  <a:lnTo>
                    <a:pt x="8551" y="5810"/>
                  </a:lnTo>
                  <a:lnTo>
                    <a:pt x="8551" y="4562"/>
                  </a:lnTo>
                  <a:lnTo>
                    <a:pt x="8127" y="4562"/>
                  </a:lnTo>
                  <a:lnTo>
                    <a:pt x="8127" y="4154"/>
                  </a:lnTo>
                  <a:lnTo>
                    <a:pt x="7727" y="4154"/>
                  </a:lnTo>
                  <a:lnTo>
                    <a:pt x="7727" y="3745"/>
                  </a:lnTo>
                  <a:lnTo>
                    <a:pt x="7326" y="3745"/>
                  </a:lnTo>
                  <a:lnTo>
                    <a:pt x="7326" y="3313"/>
                  </a:lnTo>
                  <a:lnTo>
                    <a:pt x="6902" y="3313"/>
                  </a:lnTo>
                  <a:lnTo>
                    <a:pt x="6902" y="2905"/>
                  </a:lnTo>
                  <a:lnTo>
                    <a:pt x="6502" y="2905"/>
                  </a:lnTo>
                  <a:lnTo>
                    <a:pt x="6502" y="2497"/>
                  </a:lnTo>
                  <a:lnTo>
                    <a:pt x="5677" y="2497"/>
                  </a:lnTo>
                  <a:lnTo>
                    <a:pt x="5677" y="2065"/>
                  </a:lnTo>
                  <a:lnTo>
                    <a:pt x="5277" y="1657"/>
                  </a:lnTo>
                  <a:lnTo>
                    <a:pt x="4853" y="1657"/>
                  </a:lnTo>
                  <a:lnTo>
                    <a:pt x="4853" y="1248"/>
                  </a:lnTo>
                  <a:lnTo>
                    <a:pt x="4452" y="1248"/>
                  </a:lnTo>
                  <a:lnTo>
                    <a:pt x="4452" y="816"/>
                  </a:lnTo>
                  <a:lnTo>
                    <a:pt x="4052" y="816"/>
                  </a:lnTo>
                  <a:lnTo>
                    <a:pt x="3628" y="408"/>
                  </a:lnTo>
                  <a:lnTo>
                    <a:pt x="3628" y="0"/>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任意多边形 48138"/>
            <p:cNvSpPr/>
            <p:nvPr/>
          </p:nvSpPr>
          <p:spPr>
            <a:xfrm>
              <a:off x="589680" y="4154040"/>
              <a:ext cx="1200600" cy="955800"/>
            </a:xfrm>
            <a:custGeom>
              <a:avLst/>
              <a:gdLst/>
              <a:ahLst/>
              <a:rect l="l" t="t" r="r" b="b"/>
              <a:pathLst>
                <a:path w="20000" h="20000">
                  <a:moveTo>
                    <a:pt x="1377" y="17257"/>
                  </a:moveTo>
                  <a:lnTo>
                    <a:pt x="0" y="17404"/>
                  </a:lnTo>
                  <a:lnTo>
                    <a:pt x="0" y="16873"/>
                  </a:lnTo>
                  <a:lnTo>
                    <a:pt x="719" y="16873"/>
                  </a:lnTo>
                  <a:lnTo>
                    <a:pt x="719" y="16372"/>
                  </a:lnTo>
                  <a:lnTo>
                    <a:pt x="1069" y="16372"/>
                  </a:lnTo>
                  <a:lnTo>
                    <a:pt x="1069" y="15870"/>
                  </a:lnTo>
                  <a:lnTo>
                    <a:pt x="1788" y="15870"/>
                  </a:lnTo>
                  <a:lnTo>
                    <a:pt x="1788" y="15339"/>
                  </a:lnTo>
                  <a:lnTo>
                    <a:pt x="2138" y="15339"/>
                  </a:lnTo>
                  <a:lnTo>
                    <a:pt x="2138" y="14838"/>
                  </a:lnTo>
                  <a:lnTo>
                    <a:pt x="2508" y="14838"/>
                  </a:lnTo>
                  <a:lnTo>
                    <a:pt x="2857" y="14336"/>
                  </a:lnTo>
                  <a:lnTo>
                    <a:pt x="3207" y="14336"/>
                  </a:lnTo>
                  <a:lnTo>
                    <a:pt x="3207" y="13805"/>
                  </a:lnTo>
                  <a:lnTo>
                    <a:pt x="3577" y="13805"/>
                  </a:lnTo>
                  <a:lnTo>
                    <a:pt x="3577" y="13304"/>
                  </a:lnTo>
                  <a:lnTo>
                    <a:pt x="3926" y="12802"/>
                  </a:lnTo>
                  <a:lnTo>
                    <a:pt x="4275" y="12802"/>
                  </a:lnTo>
                  <a:lnTo>
                    <a:pt x="4275" y="12271"/>
                  </a:lnTo>
                  <a:lnTo>
                    <a:pt x="4645" y="12271"/>
                  </a:lnTo>
                  <a:lnTo>
                    <a:pt x="4645" y="11770"/>
                  </a:lnTo>
                  <a:lnTo>
                    <a:pt x="4995" y="11770"/>
                  </a:lnTo>
                  <a:lnTo>
                    <a:pt x="6064" y="10236"/>
                  </a:lnTo>
                  <a:lnTo>
                    <a:pt x="6064" y="9735"/>
                  </a:lnTo>
                  <a:lnTo>
                    <a:pt x="6783" y="9735"/>
                  </a:lnTo>
                  <a:lnTo>
                    <a:pt x="6783" y="8702"/>
                  </a:lnTo>
                  <a:lnTo>
                    <a:pt x="7133" y="8702"/>
                  </a:lnTo>
                  <a:lnTo>
                    <a:pt x="7133" y="7670"/>
                  </a:lnTo>
                  <a:lnTo>
                    <a:pt x="7503" y="7670"/>
                  </a:lnTo>
                  <a:lnTo>
                    <a:pt x="7503" y="6637"/>
                  </a:lnTo>
                  <a:lnTo>
                    <a:pt x="7852" y="6637"/>
                  </a:lnTo>
                  <a:lnTo>
                    <a:pt x="7852" y="5634"/>
                  </a:lnTo>
                  <a:lnTo>
                    <a:pt x="8201" y="5634"/>
                  </a:lnTo>
                  <a:lnTo>
                    <a:pt x="8201" y="4602"/>
                  </a:lnTo>
                  <a:lnTo>
                    <a:pt x="8571" y="4602"/>
                  </a:lnTo>
                  <a:lnTo>
                    <a:pt x="8571" y="4100"/>
                  </a:lnTo>
                  <a:lnTo>
                    <a:pt x="8921" y="4100"/>
                  </a:lnTo>
                  <a:lnTo>
                    <a:pt x="8921" y="3068"/>
                  </a:lnTo>
                  <a:lnTo>
                    <a:pt x="9270" y="3068"/>
                  </a:lnTo>
                  <a:lnTo>
                    <a:pt x="9270" y="2566"/>
                  </a:lnTo>
                  <a:lnTo>
                    <a:pt x="9640" y="2566"/>
                  </a:lnTo>
                  <a:lnTo>
                    <a:pt x="9640" y="2035"/>
                  </a:lnTo>
                  <a:lnTo>
                    <a:pt x="9990" y="2035"/>
                  </a:lnTo>
                  <a:lnTo>
                    <a:pt x="9990" y="1534"/>
                  </a:lnTo>
                  <a:lnTo>
                    <a:pt x="10339" y="1534"/>
                  </a:lnTo>
                  <a:lnTo>
                    <a:pt x="10339" y="501"/>
                  </a:lnTo>
                  <a:lnTo>
                    <a:pt x="11059" y="501"/>
                  </a:lnTo>
                  <a:lnTo>
                    <a:pt x="11059" y="0"/>
                  </a:lnTo>
                  <a:lnTo>
                    <a:pt x="11059" y="3068"/>
                  </a:lnTo>
                  <a:lnTo>
                    <a:pt x="10709" y="3068"/>
                  </a:lnTo>
                  <a:lnTo>
                    <a:pt x="10709" y="6136"/>
                  </a:lnTo>
                  <a:lnTo>
                    <a:pt x="11059" y="6136"/>
                  </a:lnTo>
                  <a:lnTo>
                    <a:pt x="11059" y="6637"/>
                  </a:lnTo>
                  <a:lnTo>
                    <a:pt x="15334" y="6637"/>
                  </a:lnTo>
                  <a:lnTo>
                    <a:pt x="15334" y="6136"/>
                  </a:lnTo>
                  <a:lnTo>
                    <a:pt x="15704" y="6136"/>
                  </a:lnTo>
                  <a:lnTo>
                    <a:pt x="15704" y="5634"/>
                  </a:lnTo>
                  <a:lnTo>
                    <a:pt x="16403" y="5634"/>
                  </a:lnTo>
                  <a:lnTo>
                    <a:pt x="16403" y="5103"/>
                  </a:lnTo>
                  <a:lnTo>
                    <a:pt x="16773" y="5103"/>
                  </a:lnTo>
                  <a:lnTo>
                    <a:pt x="16773" y="4602"/>
                  </a:lnTo>
                  <a:lnTo>
                    <a:pt x="17472" y="4602"/>
                  </a:lnTo>
                  <a:lnTo>
                    <a:pt x="17472" y="4100"/>
                  </a:lnTo>
                  <a:lnTo>
                    <a:pt x="19979" y="4100"/>
                  </a:lnTo>
                  <a:lnTo>
                    <a:pt x="19979" y="5634"/>
                  </a:lnTo>
                  <a:lnTo>
                    <a:pt x="19609" y="5634"/>
                  </a:lnTo>
                  <a:lnTo>
                    <a:pt x="19260" y="6136"/>
                  </a:lnTo>
                  <a:lnTo>
                    <a:pt x="19260" y="6637"/>
                  </a:lnTo>
                  <a:lnTo>
                    <a:pt x="18911" y="6637"/>
                  </a:lnTo>
                  <a:lnTo>
                    <a:pt x="18911" y="7168"/>
                  </a:lnTo>
                  <a:lnTo>
                    <a:pt x="18191" y="7168"/>
                  </a:lnTo>
                  <a:lnTo>
                    <a:pt x="18191" y="7670"/>
                  </a:lnTo>
                  <a:lnTo>
                    <a:pt x="17842" y="7670"/>
                  </a:lnTo>
                  <a:lnTo>
                    <a:pt x="17472" y="8171"/>
                  </a:lnTo>
                  <a:lnTo>
                    <a:pt x="17472" y="8702"/>
                  </a:lnTo>
                  <a:lnTo>
                    <a:pt x="16773" y="8702"/>
                  </a:lnTo>
                  <a:lnTo>
                    <a:pt x="16773" y="9204"/>
                  </a:lnTo>
                  <a:lnTo>
                    <a:pt x="16053" y="9204"/>
                  </a:lnTo>
                  <a:lnTo>
                    <a:pt x="16053" y="9735"/>
                  </a:lnTo>
                  <a:lnTo>
                    <a:pt x="15334" y="9735"/>
                  </a:lnTo>
                  <a:lnTo>
                    <a:pt x="15334" y="10236"/>
                  </a:lnTo>
                  <a:lnTo>
                    <a:pt x="14985" y="10737"/>
                  </a:lnTo>
                  <a:lnTo>
                    <a:pt x="9640" y="10737"/>
                  </a:lnTo>
                  <a:lnTo>
                    <a:pt x="9640" y="11268"/>
                  </a:lnTo>
                  <a:lnTo>
                    <a:pt x="8921" y="11268"/>
                  </a:lnTo>
                  <a:lnTo>
                    <a:pt x="8921" y="11770"/>
                  </a:lnTo>
                  <a:lnTo>
                    <a:pt x="8201" y="11770"/>
                  </a:lnTo>
                  <a:lnTo>
                    <a:pt x="8201" y="12271"/>
                  </a:lnTo>
                  <a:lnTo>
                    <a:pt x="7852" y="12802"/>
                  </a:lnTo>
                  <a:lnTo>
                    <a:pt x="7503" y="12802"/>
                  </a:lnTo>
                  <a:lnTo>
                    <a:pt x="7503" y="13805"/>
                  </a:lnTo>
                  <a:lnTo>
                    <a:pt x="6783" y="13805"/>
                  </a:lnTo>
                  <a:lnTo>
                    <a:pt x="6783" y="14336"/>
                  </a:lnTo>
                  <a:lnTo>
                    <a:pt x="6413" y="14838"/>
                  </a:lnTo>
                  <a:lnTo>
                    <a:pt x="6413" y="15339"/>
                  </a:lnTo>
                  <a:lnTo>
                    <a:pt x="6064" y="15339"/>
                  </a:lnTo>
                  <a:lnTo>
                    <a:pt x="6064" y="15870"/>
                  </a:lnTo>
                  <a:lnTo>
                    <a:pt x="5714" y="15870"/>
                  </a:lnTo>
                  <a:lnTo>
                    <a:pt x="5714" y="16372"/>
                  </a:lnTo>
                  <a:lnTo>
                    <a:pt x="5344" y="16873"/>
                  </a:lnTo>
                  <a:lnTo>
                    <a:pt x="5344" y="17906"/>
                  </a:lnTo>
                  <a:lnTo>
                    <a:pt x="4995" y="17906"/>
                  </a:lnTo>
                  <a:lnTo>
                    <a:pt x="4995" y="18407"/>
                  </a:lnTo>
                  <a:lnTo>
                    <a:pt x="4645" y="18938"/>
                  </a:lnTo>
                  <a:lnTo>
                    <a:pt x="4645" y="19971"/>
                  </a:lnTo>
                </a:path>
              </a:pathLst>
            </a:cu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线形标注 2(无边框) 48139"/>
            <p:cNvSpPr/>
            <p:nvPr/>
          </p:nvSpPr>
          <p:spPr>
            <a:xfrm>
              <a:off x="4596120" y="4950720"/>
              <a:ext cx="3183480" cy="536040"/>
            </a:xfrm>
            <a:noFill/>
            <a:ln w="6480">
              <a:solidFill>
                <a:srgbClr val="000000"/>
              </a:solidFill>
              <a:miter/>
              <a:headEnd len="lg" type="triangle" w="sm"/>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DFKai-SB"/>
                </a:rPr>
                <a:t>神經核</a:t>
              </a:r>
              <a:r>
                <a:rPr b="0" lang="zh-TW" sz="2400" spc="-1" strike="noStrike">
                  <a:solidFill>
                    <a:srgbClr val="000000"/>
                  </a:solidFill>
                  <a:latin typeface="Times New Roman"/>
                </a:rPr>
                <a:t>（</a:t>
              </a:r>
              <a:r>
                <a:rPr b="0" lang="en-US" sz="2400" spc="-1" strike="noStrike">
                  <a:solidFill>
                    <a:srgbClr val="000000"/>
                  </a:solidFill>
                  <a:latin typeface="Times New Roman"/>
                </a:rPr>
                <a:t>soma</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 name="线形标注 2(无边框) 48140"/>
            <p:cNvSpPr/>
            <p:nvPr/>
          </p:nvSpPr>
          <p:spPr>
            <a:xfrm>
              <a:off x="5706720" y="1396440"/>
              <a:ext cx="2738880" cy="536040"/>
            </a:xfrm>
            <a:noFill/>
            <a:ln w="6480">
              <a:solidFill>
                <a:srgbClr val="000000"/>
              </a:solidFill>
              <a:miter/>
              <a:headEnd len="lg" type="triangle" w="sm"/>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DFKai-SB"/>
                </a:rPr>
                <a:t>神經軸突</a:t>
              </a:r>
              <a:r>
                <a:rPr b="0" lang="zh-TW" sz="2400" spc="-1" strike="noStrike">
                  <a:solidFill>
                    <a:srgbClr val="000000"/>
                  </a:solidFill>
                  <a:latin typeface="Times New Roman"/>
                </a:rPr>
                <a:t>（</a:t>
              </a:r>
              <a:r>
                <a:rPr b="0" lang="en-US" sz="2400" spc="-1" strike="noStrike">
                  <a:solidFill>
                    <a:srgbClr val="000000"/>
                  </a:solidFill>
                  <a:latin typeface="Times New Roman"/>
                </a:rPr>
                <a:t>axon</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7" name="线形标注 2(无边框) 48141"/>
            <p:cNvSpPr/>
            <p:nvPr/>
          </p:nvSpPr>
          <p:spPr>
            <a:xfrm>
              <a:off x="2153160" y="1142280"/>
              <a:ext cx="3183480" cy="535680"/>
            </a:xfrm>
            <a:noFill/>
            <a:ln w="6480">
              <a:solidFill>
                <a:srgbClr val="000000"/>
              </a:solidFill>
              <a:miter/>
              <a:headEnd len="lg" type="triangle" w="sm"/>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DFKai-SB"/>
                </a:rPr>
                <a:t>神經突觸</a:t>
              </a:r>
              <a:r>
                <a:rPr b="0" lang="zh-TW" sz="2400" spc="-1" strike="noStrike">
                  <a:solidFill>
                    <a:srgbClr val="000000"/>
                  </a:solidFill>
                  <a:latin typeface="Times New Roman"/>
                </a:rPr>
                <a:t>（</a:t>
              </a:r>
              <a:r>
                <a:rPr b="0" lang="en-US" sz="2400" spc="-1" strike="noStrike">
                  <a:solidFill>
                    <a:srgbClr val="000000"/>
                  </a:solidFill>
                  <a:latin typeface="Times New Roman"/>
                </a:rPr>
                <a:t>synapses</a:t>
              </a:r>
              <a:r>
                <a:rPr b="0" lang="zh-TW" sz="2400" spc="-1" strike="noStrike">
                  <a:solidFill>
                    <a:srgbClr val="000000"/>
                  </a:solidFill>
                  <a:latin typeface="Times New Roman"/>
                </a:rPr>
                <a:t>）（</a:t>
              </a:r>
              <a:r>
                <a:rPr b="0" lang="en-US" sz="2400" spc="-1" strike="noStrike">
                  <a:solidFill>
                    <a:srgbClr val="000000"/>
                  </a:solidFill>
                  <a:latin typeface="Times New Roman"/>
                </a:rPr>
                <a:t>synapses</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8" name="线形标注 2(无边框) 48142"/>
            <p:cNvSpPr/>
            <p:nvPr/>
          </p:nvSpPr>
          <p:spPr>
            <a:xfrm>
              <a:off x="1931400" y="380880"/>
              <a:ext cx="3181680" cy="535680"/>
            </a:xfrm>
            <a:noFill/>
            <a:ln w="6480">
              <a:solidFill>
                <a:srgbClr val="000000"/>
              </a:solidFill>
              <a:miter/>
              <a:headEnd len="lg" type="triangle" w="sm"/>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DFKai-SB"/>
                </a:rPr>
                <a:t>神經樹突</a:t>
              </a:r>
              <a:r>
                <a:rPr b="0" lang="zh-TW" sz="2400" spc="-1" strike="noStrike">
                  <a:solidFill>
                    <a:srgbClr val="000000"/>
                  </a:solidFill>
                  <a:latin typeface="Times New Roman"/>
                </a:rPr>
                <a:t>（</a:t>
              </a:r>
              <a:r>
                <a:rPr b="0" lang="en-US" sz="2400" spc="-1" strike="noStrike">
                  <a:solidFill>
                    <a:srgbClr val="000000"/>
                  </a:solidFill>
                  <a:latin typeface="Times New Roman"/>
                </a:rPr>
                <a:t>dendrites</a:t>
              </a:r>
              <a:r>
                <a:rPr b="0" lang="zh-TW" sz="2400" spc="-1" strike="noStrike">
                  <a:solidFill>
                    <a:srgbClr val="000000"/>
                  </a:solidFill>
                  <a:latin typeface="Times New Roman"/>
                </a:rPr>
                <a:t>）</a:t>
              </a:r>
              <a:r>
                <a:rPr b="0" lang="en-US" sz="2400" spc="-1" strike="noStrike">
                  <a:solidFill>
                    <a:srgbClr val="000000"/>
                  </a:solidFill>
                  <a:latin typeface="Times New Roman"/>
                </a:rPr>
                <a:t>(dendrites</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8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人工神經元模型（</a:t>
            </a:r>
            <a:r>
              <a:rPr b="0" lang="en-US" sz="4400" spc="-1" strike="noStrike">
                <a:solidFill>
                  <a:srgbClr val="6699ff"/>
                </a:solidFill>
                <a:latin typeface="Times New Roman"/>
                <a:ea typeface="DFKai-SB"/>
              </a:rPr>
              <a:t>1</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類神經網路：由許多的人工神經細胞（</a:t>
            </a:r>
            <a:r>
              <a:rPr b="0" lang="en-US" sz="3200" spc="-1" strike="noStrike">
                <a:solidFill>
                  <a:srgbClr val="000000"/>
                </a:solidFill>
                <a:latin typeface="DFKai-SB"/>
                <a:ea typeface="DFKai-SB"/>
              </a:rPr>
              <a:t>artificial neuron</a:t>
            </a:r>
            <a:r>
              <a:rPr b="0" lang="zh-TW" sz="3200" spc="-1" strike="noStrike">
                <a:solidFill>
                  <a:srgbClr val="000000"/>
                </a:solidFill>
                <a:latin typeface="DFKai-SB"/>
                <a:ea typeface="DFKai-SB"/>
              </a:rPr>
              <a:t>）所組成。又稱類神經元、人工神經元、處理單元（ </a:t>
            </a:r>
            <a:r>
              <a:rPr b="0" lang="en-US" sz="3200" spc="-1" strike="noStrike">
                <a:solidFill>
                  <a:srgbClr val="000000"/>
                </a:solidFill>
                <a:latin typeface="DFKai-SB"/>
                <a:ea typeface="DFKai-SB"/>
              </a:rPr>
              <a:t>processing element</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每一個處理單元的輸出以扇形送出，成為其它許多處理單元的輸入。</a:t>
            </a:r>
            <a:endParaRPr b="0" lang="en-US" sz="3200" spc="-1" strike="noStrike">
              <a:solidFill>
                <a:srgbClr val="000000"/>
              </a:solidFill>
              <a:latin typeface="Times New Roman"/>
            </a:endParaRPr>
          </a:p>
        </p:txBody>
      </p:sp>
      <p:sp>
        <p:nvSpPr>
          <p:cNvPr id="19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人工神經元模型（</a:t>
            </a:r>
            <a:r>
              <a:rPr b="0" lang="en-US" sz="4400" spc="-1" strike="noStrike">
                <a:solidFill>
                  <a:srgbClr val="6699ff"/>
                </a:solidFill>
                <a:latin typeface="Times New Roman"/>
                <a:ea typeface="DFKai-SB"/>
              </a:rPr>
              <a:t>2</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pic>
        <p:nvPicPr>
          <p:cNvPr id="194" name="文本占位符 52226" descr=""/>
          <p:cNvPicPr/>
          <p:nvPr/>
        </p:nvPicPr>
        <p:blipFill>
          <a:blip r:embed="rId1"/>
          <a:stretch/>
        </p:blipFill>
        <p:spPr>
          <a:xfrm>
            <a:off x="2935440" y="3389400"/>
            <a:ext cx="4038480" cy="761760"/>
          </a:xfrm>
          <a:prstGeom prst="rect">
            <a:avLst/>
          </a:prstGeom>
          <a:ln w="0">
            <a:noFill/>
          </a:ln>
        </p:spPr>
      </p:pic>
      <p:sp>
        <p:nvSpPr>
          <p:cNvPr id="195" name="文本框 52227"/>
          <p:cNvSpPr/>
          <p:nvPr/>
        </p:nvSpPr>
        <p:spPr>
          <a:xfrm>
            <a:off x="2121840" y="4294080"/>
            <a:ext cx="5042880" cy="162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其中</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Y</a:t>
            </a:r>
            <a:r>
              <a:rPr b="0" lang="en-US" sz="3200" spc="-1" strike="noStrike" baseline="-25000">
                <a:solidFill>
                  <a:srgbClr val="000000"/>
                </a:solidFill>
                <a:latin typeface="DFKai-SB"/>
                <a:ea typeface="DFKai-SB"/>
              </a:rPr>
              <a:t>j </a:t>
            </a:r>
            <a:r>
              <a:rPr b="0" lang="en-US" sz="3200" spc="-1" strike="noStrike">
                <a:solidFill>
                  <a:srgbClr val="000000"/>
                </a:solidFill>
                <a:latin typeface="DFKai-SB"/>
                <a:ea typeface="DFKai-SB"/>
              </a:rPr>
              <a:t>= </a:t>
            </a:r>
            <a:r>
              <a:rPr b="0" lang="zh-TW" sz="3200" spc="-1" strike="noStrike">
                <a:solidFill>
                  <a:srgbClr val="000000"/>
                </a:solidFill>
                <a:latin typeface="DFKai-SB"/>
                <a:ea typeface="DFKai-SB"/>
              </a:rPr>
              <a:t>模仿生物神經元模型的</a:t>
            </a:r>
            <a:r>
              <a:rPr b="1" lang="zh-TW" sz="3200" spc="-1" strike="noStrike">
                <a:solidFill>
                  <a:srgbClr val="000000"/>
                </a:solidFill>
                <a:latin typeface="DFKai-SB"/>
                <a:ea typeface="DFKai-SB"/>
              </a:rPr>
              <a:t>輸出訊號</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文本框 52228"/>
          <p:cNvSpPr/>
          <p:nvPr/>
        </p:nvSpPr>
        <p:spPr>
          <a:xfrm>
            <a:off x="2476080" y="1703520"/>
            <a:ext cx="422352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處理單元輸出值與輸入值的關係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一般用輸入值的加權乘積和之函數來表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人工神經元模型（</a:t>
            </a:r>
            <a:r>
              <a:rPr b="0" lang="en-US" sz="4400" spc="-1" strike="noStrike">
                <a:solidFill>
                  <a:srgbClr val="6699ff"/>
                </a:solidFill>
                <a:latin typeface="Times New Roman"/>
                <a:ea typeface="DFKai-SB"/>
              </a:rPr>
              <a:t>3</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f </a:t>
            </a:r>
            <a:r>
              <a:rPr b="0" lang="zh-TW" sz="3200" spc="-1" strike="noStrike">
                <a:solidFill>
                  <a:srgbClr val="000000"/>
                </a:solidFill>
                <a:latin typeface="DFKai-SB"/>
                <a:ea typeface="DFKai-SB"/>
              </a:rPr>
              <a:t>＝模仿生物神經元模型的</a:t>
            </a:r>
            <a:r>
              <a:rPr b="1" lang="zh-TW" sz="3200" spc="-1" strike="noStrike">
                <a:solidFill>
                  <a:srgbClr val="000000"/>
                </a:solidFill>
                <a:latin typeface="DFKai-SB"/>
                <a:ea typeface="DFKai-SB"/>
              </a:rPr>
              <a:t>轉移函數</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transfer function</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W</a:t>
            </a:r>
            <a:r>
              <a:rPr b="0" lang="en-US" sz="3200" spc="-1" strike="noStrike" baseline="-25000">
                <a:solidFill>
                  <a:srgbClr val="000000"/>
                </a:solidFill>
                <a:latin typeface="DFKai-SB"/>
                <a:ea typeface="DFKai-SB"/>
              </a:rPr>
              <a:t>ij </a:t>
            </a:r>
            <a:r>
              <a:rPr b="0" lang="zh-TW" sz="3200" spc="-1" strike="noStrike">
                <a:solidFill>
                  <a:srgbClr val="000000"/>
                </a:solidFill>
                <a:latin typeface="DFKai-SB"/>
                <a:ea typeface="DFKai-SB"/>
              </a:rPr>
              <a:t>＝模仿生物神經元模型的神經鏈結強度，又稱</a:t>
            </a:r>
            <a:r>
              <a:rPr b="1" lang="zh-TW" sz="3200" spc="-1" strike="noStrike">
                <a:solidFill>
                  <a:srgbClr val="000000"/>
                </a:solidFill>
                <a:latin typeface="DFKai-SB"/>
                <a:ea typeface="DFKai-SB"/>
              </a:rPr>
              <a:t>鏈結加權值</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p:txBody>
      </p:sp>
      <p:sp>
        <p:nvSpPr>
          <p:cNvPr id="20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人工神經元模型（</a:t>
            </a:r>
            <a:r>
              <a:rPr b="0" lang="en-US" sz="4400" spc="-1" strike="noStrike">
                <a:solidFill>
                  <a:srgbClr val="6699ff"/>
                </a:solidFill>
                <a:latin typeface="Times New Roman"/>
                <a:ea typeface="DFKai-SB"/>
              </a:rPr>
              <a:t>4</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X</a:t>
            </a:r>
            <a:r>
              <a:rPr b="0" lang="en-US" sz="3200" spc="-1" strike="noStrike" baseline="-25000">
                <a:solidFill>
                  <a:srgbClr val="000000"/>
                </a:solidFill>
                <a:latin typeface="DFKai-SB"/>
                <a:ea typeface="DFKai-SB"/>
              </a:rPr>
              <a:t>i  </a:t>
            </a:r>
            <a:r>
              <a:rPr b="0" lang="zh-TW" sz="3200" spc="-1" strike="noStrike">
                <a:solidFill>
                  <a:srgbClr val="000000"/>
                </a:solidFill>
                <a:latin typeface="DFKai-SB"/>
                <a:ea typeface="DFKai-SB"/>
              </a:rPr>
              <a:t>＝模仿生物神經元模型的</a:t>
            </a:r>
            <a:r>
              <a:rPr b="1" lang="zh-TW" sz="3200" spc="-1" strike="noStrike">
                <a:solidFill>
                  <a:srgbClr val="000000"/>
                </a:solidFill>
                <a:latin typeface="DFKai-SB"/>
                <a:ea typeface="DFKai-SB"/>
              </a:rPr>
              <a:t>輸入訊號</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input signal</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θ</a:t>
            </a:r>
            <a:r>
              <a:rPr b="0" lang="zh-TW" sz="3200" spc="-1" strike="noStrike">
                <a:solidFill>
                  <a:srgbClr val="000000"/>
                </a:solidFill>
                <a:latin typeface="DFKai-SB"/>
                <a:ea typeface="DFKai-SB"/>
              </a:rPr>
              <a:t>＝模仿生物神經元模型的</a:t>
            </a:r>
            <a:r>
              <a:rPr b="1" lang="zh-TW" sz="3200" spc="-1" strike="noStrike">
                <a:solidFill>
                  <a:srgbClr val="000000"/>
                </a:solidFill>
                <a:latin typeface="DFKai-SB"/>
                <a:ea typeface="DFKai-SB"/>
              </a:rPr>
              <a:t>閥值</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threshold value</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p:txBody>
      </p:sp>
      <p:sp>
        <p:nvSpPr>
          <p:cNvPr id="20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对象 50177" descr=""/>
          <p:cNvPicPr/>
          <p:nvPr/>
        </p:nvPicPr>
        <p:blipFill>
          <a:blip r:embed="rId1"/>
          <a:stretch/>
        </p:blipFill>
        <p:spPr>
          <a:xfrm>
            <a:off x="-1523880" y="1066680"/>
            <a:ext cx="11658600" cy="5486400"/>
          </a:xfrm>
          <a:prstGeom prst="rect">
            <a:avLst/>
          </a:prstGeom>
          <a:ln w="0">
            <a:noFill/>
          </a:ln>
        </p:spPr>
      </p:pic>
      <p:sp>
        <p:nvSpPr>
          <p:cNvPr id="20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人工神經元模型（</a:t>
            </a:r>
            <a:r>
              <a:rPr b="0" lang="en-US" sz="4400" spc="-1" strike="noStrike">
                <a:solidFill>
                  <a:srgbClr val="6699ff"/>
                </a:solidFill>
                <a:latin typeface="Times New Roman"/>
                <a:ea typeface="DFKai-SB"/>
              </a:rPr>
              <a:t>5</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鏈結</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connection</a:t>
            </a:r>
            <a:r>
              <a:rPr b="0" lang="zh-TW" sz="3200" spc="-1" strike="noStrike">
                <a:solidFill>
                  <a:srgbClr val="000000"/>
                </a:solidFill>
                <a:latin typeface="DFKai-SB"/>
                <a:ea typeface="DFKai-SB"/>
              </a:rPr>
              <a:t>） ：介於處理單元間的訊號傳遞路徑。</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每一個鏈結上有一個數值的加權值</a:t>
            </a:r>
            <a:r>
              <a:rPr b="0" lang="en-US" sz="3200" spc="-1" strike="noStrike">
                <a:solidFill>
                  <a:srgbClr val="000000"/>
                </a:solidFill>
                <a:latin typeface="DFKai-SB"/>
                <a:ea typeface="DFKai-SB"/>
              </a:rPr>
              <a:t>W</a:t>
            </a:r>
            <a:r>
              <a:rPr b="0" lang="en-US" sz="3200" spc="-1" strike="noStrike" baseline="-25000">
                <a:solidFill>
                  <a:srgbClr val="000000"/>
                </a:solidFill>
                <a:latin typeface="DFKai-SB"/>
                <a:ea typeface="DFKai-SB"/>
              </a:rPr>
              <a:t>ij</a:t>
            </a:r>
            <a:r>
              <a:rPr b="0" lang="zh-TW" sz="3200" spc="-1" strike="noStrike">
                <a:solidFill>
                  <a:srgbClr val="000000"/>
                </a:solidFill>
                <a:latin typeface="DFKai-SB"/>
                <a:ea typeface="DFKai-SB"/>
              </a:rPr>
              <a:t>，用以表示第</a:t>
            </a:r>
            <a:r>
              <a:rPr b="0" lang="en-US" sz="3200" spc="-1" strike="noStrike">
                <a:solidFill>
                  <a:srgbClr val="000000"/>
                </a:solidFill>
                <a:latin typeface="DFKai-SB"/>
                <a:ea typeface="DFKai-SB"/>
              </a:rPr>
              <a:t>i</a:t>
            </a:r>
            <a:r>
              <a:rPr b="0" lang="zh-TW" sz="3200" spc="-1" strike="noStrike">
                <a:solidFill>
                  <a:srgbClr val="000000"/>
                </a:solidFill>
                <a:latin typeface="DFKai-SB"/>
                <a:ea typeface="DFKai-SB"/>
              </a:rPr>
              <a:t>處理單元對第</a:t>
            </a:r>
            <a:r>
              <a:rPr b="0" lang="en-US" sz="3200" spc="-1" strike="noStrike">
                <a:solidFill>
                  <a:srgbClr val="000000"/>
                </a:solidFill>
                <a:latin typeface="DFKai-SB"/>
                <a:ea typeface="DFKai-SB"/>
              </a:rPr>
              <a:t>j</a:t>
            </a:r>
            <a:r>
              <a:rPr b="0" lang="zh-TW" sz="3200" spc="-1" strike="noStrike">
                <a:solidFill>
                  <a:srgbClr val="000000"/>
                </a:solidFill>
                <a:latin typeface="DFKai-SB"/>
                <a:ea typeface="DFKai-SB"/>
              </a:rPr>
              <a:t>處理單元之影響程度。</a:t>
            </a:r>
            <a:endParaRPr b="0" lang="en-US" sz="3200" spc="-1" strike="noStrike">
              <a:solidFill>
                <a:srgbClr val="000000"/>
              </a:solidFill>
              <a:latin typeface="Times New Roman"/>
            </a:endParaRPr>
          </a:p>
        </p:txBody>
      </p:sp>
      <p:sp>
        <p:nvSpPr>
          <p:cNvPr id="20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人工神經元模型（</a:t>
            </a:r>
            <a:r>
              <a:rPr b="0" lang="en-US" sz="4400" spc="-1" strike="noStrike">
                <a:solidFill>
                  <a:srgbClr val="6699ff"/>
                </a:solidFill>
                <a:latin typeface="Times New Roman"/>
                <a:ea typeface="DFKai-SB"/>
              </a:rPr>
              <a:t>6</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一個類神經網路</a:t>
            </a:r>
            <a:r>
              <a:rPr b="0" lang="en-US" sz="3200" spc="-1" strike="noStrike">
                <a:solidFill>
                  <a:srgbClr val="000000"/>
                </a:solidFill>
                <a:latin typeface="DFKai-SB"/>
                <a:ea typeface="DFKai-SB"/>
              </a:rPr>
              <a:t>:</a:t>
            </a:r>
            <a:r>
              <a:rPr b="0" lang="zh-TW" sz="3200" spc="-1" strike="noStrike">
                <a:solidFill>
                  <a:srgbClr val="000000"/>
                </a:solidFill>
                <a:latin typeface="DFKai-SB"/>
                <a:ea typeface="DFKai-SB"/>
              </a:rPr>
              <a:t>由許多個人工神經元所組成，並且可以組成不同的</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  </a:t>
            </a:r>
            <a:r>
              <a:rPr b="1" lang="zh-TW" sz="3200" spc="-1" strike="noStrike">
                <a:solidFill>
                  <a:srgbClr val="000000"/>
                </a:solidFill>
                <a:latin typeface="DFKai-SB"/>
                <a:ea typeface="DFKai-SB"/>
              </a:rPr>
              <a:t>網路模式</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network model</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zh-TW" sz="3200" spc="-1" strike="noStrike">
                <a:solidFill>
                  <a:srgbClr val="000000"/>
                </a:solidFill>
                <a:latin typeface="DFKai-SB"/>
                <a:ea typeface="DFKai-SB"/>
              </a:rPr>
              <a:t>或</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  </a:t>
            </a:r>
            <a:r>
              <a:rPr b="1" lang="zh-TW" sz="3200" spc="-1" strike="noStrike">
                <a:solidFill>
                  <a:srgbClr val="000000"/>
                </a:solidFill>
                <a:latin typeface="DFKai-SB"/>
                <a:ea typeface="DFKai-SB"/>
              </a:rPr>
              <a:t>網路典範</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networkparadigm</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99ff"/>
                </a:solidFill>
                <a:latin typeface="Times New Roman"/>
                <a:ea typeface="DFKai-SB"/>
              </a:rPr>
              <a:t>類神經網路導論</a:t>
            </a:r>
            <a:endParaRPr b="0" lang="en-US" sz="4400" spc="-1" strike="noStrike">
              <a:solidFill>
                <a:srgbClr val="333399"/>
              </a:solidFill>
              <a:latin typeface="Times New Roman"/>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類神經網路</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artificial neural network</a:t>
            </a:r>
            <a:r>
              <a:rPr b="0" lang="zh-TW" sz="3200" spc="-1" strike="noStrike">
                <a:solidFill>
                  <a:srgbClr val="000000"/>
                </a:solidFill>
                <a:latin typeface="DFKai-SB"/>
                <a:ea typeface="DFKai-SB"/>
              </a:rPr>
              <a:t>）</a:t>
            </a:r>
            <a:r>
              <a:rPr b="1" lang="zh-TW" sz="3200" spc="-1" strike="noStrike">
                <a:solidFill>
                  <a:srgbClr val="000000"/>
                </a:solidFill>
                <a:latin typeface="DFKai-SB"/>
                <a:ea typeface="DFKai-SB"/>
              </a:rPr>
              <a:t>或譯為人工神經網路</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zh-TW" sz="3200" spc="-1" strike="noStrike">
                <a:solidFill>
                  <a:srgbClr val="000000"/>
                </a:solidFill>
                <a:latin typeface="DFKai-SB"/>
                <a:ea typeface="DFKai-SB"/>
              </a:rPr>
              <a:t>模仿生物神經網路的資訊處理系統。</a:t>
            </a:r>
            <a:endParaRPr b="0" lang="en-US" sz="3200" spc="-1" strike="noStrike">
              <a:solidFill>
                <a:srgbClr val="000000"/>
              </a:solidFill>
              <a:latin typeface="Times New Roman"/>
            </a:endParaRPr>
          </a:p>
        </p:txBody>
      </p:sp>
      <p:sp>
        <p:nvSpPr>
          <p:cNvPr id="14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類神經網路模型</a:t>
            </a:r>
            <a:r>
              <a:rPr b="0" lang="en-US" sz="4400" spc="-1" strike="noStrike">
                <a:solidFill>
                  <a:srgbClr val="6699ff"/>
                </a:solidFill>
                <a:latin typeface="Times New Roman"/>
                <a:ea typeface="DFKai-SB"/>
              </a:rPr>
              <a:t>(1)</a:t>
            </a:r>
            <a:endParaRPr b="0" lang="en-US" sz="4400" spc="-1" strike="noStrike">
              <a:solidFill>
                <a:srgbClr val="333399"/>
              </a:solidFill>
              <a:latin typeface="Times New Roman"/>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倒傳遞網路（</a:t>
            </a:r>
            <a:r>
              <a:rPr b="0" lang="en-US" sz="3200" spc="-1" strike="noStrike">
                <a:solidFill>
                  <a:srgbClr val="000000"/>
                </a:solidFill>
                <a:latin typeface="DFKai-SB"/>
                <a:ea typeface="DFKai-SB"/>
              </a:rPr>
              <a:t>back- propagation network</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BPN </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a:t>
            </a:r>
            <a:r>
              <a:rPr b="0" lang="zh-TW" sz="3200" spc="-1" strike="noStrike">
                <a:solidFill>
                  <a:srgbClr val="000000"/>
                </a:solidFill>
                <a:latin typeface="DFKai-SB"/>
                <a:ea typeface="DFKai-SB"/>
              </a:rPr>
              <a:t>應用最普遍。</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BPN:</a:t>
            </a:r>
            <a:r>
              <a:rPr b="0" lang="zh-TW" sz="3200" spc="-1" strike="noStrike">
                <a:solidFill>
                  <a:srgbClr val="000000"/>
                </a:solidFill>
                <a:latin typeface="DFKai-SB"/>
                <a:ea typeface="DFKai-SB"/>
              </a:rPr>
              <a:t>包含許多層</a:t>
            </a:r>
            <a:r>
              <a:rPr b="0" lang="en-US" sz="3200" spc="-1" strike="noStrike">
                <a:solidFill>
                  <a:srgbClr val="000000"/>
                </a:solidFill>
                <a:latin typeface="DFKai-SB"/>
                <a:ea typeface="DFKai-SB"/>
              </a:rPr>
              <a:t>(</a:t>
            </a:r>
            <a:r>
              <a:rPr b="0" lang="zh-TW" sz="3200" spc="-1" strike="noStrike">
                <a:solidFill>
                  <a:srgbClr val="000000"/>
                </a:solidFill>
                <a:latin typeface="DFKai-SB"/>
                <a:ea typeface="DFKai-SB"/>
              </a:rPr>
              <a:t>含若干個處單元</a:t>
            </a:r>
            <a:r>
              <a:rPr b="0" lang="en-US" sz="3200" spc="-1" strike="noStrike">
                <a:solidFill>
                  <a:srgbClr val="000000"/>
                </a:solidFill>
                <a:latin typeface="DFKai-SB"/>
                <a:ea typeface="DFKai-SB"/>
              </a:rPr>
              <a:t>)</a:t>
            </a:r>
            <a:endParaRPr b="0" lang="en-US" sz="3200" spc="-1" strike="noStrike">
              <a:solidFill>
                <a:srgbClr val="000000"/>
              </a:solidFill>
              <a:latin typeface="Times New Roman"/>
            </a:endParaRPr>
          </a:p>
        </p:txBody>
      </p:sp>
      <p:sp>
        <p:nvSpPr>
          <p:cNvPr id="21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類神經網路模型</a:t>
            </a:r>
            <a:r>
              <a:rPr b="0" lang="en-US" sz="4400" spc="-1" strike="noStrike">
                <a:solidFill>
                  <a:srgbClr val="6699ff"/>
                </a:solidFill>
                <a:latin typeface="Times New Roman"/>
                <a:ea typeface="DFKai-SB"/>
              </a:rPr>
              <a:t>(2)</a:t>
            </a:r>
            <a:endParaRPr b="0" lang="en-US" sz="4400" spc="-1" strike="noStrike">
              <a:solidFill>
                <a:srgbClr val="333399"/>
              </a:solidFill>
              <a:latin typeface="Times New Roman"/>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輸入層單元</a:t>
            </a:r>
            <a:r>
              <a:rPr b="0" lang="en-US" sz="3200" spc="-1" strike="noStrike">
                <a:solidFill>
                  <a:srgbClr val="000000"/>
                </a:solidFill>
                <a:latin typeface="DFKai-SB"/>
                <a:ea typeface="DFKai-SB"/>
              </a:rPr>
              <a:t>:</a:t>
            </a:r>
            <a:r>
              <a:rPr b="0" lang="zh-TW" sz="3200" spc="-1" strike="noStrike">
                <a:solidFill>
                  <a:srgbClr val="000000"/>
                </a:solidFill>
                <a:latin typeface="DFKai-SB"/>
                <a:ea typeface="DFKai-SB"/>
              </a:rPr>
              <a:t>輸入訊息。</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輸出層單元</a:t>
            </a:r>
            <a:r>
              <a:rPr b="0" lang="zh-TW" sz="3200" spc="-1" strike="noStrike">
                <a:solidFill>
                  <a:srgbClr val="000000"/>
                </a:solidFill>
                <a:latin typeface="DFKai-SB"/>
                <a:ea typeface="DFKai-SB"/>
              </a:rPr>
              <a:t>：輸出訊息。</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隱藏層單元</a:t>
            </a:r>
            <a:r>
              <a:rPr b="0" lang="zh-TW" sz="3200" spc="-1" strike="noStrike">
                <a:solidFill>
                  <a:srgbClr val="000000"/>
                </a:solidFill>
                <a:latin typeface="DFKai-SB"/>
                <a:ea typeface="DFKai-SB"/>
              </a:rPr>
              <a:t>：提供類神經網路表現處理單元間的交互作用與問題的內在結構的能力。</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56321" descr="BP結構圖"/>
          <p:cNvPicPr/>
          <p:nvPr/>
        </p:nvPicPr>
        <p:blipFill>
          <a:blip r:embed="rId1"/>
          <a:stretch/>
        </p:blipFill>
        <p:spPr>
          <a:xfrm>
            <a:off x="762120" y="276120"/>
            <a:ext cx="7696080" cy="6051600"/>
          </a:xfrm>
          <a:prstGeom prst="rect">
            <a:avLst/>
          </a:prstGeom>
          <a:ln w="0">
            <a:noFill/>
          </a:ln>
        </p:spPr>
      </p:pic>
      <p:sp>
        <p:nvSpPr>
          <p:cNvPr id="21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網路分類（</a:t>
            </a:r>
            <a:r>
              <a:rPr b="0" lang="en-US" sz="4400" spc="-1" strike="noStrike">
                <a:solidFill>
                  <a:srgbClr val="6699ff"/>
                </a:solidFill>
                <a:latin typeface="Times New Roman"/>
                <a:ea typeface="DFKai-SB"/>
              </a:rPr>
              <a:t>1</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目前著名類神經網路不下數十種，主要分為四類</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DFKai-SB"/>
              </a:rPr>
              <a:t>1.</a:t>
            </a:r>
            <a:r>
              <a:rPr b="1" lang="zh-TW" sz="3200" spc="-1" strike="noStrike">
                <a:solidFill>
                  <a:srgbClr val="000000"/>
                </a:solidFill>
                <a:latin typeface="Times New Roman"/>
                <a:ea typeface="DFKai-SB"/>
              </a:rPr>
              <a:t>監督式學習網路</a:t>
            </a:r>
            <a:r>
              <a:rPr b="0" lang="zh-TW" sz="3200" spc="-1" strike="noStrike">
                <a:solidFill>
                  <a:srgbClr val="000000"/>
                </a:solidFill>
                <a:latin typeface="Times New Roman"/>
                <a:ea typeface="DFKai-SB"/>
              </a:rPr>
              <a:t>：從問題領域中取得訓練範例（有輸入變數值，也有輸出變數），並從中學習輸入變數與輸出變數內在對映規則，以應用於新的案例（只有輸入變數值，而需推論輸出變數值的應用）如</a:t>
            </a:r>
            <a:r>
              <a:rPr b="0" lang="en-US" sz="3200" spc="-1" strike="noStrike">
                <a:solidFill>
                  <a:srgbClr val="000000"/>
                </a:solidFill>
                <a:latin typeface="Times New Roman"/>
                <a:ea typeface="DFKai-SB"/>
              </a:rPr>
              <a:t>BP</a:t>
            </a:r>
            <a:r>
              <a:rPr b="0" lang="zh-TW" sz="3200" spc="-1" strike="noStrike">
                <a:solidFill>
                  <a:srgbClr val="000000"/>
                </a:solidFill>
                <a:latin typeface="Times New Roman"/>
                <a:ea typeface="DFKai-SB"/>
              </a:rPr>
              <a:t>。</a:t>
            </a:r>
            <a:endParaRPr b="0" lang="en-US" sz="3200" spc="-1" strike="noStrike">
              <a:solidFill>
                <a:srgbClr val="000000"/>
              </a:solidFill>
              <a:latin typeface="Times New Roman"/>
            </a:endParaRPr>
          </a:p>
        </p:txBody>
      </p:sp>
      <p:sp>
        <p:nvSpPr>
          <p:cNvPr id="22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網路分類（</a:t>
            </a:r>
            <a:r>
              <a:rPr b="0" lang="en-US" sz="4400" spc="-1" strike="noStrike">
                <a:solidFill>
                  <a:srgbClr val="6699ff"/>
                </a:solidFill>
                <a:latin typeface="Times New Roman"/>
                <a:ea typeface="DFKai-SB"/>
              </a:rPr>
              <a:t>2</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FKai-SB"/>
                <a:ea typeface="DFKai-SB"/>
              </a:rPr>
              <a:t>2.</a:t>
            </a:r>
            <a:r>
              <a:rPr b="1" lang="zh-TW" sz="3200" spc="-1" strike="noStrike">
                <a:solidFill>
                  <a:srgbClr val="000000"/>
                </a:solidFill>
                <a:latin typeface="DFKai-SB"/>
                <a:ea typeface="DFKai-SB"/>
              </a:rPr>
              <a:t>無監督式學習網路：</a:t>
            </a:r>
            <a:r>
              <a:rPr b="0" lang="zh-TW" sz="3200" spc="-1" strike="noStrike">
                <a:solidFill>
                  <a:srgbClr val="000000"/>
                </a:solidFill>
                <a:latin typeface="Times New Roman"/>
                <a:ea typeface="DFKai-SB"/>
              </a:rPr>
              <a:t>從問題領域中取得訓練範例（只有輸入變數值），並從中學習範例的內在聚類規則，以應用於新的案例。</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DFKai-SB"/>
              </a:rPr>
              <a:t>3.</a:t>
            </a:r>
            <a:r>
              <a:rPr b="1" lang="zh-TW" sz="3200" spc="-1" strike="noStrike">
                <a:solidFill>
                  <a:srgbClr val="000000"/>
                </a:solidFill>
                <a:latin typeface="Times New Roman"/>
                <a:ea typeface="DFKai-SB"/>
              </a:rPr>
              <a:t>聯想式學習網路</a:t>
            </a:r>
            <a:r>
              <a:rPr b="0" lang="zh-TW" sz="3200" spc="-1" strike="noStrike">
                <a:solidFill>
                  <a:srgbClr val="000000"/>
                </a:solidFill>
                <a:latin typeface="Times New Roman"/>
                <a:ea typeface="DFKai-SB"/>
              </a:rPr>
              <a:t>：從問題領域中取得訓練範例（狀態變數值），並從中學習範例的內在記憶規則，以應用於新的案例，如</a:t>
            </a:r>
            <a:r>
              <a:rPr b="1" lang="zh-TW" sz="3200" spc="-1" strike="noStrike">
                <a:solidFill>
                  <a:srgbClr val="000000"/>
                </a:solidFill>
                <a:latin typeface="Times New Roman"/>
                <a:ea typeface="DFKai-SB"/>
              </a:rPr>
              <a:t>霍普菲爾網路</a:t>
            </a:r>
            <a:r>
              <a:rPr b="0" lang="zh-TW" sz="3200" spc="-1" strike="noStrike">
                <a:solidFill>
                  <a:srgbClr val="000000"/>
                </a:solidFill>
                <a:latin typeface="Times New Roman"/>
                <a:ea typeface="DFKai-SB"/>
              </a:rPr>
              <a:t>。</a:t>
            </a:r>
            <a:endParaRPr b="0" lang="en-US" sz="3200" spc="-1" strike="noStrike">
              <a:solidFill>
                <a:srgbClr val="000000"/>
              </a:solidFill>
              <a:latin typeface="Times New Roman"/>
            </a:endParaRPr>
          </a:p>
        </p:txBody>
      </p:sp>
      <p:sp>
        <p:nvSpPr>
          <p:cNvPr id="225" name="矩形 58371"/>
          <p:cNvSpPr/>
          <p:nvPr/>
        </p:nvSpPr>
        <p:spPr>
          <a:xfrm>
            <a:off x="4505400" y="50958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網路分類（</a:t>
            </a:r>
            <a:r>
              <a:rPr b="0" lang="en-US" sz="4400" spc="-1" strike="noStrike">
                <a:solidFill>
                  <a:srgbClr val="6699ff"/>
                </a:solidFill>
                <a:latin typeface="Times New Roman"/>
                <a:ea typeface="DFKai-SB"/>
              </a:rPr>
              <a:t>2</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DFKai-SB"/>
              </a:rPr>
              <a:t>4.</a:t>
            </a:r>
            <a:r>
              <a:rPr b="1" lang="zh-TW" sz="3200" spc="-1" strike="noStrike">
                <a:solidFill>
                  <a:srgbClr val="000000"/>
                </a:solidFill>
                <a:latin typeface="Times New Roman"/>
                <a:ea typeface="DFKai-SB"/>
              </a:rPr>
              <a:t>最適化應用網路</a:t>
            </a:r>
            <a:r>
              <a:rPr b="0" lang="zh-TW" sz="3200" spc="-1" strike="noStrike">
                <a:solidFill>
                  <a:srgbClr val="000000"/>
                </a:solidFill>
                <a:latin typeface="Times New Roman"/>
                <a:ea typeface="DFKai-SB"/>
              </a:rPr>
              <a:t>：對一問題決定其設計變數值，使其在滿足設計變數下，使設計目標達最佳狀態的應用，如</a:t>
            </a:r>
            <a:r>
              <a:rPr b="1" lang="zh-TW" sz="3200" spc="-1" strike="noStrike">
                <a:solidFill>
                  <a:srgbClr val="000000"/>
                </a:solidFill>
                <a:latin typeface="Times New Roman"/>
                <a:ea typeface="DFKai-SB"/>
              </a:rPr>
              <a:t>退火神經網路</a:t>
            </a:r>
            <a:r>
              <a:rPr b="0" lang="zh-TW" sz="3200" spc="-1" strike="noStrike">
                <a:solidFill>
                  <a:srgbClr val="000000"/>
                </a:solidFill>
                <a:latin typeface="Times New Roman"/>
                <a:ea typeface="DFKai-SB"/>
              </a:rPr>
              <a:t>。</a:t>
            </a:r>
            <a:endParaRPr b="0" lang="en-US" sz="3200" spc="-1" strike="noStrike">
              <a:solidFill>
                <a:srgbClr val="000000"/>
              </a:solidFill>
              <a:latin typeface="Times New Roman"/>
            </a:endParaRPr>
          </a:p>
        </p:txBody>
      </p:sp>
      <p:sp>
        <p:nvSpPr>
          <p:cNvPr id="22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類神經網路運作（</a:t>
            </a:r>
            <a:r>
              <a:rPr b="0" lang="en-US" sz="4400" spc="-1" strike="noStrike">
                <a:solidFill>
                  <a:srgbClr val="6699ff"/>
                </a:solidFill>
                <a:latin typeface="Times New Roman"/>
                <a:ea typeface="DFKai-SB"/>
              </a:rPr>
              <a:t>1</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類神經網路的運作過程分成兩個階段：</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學習過程：從範例學習，以調整網路連節加權值的過程 。</a:t>
            </a:r>
            <a:endParaRPr b="0" lang="en-US" sz="3200" spc="-1" strike="noStrike">
              <a:solidFill>
                <a:srgbClr val="000000"/>
              </a:solidFill>
              <a:latin typeface="Times New Roman"/>
            </a:endParaRPr>
          </a:p>
          <a:p>
            <a:pPr marL="609480" indent="-6094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回想過程：網路依回想演算法，以輸入資料決定網路輸出資料的過程。</a:t>
            </a:r>
            <a:endParaRPr b="0" lang="en-US" sz="3200" spc="-1" strike="noStrike">
              <a:solidFill>
                <a:srgbClr val="000000"/>
              </a:solidFill>
              <a:latin typeface="Times New Roman"/>
            </a:endParaRPr>
          </a:p>
        </p:txBody>
      </p:sp>
      <p:sp>
        <p:nvSpPr>
          <p:cNvPr id="23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類神經網路運作（</a:t>
            </a:r>
            <a:r>
              <a:rPr b="0" lang="en-US" sz="4400" spc="-1" strike="noStrike">
                <a:solidFill>
                  <a:srgbClr val="6699ff"/>
                </a:solidFill>
                <a:latin typeface="Times New Roman"/>
                <a:ea typeface="DFKai-SB"/>
              </a:rPr>
              <a:t>2</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1</a:t>
            </a:r>
            <a:r>
              <a:rPr b="0" lang="en-US" sz="3200" spc="-1" strike="noStrike">
                <a:solidFill>
                  <a:srgbClr val="000000"/>
                </a:solidFill>
                <a:latin typeface="Times New Roman"/>
                <a:ea typeface="DFKai-SB"/>
              </a:rPr>
              <a:t>.</a:t>
            </a:r>
            <a:r>
              <a:rPr b="0" lang="zh-TW" sz="3200" spc="-1" strike="noStrike">
                <a:solidFill>
                  <a:srgbClr val="000000"/>
                </a:solidFill>
                <a:latin typeface="Times New Roman"/>
                <a:ea typeface="DFKai-SB"/>
              </a:rPr>
              <a:t>訓練範例：藉此調整網路連結加權值。訓練範例型式依所使用的網路模式之不同而異</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2.</a:t>
            </a:r>
            <a:r>
              <a:rPr b="0" lang="zh-TW" sz="3200" spc="-1" strike="noStrike">
                <a:solidFill>
                  <a:srgbClr val="000000"/>
                </a:solidFill>
                <a:latin typeface="DFKai-SB"/>
                <a:ea typeface="DFKai-SB"/>
              </a:rPr>
              <a:t>測試範例：用以評估網路學習成果所使用的範例。</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1.2</a:t>
            </a:r>
            <a:r>
              <a:rPr b="0" lang="zh-TW" sz="3200" spc="-1" strike="noStrike">
                <a:solidFill>
                  <a:srgbClr val="000000"/>
                </a:solidFill>
                <a:latin typeface="DFKai-SB"/>
                <a:ea typeface="DFKai-SB"/>
              </a:rPr>
              <a:t>）差異：前者只用回想演算法得到推論輸出值，並與目標輸出值比較，以評估網路學習精度。</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類神經網路運作（</a:t>
            </a:r>
            <a:r>
              <a:rPr b="0" lang="en-US" sz="4400" spc="-1" strike="noStrike">
                <a:solidFill>
                  <a:srgbClr val="6699ff"/>
                </a:solidFill>
                <a:latin typeface="Times New Roman"/>
                <a:ea typeface="DFKai-SB"/>
              </a:rPr>
              <a:t>3</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3. </a:t>
            </a:r>
            <a:r>
              <a:rPr b="0" lang="zh-TW" sz="3200" spc="-1" strike="noStrike">
                <a:solidFill>
                  <a:srgbClr val="000000"/>
                </a:solidFill>
                <a:latin typeface="DFKai-SB"/>
                <a:ea typeface="DFKai-SB"/>
              </a:rPr>
              <a:t>待推案例：網路學習過程完後，可用網路推論待推案例的結果。</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2.3</a:t>
            </a:r>
            <a:r>
              <a:rPr b="0" lang="zh-TW" sz="3200" spc="-1" strike="noStrike">
                <a:solidFill>
                  <a:srgbClr val="000000"/>
                </a:solidFill>
                <a:latin typeface="DFKai-SB"/>
                <a:ea typeface="DFKai-SB"/>
              </a:rPr>
              <a:t>）差異：前者沒有目標輸出變數向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優點</a:t>
            </a:r>
            <a:endParaRPr b="0" lang="en-US" sz="4400" spc="-1" strike="noStrike">
              <a:solidFill>
                <a:srgbClr val="333399"/>
              </a:solidFill>
              <a:latin typeface="Times New Roman"/>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高速計算能力</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高容記憶能力</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學習能力</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容錯能力</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DFKai-SB"/>
                <a:ea typeface="DFKai-SB"/>
              </a:rPr>
              <a:t>精確定義</a:t>
            </a:r>
            <a:endParaRPr b="0" lang="en-US" sz="4400" spc="-1" strike="noStrike">
              <a:solidFill>
                <a:srgbClr val="333399"/>
              </a:solidFill>
              <a:latin typeface="Times New Roman"/>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DFKai-SB"/>
              </a:rPr>
              <a:t> </a:t>
            </a:r>
            <a:r>
              <a:rPr b="0" lang="zh-TW" sz="3200" spc="-1" strike="noStrike">
                <a:solidFill>
                  <a:srgbClr val="000000"/>
                </a:solidFill>
                <a:latin typeface="Times New Roman"/>
                <a:ea typeface="DFKai-SB"/>
              </a:rPr>
              <a:t>一種計算系統：硬體、軟體。</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大量簡單的相連人工神經元：模仿生物神經網路的能力。</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取得資訊：外界環境、人工神經元。</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輸出結果：外界環境其他人工神經元。</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應用</a:t>
            </a:r>
            <a:endParaRPr b="0" lang="en-US" sz="4400" spc="-1" strike="noStrike">
              <a:solidFill>
                <a:srgbClr val="333399"/>
              </a:solidFill>
              <a:latin typeface="Times New Roman"/>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監督式學習應用：分類、預測。</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非監督式學習應用：聚類。</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聯想式學習應用：雜訊過濾、資料擷取。</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最佳化問題應用：設計、排程。</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基本架構（</a:t>
            </a:r>
            <a:r>
              <a:rPr b="0" lang="en-US" sz="4400" spc="-1" strike="noStrike">
                <a:solidFill>
                  <a:srgbClr val="6699ff"/>
                </a:solidFill>
                <a:latin typeface="Times New Roman"/>
                <a:ea typeface="DFKai-SB"/>
              </a:rPr>
              <a:t>1</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處理單元：類神經網路基本單位</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作用可用三個函數來說明：</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1</a:t>
            </a:r>
            <a:r>
              <a:rPr b="0" lang="zh-TW" sz="3200" spc="-1" strike="noStrike">
                <a:solidFill>
                  <a:srgbClr val="000000"/>
                </a:solidFill>
                <a:latin typeface="DFKai-SB"/>
                <a:ea typeface="DFKai-SB"/>
              </a:rPr>
              <a:t>）集成函數</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2</a:t>
            </a:r>
            <a:r>
              <a:rPr b="0" lang="zh-TW" sz="3200" spc="-1" strike="noStrike">
                <a:solidFill>
                  <a:srgbClr val="000000"/>
                </a:solidFill>
                <a:latin typeface="DFKai-SB"/>
                <a:ea typeface="DFKai-SB"/>
              </a:rPr>
              <a:t>）作用函數</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3</a:t>
            </a:r>
            <a:r>
              <a:rPr b="0" lang="zh-TW" sz="3200" spc="-1" strike="noStrike">
                <a:solidFill>
                  <a:srgbClr val="000000"/>
                </a:solidFill>
                <a:latin typeface="DFKai-SB"/>
                <a:ea typeface="DFKai-SB"/>
              </a:rPr>
              <a:t>）轉換函數</a:t>
            </a:r>
            <a:endParaRPr b="0" lang="en-US" sz="3200" spc="-1" strike="noStrike">
              <a:solidFill>
                <a:srgbClr val="000000"/>
              </a:solidFill>
              <a:latin typeface="Times New Roman"/>
            </a:endParaRPr>
          </a:p>
        </p:txBody>
      </p:sp>
      <p:sp>
        <p:nvSpPr>
          <p:cNvPr id="24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基本架構（</a:t>
            </a:r>
            <a:r>
              <a:rPr b="0" lang="en-US" sz="4400" spc="-1" strike="noStrike">
                <a:solidFill>
                  <a:srgbClr val="6699ff"/>
                </a:solidFill>
                <a:latin typeface="Times New Roman"/>
                <a:ea typeface="DFKai-SB"/>
              </a:rPr>
              <a:t>2</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層：若干個具相同作用的處理單元集合成。</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層的三種作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1</a:t>
            </a:r>
            <a:r>
              <a:rPr b="0" lang="zh-TW" sz="3200" spc="-1" strike="noStrike">
                <a:solidFill>
                  <a:srgbClr val="000000"/>
                </a:solidFill>
                <a:latin typeface="DFKai-SB"/>
                <a:ea typeface="DFKai-SB"/>
              </a:rPr>
              <a:t>）正規化輸出</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2</a:t>
            </a:r>
            <a:r>
              <a:rPr b="0" lang="zh-TW" sz="3200" spc="-1" strike="noStrike">
                <a:solidFill>
                  <a:srgbClr val="000000"/>
                </a:solidFill>
                <a:latin typeface="DFKai-SB"/>
                <a:ea typeface="DFKai-SB"/>
              </a:rPr>
              <a:t>）競爭化輸出</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3</a:t>
            </a:r>
            <a:r>
              <a:rPr b="0" lang="zh-TW" sz="3200" spc="-1" strike="noStrike">
                <a:solidFill>
                  <a:srgbClr val="000000"/>
                </a:solidFill>
                <a:latin typeface="DFKai-SB"/>
                <a:ea typeface="DFKai-SB"/>
              </a:rPr>
              <a:t>）競爭化學習</a:t>
            </a: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基本架構（</a:t>
            </a:r>
            <a:r>
              <a:rPr b="0" lang="en-US" sz="4400" spc="-1" strike="noStrike">
                <a:solidFill>
                  <a:srgbClr val="6699ff"/>
                </a:solidFill>
                <a:latin typeface="Times New Roman"/>
                <a:ea typeface="DFKai-SB"/>
              </a:rPr>
              <a:t>3</a:t>
            </a:r>
            <a:r>
              <a:rPr b="0" lang="zh-TW" sz="4400" spc="-1" strike="noStrike">
                <a:solidFill>
                  <a:srgbClr val="6699ff"/>
                </a:solidFill>
                <a:latin typeface="Times New Roman"/>
                <a:ea typeface="DFKai-SB"/>
              </a:rPr>
              <a:t>）</a:t>
            </a:r>
            <a:endParaRPr b="0" lang="en-US" sz="4400" spc="-1" strike="noStrike">
              <a:solidFill>
                <a:srgbClr val="333399"/>
              </a:solidFill>
              <a:latin typeface="Times New Roman"/>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網路：若干個具不同作用的層集合成網路</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網路兩種作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1</a:t>
            </a:r>
            <a:r>
              <a:rPr b="0" lang="zh-TW" sz="3200" spc="-1" strike="noStrike">
                <a:solidFill>
                  <a:srgbClr val="000000"/>
                </a:solidFill>
                <a:latin typeface="DFKai-SB"/>
                <a:ea typeface="DFKai-SB"/>
              </a:rPr>
              <a:t>）學習過程</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2</a:t>
            </a:r>
            <a:r>
              <a:rPr b="0" lang="zh-TW" sz="3200" spc="-1" strike="noStrike">
                <a:solidFill>
                  <a:srgbClr val="000000"/>
                </a:solidFill>
                <a:latin typeface="DFKai-SB"/>
                <a:ea typeface="DFKai-SB"/>
              </a:rPr>
              <a:t>）回想過程</a:t>
            </a:r>
            <a:endParaRPr b="0" lang="en-US" sz="3200" spc="-1" strike="noStrike">
              <a:solidFill>
                <a:srgbClr val="000000"/>
              </a:solidFill>
              <a:latin typeface="Times New Roman"/>
            </a:endParaRPr>
          </a:p>
        </p:txBody>
      </p:sp>
      <p:sp>
        <p:nvSpPr>
          <p:cNvPr id="25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对象 68609" descr=""/>
          <p:cNvPicPr/>
          <p:nvPr/>
        </p:nvPicPr>
        <p:blipFill>
          <a:blip r:embed="rId1"/>
          <a:stretch/>
        </p:blipFill>
        <p:spPr>
          <a:xfrm>
            <a:off x="1447920" y="990720"/>
            <a:ext cx="9144000" cy="1609560"/>
          </a:xfrm>
          <a:prstGeom prst="rect">
            <a:avLst/>
          </a:prstGeom>
          <a:ln w="0">
            <a:noFill/>
          </a:ln>
        </p:spPr>
      </p:pic>
      <p:pic>
        <p:nvPicPr>
          <p:cNvPr id="255" name="对象 68610" descr=""/>
          <p:cNvPicPr/>
          <p:nvPr/>
        </p:nvPicPr>
        <p:blipFill>
          <a:blip r:embed="rId2"/>
          <a:stretch/>
        </p:blipFill>
        <p:spPr>
          <a:xfrm>
            <a:off x="1447920" y="2514600"/>
            <a:ext cx="6172200" cy="3949560"/>
          </a:xfrm>
          <a:prstGeom prst="rect">
            <a:avLst/>
          </a:prstGeom>
          <a:ln w="0">
            <a:noFill/>
          </a:ln>
        </p:spPr>
      </p:pic>
      <p:sp>
        <p:nvSpPr>
          <p:cNvPr id="25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imes New Roman"/>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C</a:t>
            </a:r>
            <a:r>
              <a:rPr b="0" lang="zh-TW" sz="3200" spc="-1" strike="noStrike">
                <a:solidFill>
                  <a:srgbClr val="000000"/>
                </a:solidFill>
                <a:latin typeface="DFKai-SB"/>
                <a:ea typeface="DFKai-SB"/>
              </a:rPr>
              <a:t>：實數型常數。單調 </a:t>
            </a:r>
            <a:r>
              <a:rPr b="0" lang="en-US" sz="3200" spc="-1" strike="noStrike">
                <a:solidFill>
                  <a:srgbClr val="000000"/>
                </a:solidFill>
                <a:latin typeface="DFKai-SB"/>
                <a:ea typeface="DFKai-SB"/>
              </a:rPr>
              <a:t>( monotonic ) </a:t>
            </a:r>
            <a:r>
              <a:rPr b="0" lang="zh-TW" sz="3200" spc="-1" strike="noStrike">
                <a:solidFill>
                  <a:srgbClr val="000000"/>
                </a:solidFill>
                <a:latin typeface="DFKai-SB"/>
                <a:ea typeface="DFKai-SB"/>
              </a:rPr>
              <a:t>遞增 、平滑且可微分的函數。</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採用：</a:t>
            </a:r>
            <a:r>
              <a:rPr b="1" lang="zh-TW" sz="3200" spc="-1" strike="noStrike">
                <a:solidFill>
                  <a:srgbClr val="000000"/>
                </a:solidFill>
                <a:latin typeface="DFKai-SB"/>
                <a:ea typeface="DFKai-SB"/>
              </a:rPr>
              <a:t>倒傳遞類神經網路</a:t>
            </a:r>
            <a:r>
              <a:rPr b="0" lang="zh-TW" sz="3200" spc="-1" strike="noStrike">
                <a:solidFill>
                  <a:srgbClr val="000000"/>
                </a:solidFill>
                <a:latin typeface="DFKai-SB"/>
                <a:ea typeface="DFKai-SB"/>
              </a:rPr>
              <a:t> 、</a:t>
            </a:r>
            <a:r>
              <a:rPr b="1" lang="zh-TW" sz="3200" spc="-1" strike="noStrike">
                <a:solidFill>
                  <a:srgbClr val="000000"/>
                </a:solidFill>
                <a:latin typeface="DFKai-SB"/>
                <a:ea typeface="DFKai-SB"/>
              </a:rPr>
              <a:t>連續型霍普菲爾網路</a:t>
            </a:r>
            <a:r>
              <a:rPr b="0" lang="zh-TW" sz="3200" spc="-1" strike="noStrike">
                <a:solidFill>
                  <a:srgbClr val="000000"/>
                </a:solidFill>
                <a:latin typeface="DFKai-SB"/>
                <a:ea typeface="DFKai-SB"/>
              </a:rPr>
              <a:t>，都是此種活化函數。</a:t>
            </a:r>
            <a:endParaRPr b="0" lang="en-US" sz="3200" spc="-1" strike="noStrike">
              <a:solidFill>
                <a:srgbClr val="000000"/>
              </a:solidFill>
              <a:latin typeface="Times New Roman"/>
            </a:endParaRPr>
          </a:p>
        </p:txBody>
      </p:sp>
      <p:sp>
        <p:nvSpPr>
          <p:cNvPr id="25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倒傳遞網路</a:t>
            </a:r>
            <a:endParaRPr b="0" lang="en-US" sz="4400" spc="-1" strike="noStrike">
              <a:solidFill>
                <a:srgbClr val="333399"/>
              </a:solidFill>
              <a:latin typeface="Times New Roman"/>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倒傳遞類神網路模式是目前類神網路學習模式中最具代表性，應用最普遍的模式。</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倒傳遞類神經網路屬於監督式學習網路，因而適合診斷、預測等應用。</a:t>
            </a:r>
            <a:endParaRPr b="0" lang="en-US" sz="3200" spc="-1" strike="noStrike">
              <a:solidFill>
                <a:srgbClr val="000000"/>
              </a:solidFill>
              <a:latin typeface="Times New Roman"/>
            </a:endParaRPr>
          </a:p>
        </p:txBody>
      </p:sp>
      <p:sp>
        <p:nvSpPr>
          <p:cNvPr id="26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椭圆 71681"/>
          <p:cNvSpPr/>
          <p:nvPr/>
        </p:nvSpPr>
        <p:spPr>
          <a:xfrm>
            <a:off x="4343400" y="137160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椭圆 71682"/>
          <p:cNvSpPr/>
          <p:nvPr/>
        </p:nvSpPr>
        <p:spPr>
          <a:xfrm>
            <a:off x="1143000" y="304812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椭圆 71683"/>
          <p:cNvSpPr/>
          <p:nvPr/>
        </p:nvSpPr>
        <p:spPr>
          <a:xfrm>
            <a:off x="2362320" y="304812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椭圆 71684"/>
          <p:cNvSpPr/>
          <p:nvPr/>
        </p:nvSpPr>
        <p:spPr>
          <a:xfrm>
            <a:off x="5334120" y="304812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椭圆 71685"/>
          <p:cNvSpPr/>
          <p:nvPr/>
        </p:nvSpPr>
        <p:spPr>
          <a:xfrm>
            <a:off x="1828800" y="449568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椭圆 71686"/>
          <p:cNvSpPr/>
          <p:nvPr/>
        </p:nvSpPr>
        <p:spPr>
          <a:xfrm>
            <a:off x="2895480" y="449568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椭圆 71687"/>
          <p:cNvSpPr/>
          <p:nvPr/>
        </p:nvSpPr>
        <p:spPr>
          <a:xfrm>
            <a:off x="4876920" y="449568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椭圆 71688"/>
          <p:cNvSpPr/>
          <p:nvPr/>
        </p:nvSpPr>
        <p:spPr>
          <a:xfrm>
            <a:off x="1905120" y="1371600"/>
            <a:ext cx="193680" cy="193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1" name="直接箭头连接符 71689"/>
          <p:cNvCxnSpPr>
            <a:stCxn id="263" idx="4"/>
            <a:endCxn id="264" idx="0"/>
          </p:cNvCxnSpPr>
          <p:nvPr/>
        </p:nvCxnSpPr>
        <p:spPr>
          <a:xfrm flipH="1">
            <a:off x="1239480" y="1564920"/>
            <a:ext cx="3201120" cy="1483560"/>
          </a:xfrm>
          <a:prstGeom prst="straightConnector1">
            <a:avLst/>
          </a:prstGeom>
          <a:ln w="9360">
            <a:solidFill>
              <a:srgbClr val="000000"/>
            </a:solidFill>
            <a:round/>
          </a:ln>
        </p:spPr>
      </p:cxnSp>
      <p:cxnSp>
        <p:nvCxnSpPr>
          <p:cNvPr id="272" name="直接箭头连接符 71690"/>
          <p:cNvCxnSpPr>
            <a:stCxn id="263" idx="4"/>
            <a:endCxn id="265" idx="0"/>
          </p:cNvCxnSpPr>
          <p:nvPr/>
        </p:nvCxnSpPr>
        <p:spPr>
          <a:xfrm flipH="1">
            <a:off x="2458440" y="1564920"/>
            <a:ext cx="1981800" cy="1483560"/>
          </a:xfrm>
          <a:prstGeom prst="straightConnector1">
            <a:avLst/>
          </a:prstGeom>
          <a:ln w="9360">
            <a:solidFill>
              <a:srgbClr val="000000"/>
            </a:solidFill>
            <a:round/>
          </a:ln>
        </p:spPr>
      </p:cxnSp>
      <p:cxnSp>
        <p:nvCxnSpPr>
          <p:cNvPr id="273" name="直接箭头连接符 71691"/>
          <p:cNvCxnSpPr>
            <a:stCxn id="263" idx="4"/>
            <a:endCxn id="266" idx="0"/>
          </p:cNvCxnSpPr>
          <p:nvPr/>
        </p:nvCxnSpPr>
        <p:spPr>
          <a:xfrm>
            <a:off x="4440240" y="1564920"/>
            <a:ext cx="991440" cy="1483560"/>
          </a:xfrm>
          <a:prstGeom prst="straightConnector1">
            <a:avLst/>
          </a:prstGeom>
          <a:ln w="9360">
            <a:solidFill>
              <a:srgbClr val="000000"/>
            </a:solidFill>
            <a:round/>
          </a:ln>
        </p:spPr>
      </p:cxnSp>
      <p:cxnSp>
        <p:nvCxnSpPr>
          <p:cNvPr id="274" name="直接箭头连接符 71692"/>
          <p:cNvCxnSpPr>
            <a:stCxn id="270" idx="4"/>
            <a:endCxn id="264" idx="0"/>
          </p:cNvCxnSpPr>
          <p:nvPr/>
        </p:nvCxnSpPr>
        <p:spPr>
          <a:xfrm flipH="1">
            <a:off x="1239120" y="1564920"/>
            <a:ext cx="762840" cy="1483560"/>
          </a:xfrm>
          <a:prstGeom prst="straightConnector1">
            <a:avLst/>
          </a:prstGeom>
          <a:ln w="9360">
            <a:solidFill>
              <a:srgbClr val="000000"/>
            </a:solidFill>
            <a:round/>
          </a:ln>
        </p:spPr>
      </p:cxnSp>
      <p:cxnSp>
        <p:nvCxnSpPr>
          <p:cNvPr id="275" name="直接箭头连接符 71693"/>
          <p:cNvCxnSpPr>
            <a:stCxn id="270" idx="4"/>
            <a:endCxn id="265" idx="0"/>
          </p:cNvCxnSpPr>
          <p:nvPr/>
        </p:nvCxnSpPr>
        <p:spPr>
          <a:xfrm>
            <a:off x="2001960" y="1564920"/>
            <a:ext cx="457920" cy="1483560"/>
          </a:xfrm>
          <a:prstGeom prst="straightConnector1">
            <a:avLst/>
          </a:prstGeom>
          <a:ln w="9360">
            <a:solidFill>
              <a:srgbClr val="000000"/>
            </a:solidFill>
            <a:round/>
          </a:ln>
        </p:spPr>
      </p:cxnSp>
      <p:cxnSp>
        <p:nvCxnSpPr>
          <p:cNvPr id="276" name="直接箭头连接符 71694"/>
          <p:cNvCxnSpPr>
            <a:stCxn id="270" idx="4"/>
            <a:endCxn id="266" idx="0"/>
          </p:cNvCxnSpPr>
          <p:nvPr/>
        </p:nvCxnSpPr>
        <p:spPr>
          <a:xfrm>
            <a:off x="2001600" y="1564920"/>
            <a:ext cx="3429720" cy="1483560"/>
          </a:xfrm>
          <a:prstGeom prst="straightConnector1">
            <a:avLst/>
          </a:prstGeom>
          <a:ln w="9360">
            <a:solidFill>
              <a:srgbClr val="000000"/>
            </a:solidFill>
            <a:round/>
          </a:ln>
        </p:spPr>
      </p:cxnSp>
      <p:cxnSp>
        <p:nvCxnSpPr>
          <p:cNvPr id="277" name="直接箭头连接符 71695"/>
          <p:cNvCxnSpPr>
            <a:stCxn id="264" idx="4"/>
            <a:endCxn id="267" idx="0"/>
          </p:cNvCxnSpPr>
          <p:nvPr/>
        </p:nvCxnSpPr>
        <p:spPr>
          <a:xfrm>
            <a:off x="1239480" y="3241440"/>
            <a:ext cx="686520" cy="1254600"/>
          </a:xfrm>
          <a:prstGeom prst="straightConnector1">
            <a:avLst/>
          </a:prstGeom>
          <a:ln w="9360">
            <a:solidFill>
              <a:srgbClr val="000000"/>
            </a:solidFill>
            <a:round/>
          </a:ln>
        </p:spPr>
      </p:cxnSp>
      <p:cxnSp>
        <p:nvCxnSpPr>
          <p:cNvPr id="278" name="直接箭头连接符 71696"/>
          <p:cNvCxnSpPr>
            <a:stCxn id="264" idx="4"/>
            <a:endCxn id="268" idx="0"/>
          </p:cNvCxnSpPr>
          <p:nvPr/>
        </p:nvCxnSpPr>
        <p:spPr>
          <a:xfrm>
            <a:off x="1239840" y="3241440"/>
            <a:ext cx="1753200" cy="1254600"/>
          </a:xfrm>
          <a:prstGeom prst="straightConnector1">
            <a:avLst/>
          </a:prstGeom>
          <a:ln w="9360">
            <a:solidFill>
              <a:srgbClr val="000000"/>
            </a:solidFill>
            <a:round/>
          </a:ln>
        </p:spPr>
      </p:cxnSp>
      <p:cxnSp>
        <p:nvCxnSpPr>
          <p:cNvPr id="279" name="直接箭头连接符 71697"/>
          <p:cNvCxnSpPr>
            <a:stCxn id="264" idx="4"/>
            <a:endCxn id="269" idx="0"/>
          </p:cNvCxnSpPr>
          <p:nvPr/>
        </p:nvCxnSpPr>
        <p:spPr>
          <a:xfrm>
            <a:off x="1239840" y="3241440"/>
            <a:ext cx="3734640" cy="1254600"/>
          </a:xfrm>
          <a:prstGeom prst="straightConnector1">
            <a:avLst/>
          </a:prstGeom>
          <a:ln w="9360">
            <a:solidFill>
              <a:srgbClr val="000000"/>
            </a:solidFill>
            <a:round/>
          </a:ln>
        </p:spPr>
      </p:cxnSp>
      <p:cxnSp>
        <p:nvCxnSpPr>
          <p:cNvPr id="280" name="直接箭头连接符 71698"/>
          <p:cNvCxnSpPr>
            <a:stCxn id="265" idx="4"/>
            <a:endCxn id="267" idx="0"/>
          </p:cNvCxnSpPr>
          <p:nvPr/>
        </p:nvCxnSpPr>
        <p:spPr>
          <a:xfrm flipH="1">
            <a:off x="1925280" y="3241440"/>
            <a:ext cx="534240" cy="1254600"/>
          </a:xfrm>
          <a:prstGeom prst="straightConnector1">
            <a:avLst/>
          </a:prstGeom>
          <a:ln w="9360">
            <a:solidFill>
              <a:srgbClr val="000000"/>
            </a:solidFill>
            <a:round/>
          </a:ln>
        </p:spPr>
      </p:cxnSp>
      <p:cxnSp>
        <p:nvCxnSpPr>
          <p:cNvPr id="281" name="直接箭头连接符 71699"/>
          <p:cNvCxnSpPr>
            <a:stCxn id="265" idx="4"/>
            <a:endCxn id="269" idx="0"/>
          </p:cNvCxnSpPr>
          <p:nvPr/>
        </p:nvCxnSpPr>
        <p:spPr>
          <a:xfrm>
            <a:off x="2458800" y="3241440"/>
            <a:ext cx="2515320" cy="1254600"/>
          </a:xfrm>
          <a:prstGeom prst="straightConnector1">
            <a:avLst/>
          </a:prstGeom>
          <a:ln w="9360">
            <a:solidFill>
              <a:srgbClr val="000000"/>
            </a:solidFill>
            <a:round/>
          </a:ln>
        </p:spPr>
      </p:cxnSp>
      <p:cxnSp>
        <p:nvCxnSpPr>
          <p:cNvPr id="282" name="直接箭头连接符 71700"/>
          <p:cNvCxnSpPr>
            <a:stCxn id="265" idx="4"/>
            <a:endCxn id="268" idx="0"/>
          </p:cNvCxnSpPr>
          <p:nvPr/>
        </p:nvCxnSpPr>
        <p:spPr>
          <a:xfrm>
            <a:off x="2458800" y="3241440"/>
            <a:ext cx="533880" cy="1254600"/>
          </a:xfrm>
          <a:prstGeom prst="straightConnector1">
            <a:avLst/>
          </a:prstGeom>
          <a:ln w="9360">
            <a:solidFill>
              <a:srgbClr val="000000"/>
            </a:solidFill>
            <a:round/>
          </a:ln>
        </p:spPr>
      </p:cxnSp>
      <p:cxnSp>
        <p:nvCxnSpPr>
          <p:cNvPr id="283" name="直接箭头连接符 71701"/>
          <p:cNvCxnSpPr>
            <a:stCxn id="266" idx="4"/>
            <a:endCxn id="267" idx="0"/>
          </p:cNvCxnSpPr>
          <p:nvPr/>
        </p:nvCxnSpPr>
        <p:spPr>
          <a:xfrm flipH="1">
            <a:off x="1924920" y="3241440"/>
            <a:ext cx="3506040" cy="1254600"/>
          </a:xfrm>
          <a:prstGeom prst="straightConnector1">
            <a:avLst/>
          </a:prstGeom>
          <a:ln w="9360">
            <a:solidFill>
              <a:srgbClr val="000000"/>
            </a:solidFill>
            <a:round/>
          </a:ln>
        </p:spPr>
      </p:cxnSp>
      <p:cxnSp>
        <p:nvCxnSpPr>
          <p:cNvPr id="284" name="直接箭头连接符 71702"/>
          <p:cNvCxnSpPr>
            <a:stCxn id="266" idx="4"/>
            <a:endCxn id="268" idx="0"/>
          </p:cNvCxnSpPr>
          <p:nvPr/>
        </p:nvCxnSpPr>
        <p:spPr>
          <a:xfrm flipH="1">
            <a:off x="2992320" y="3241440"/>
            <a:ext cx="2439000" cy="1254600"/>
          </a:xfrm>
          <a:prstGeom prst="straightConnector1">
            <a:avLst/>
          </a:prstGeom>
          <a:ln w="9360">
            <a:solidFill>
              <a:srgbClr val="000000"/>
            </a:solidFill>
            <a:round/>
          </a:ln>
        </p:spPr>
      </p:cxnSp>
      <p:cxnSp>
        <p:nvCxnSpPr>
          <p:cNvPr id="285" name="直接箭头连接符 71703"/>
          <p:cNvCxnSpPr>
            <a:stCxn id="266" idx="4"/>
            <a:endCxn id="269" idx="0"/>
          </p:cNvCxnSpPr>
          <p:nvPr/>
        </p:nvCxnSpPr>
        <p:spPr>
          <a:xfrm flipH="1">
            <a:off x="4973400" y="3241440"/>
            <a:ext cx="457920" cy="1254600"/>
          </a:xfrm>
          <a:prstGeom prst="straightConnector1">
            <a:avLst/>
          </a:prstGeom>
          <a:ln w="9360">
            <a:solidFill>
              <a:srgbClr val="000000"/>
            </a:solidFill>
            <a:round/>
          </a:ln>
        </p:spPr>
      </p:cxnSp>
      <p:sp>
        <p:nvSpPr>
          <p:cNvPr id="286" name="矩形 71704"/>
          <p:cNvSpPr/>
          <p:nvPr/>
        </p:nvSpPr>
        <p:spPr>
          <a:xfrm>
            <a:off x="2782800" y="2819520"/>
            <a:ext cx="866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DFKai-SB"/>
              </a:rPr>
              <a:t>‧‧‧‧‧‧</a:t>
            </a:r>
            <a:endParaRPr b="0" lang="en-US" sz="3600" spc="-1" strike="noStrike">
              <a:solidFill>
                <a:srgbClr val="000000"/>
              </a:solidFill>
              <a:latin typeface="Times New Roman"/>
            </a:endParaRPr>
          </a:p>
        </p:txBody>
      </p:sp>
      <p:sp>
        <p:nvSpPr>
          <p:cNvPr id="287" name="矩形 71705"/>
          <p:cNvSpPr/>
          <p:nvPr/>
        </p:nvSpPr>
        <p:spPr>
          <a:xfrm>
            <a:off x="2205000" y="1143000"/>
            <a:ext cx="752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DFKai-SB"/>
              </a:rPr>
              <a:t>‧‧‧‧‧</a:t>
            </a:r>
            <a:endParaRPr b="0" lang="en-US" sz="3600" spc="-1" strike="noStrike">
              <a:solidFill>
                <a:srgbClr val="000000"/>
              </a:solidFill>
              <a:latin typeface="Times New Roman"/>
            </a:endParaRPr>
          </a:p>
        </p:txBody>
      </p:sp>
      <p:sp>
        <p:nvSpPr>
          <p:cNvPr id="288" name="矩形 71706"/>
          <p:cNvSpPr/>
          <p:nvPr/>
        </p:nvSpPr>
        <p:spPr>
          <a:xfrm flipV="1">
            <a:off x="2971800" y="4265640"/>
            <a:ext cx="20131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DFKai-SB"/>
              </a:rPr>
              <a:t>‧‧‧‧</a:t>
            </a:r>
            <a:endParaRPr b="0" lang="en-US" sz="3600" spc="-1" strike="noStrike">
              <a:solidFill>
                <a:srgbClr val="000000"/>
              </a:solidFill>
              <a:latin typeface="Times New Roman"/>
            </a:endParaRPr>
          </a:p>
        </p:txBody>
      </p:sp>
      <p:sp>
        <p:nvSpPr>
          <p:cNvPr id="289" name="上箭头 71707"/>
          <p:cNvSpPr/>
          <p:nvPr/>
        </p:nvSpPr>
        <p:spPr>
          <a:xfrm>
            <a:off x="1752480" y="990720"/>
            <a:ext cx="486000" cy="38088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上箭头 71708"/>
          <p:cNvSpPr/>
          <p:nvPr/>
        </p:nvSpPr>
        <p:spPr>
          <a:xfrm>
            <a:off x="2743200" y="4724280"/>
            <a:ext cx="485640" cy="38124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上箭头 71709"/>
          <p:cNvSpPr/>
          <p:nvPr/>
        </p:nvSpPr>
        <p:spPr>
          <a:xfrm>
            <a:off x="1676520" y="4724280"/>
            <a:ext cx="485640" cy="38124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上箭头 71710"/>
          <p:cNvSpPr/>
          <p:nvPr/>
        </p:nvSpPr>
        <p:spPr>
          <a:xfrm>
            <a:off x="4191120" y="990720"/>
            <a:ext cx="485640" cy="38088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上箭头 71711"/>
          <p:cNvSpPr/>
          <p:nvPr/>
        </p:nvSpPr>
        <p:spPr>
          <a:xfrm>
            <a:off x="4724280" y="4724280"/>
            <a:ext cx="486000" cy="38124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文本框 71712"/>
          <p:cNvSpPr/>
          <p:nvPr/>
        </p:nvSpPr>
        <p:spPr>
          <a:xfrm>
            <a:off x="2689200" y="304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輸出向量</a:t>
            </a:r>
            <a:endParaRPr b="0" lang="en-US" sz="3200" spc="-1" strike="noStrike">
              <a:solidFill>
                <a:srgbClr val="000000"/>
              </a:solidFill>
              <a:latin typeface="Times New Roman"/>
            </a:endParaRPr>
          </a:p>
        </p:txBody>
      </p:sp>
      <p:sp>
        <p:nvSpPr>
          <p:cNvPr id="295" name="文本框 71713"/>
          <p:cNvSpPr/>
          <p:nvPr/>
        </p:nvSpPr>
        <p:spPr>
          <a:xfrm>
            <a:off x="2286000" y="5486400"/>
            <a:ext cx="180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輸入向量</a:t>
            </a:r>
            <a:endParaRPr b="0" lang="en-US" sz="3200" spc="-1" strike="noStrike">
              <a:solidFill>
                <a:srgbClr val="000000"/>
              </a:solidFill>
              <a:latin typeface="Times New Roman"/>
            </a:endParaRPr>
          </a:p>
        </p:txBody>
      </p:sp>
      <p:sp>
        <p:nvSpPr>
          <p:cNvPr id="296" name="文本框 71714"/>
          <p:cNvSpPr/>
          <p:nvPr/>
        </p:nvSpPr>
        <p:spPr>
          <a:xfrm>
            <a:off x="5906880" y="582480"/>
            <a:ext cx="30394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輸出層：表示輸</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        </a:t>
            </a:r>
            <a:r>
              <a:rPr b="0" lang="zh-TW" sz="2800" spc="-1" strike="noStrike">
                <a:solidFill>
                  <a:srgbClr val="000000"/>
                </a:solidFill>
                <a:latin typeface="DFKai-SB"/>
                <a:ea typeface="DFKai-SB"/>
              </a:rPr>
              <a:t>出變數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隱藏層：表示輸</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        </a:t>
            </a:r>
            <a:r>
              <a:rPr b="0" lang="zh-TW" sz="2800" spc="-1" strike="noStrike">
                <a:solidFill>
                  <a:srgbClr val="000000"/>
                </a:solidFill>
                <a:latin typeface="DFKai-SB"/>
                <a:ea typeface="DFKai-SB"/>
              </a:rPr>
              <a:t>入處理</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        </a:t>
            </a:r>
            <a:r>
              <a:rPr b="0" lang="zh-TW" sz="2800" spc="-1" strike="noStrike">
                <a:solidFill>
                  <a:srgbClr val="000000"/>
                </a:solidFill>
                <a:latin typeface="DFKai-SB"/>
                <a:ea typeface="DFKai-SB"/>
              </a:rPr>
              <a:t>單元間</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        </a:t>
            </a:r>
            <a:r>
              <a:rPr b="0" lang="zh-TW" sz="2800" spc="-1" strike="noStrike">
                <a:solidFill>
                  <a:srgbClr val="000000"/>
                </a:solidFill>
                <a:latin typeface="DFKai-SB"/>
                <a:ea typeface="DFKai-SB"/>
              </a:rPr>
              <a:t>的交互</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        </a:t>
            </a:r>
            <a:r>
              <a:rPr b="0" lang="zh-TW" sz="2800" spc="-1" strike="noStrike">
                <a:solidFill>
                  <a:srgbClr val="000000"/>
                </a:solidFill>
                <a:latin typeface="DFKai-SB"/>
                <a:ea typeface="DFKai-SB"/>
              </a:rPr>
              <a:t>影響</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輸出層：表示輸</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        </a:t>
            </a:r>
            <a:r>
              <a:rPr b="0" lang="zh-TW" sz="2800" spc="-1" strike="noStrike">
                <a:solidFill>
                  <a:srgbClr val="000000"/>
                </a:solidFill>
                <a:latin typeface="DFKai-SB"/>
                <a:ea typeface="DFKai-SB"/>
              </a:rPr>
              <a:t>入變數</a:t>
            </a:r>
            <a:endParaRPr b="0" lang="en-US" sz="2800" spc="-1" strike="noStrike">
              <a:solidFill>
                <a:srgbClr val="000000"/>
              </a:solidFill>
              <a:latin typeface="Times New Roman"/>
            </a:endParaRPr>
          </a:p>
        </p:txBody>
      </p:sp>
      <p:sp>
        <p:nvSpPr>
          <p:cNvPr id="2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範例</a:t>
            </a:r>
            <a:endParaRPr b="0" lang="en-US" sz="4400" spc="-1" strike="noStrike">
              <a:solidFill>
                <a:srgbClr val="333399"/>
              </a:solidFill>
              <a:latin typeface="Times New Roman"/>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文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DFKai-SB"/>
              </a:rPr>
              <a:t>   </a:t>
            </a:r>
            <a:r>
              <a:rPr b="0" lang="en-US" sz="3200" spc="-1" strike="noStrike">
                <a:solidFill>
                  <a:srgbClr val="000000"/>
                </a:solidFill>
                <a:latin typeface="Times New Roman"/>
                <a:ea typeface="DFKai-SB"/>
              </a:rPr>
              <a:t>Integration of Gray Prediction and Fuzzy Model for Improving Back-propagation Learning Algorith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DFKai-SB"/>
              </a:rPr>
              <a:t>   </a:t>
            </a:r>
            <a:r>
              <a:rPr b="0" lang="en-US" sz="3200" spc="-1" strike="noStrike">
                <a:solidFill>
                  <a:srgbClr val="000000"/>
                </a:solidFill>
                <a:latin typeface="Times New Roman"/>
                <a:ea typeface="DFKai-SB"/>
              </a:rPr>
              <a:t>R.J.Kuo , C.Y.Chiu , and C.C.Hsie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DFKai-SB"/>
              </a:rPr>
              <a:t>                          </a:t>
            </a:r>
            <a:r>
              <a:rPr b="0" lang="en-US" sz="3200" spc="-1" strike="noStrike">
                <a:solidFill>
                  <a:srgbClr val="000000"/>
                </a:solidFill>
                <a:latin typeface="Times New Roman"/>
                <a:ea typeface="DFKai-SB"/>
              </a:rPr>
              <a:t>Fuzzy 2000</a:t>
            </a:r>
            <a:endParaRPr b="0" lang="en-US" sz="3200" spc="-1" strike="noStrike">
              <a:solidFill>
                <a:srgbClr val="000000"/>
              </a:solidFill>
              <a:latin typeface="Times New Roman"/>
            </a:endParaRPr>
          </a:p>
        </p:txBody>
      </p:sp>
      <p:sp>
        <p:nvSpPr>
          <p:cNvPr id="30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題目簡述</a:t>
            </a:r>
            <a:endParaRPr b="0" lang="en-US" sz="4400" spc="-1" strike="noStrike">
              <a:solidFill>
                <a:srgbClr val="333399"/>
              </a:solidFill>
              <a:latin typeface="Times New Roman"/>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基本觀念：利用灰預測和模糊理論來改善</a:t>
            </a:r>
            <a:r>
              <a:rPr b="0" lang="en-US" sz="3200" spc="-1" strike="noStrike">
                <a:solidFill>
                  <a:srgbClr val="000000"/>
                </a:solidFill>
                <a:latin typeface="DFKai-SB"/>
                <a:ea typeface="DFKai-SB"/>
              </a:rPr>
              <a:t>BP</a:t>
            </a:r>
            <a:r>
              <a:rPr b="0" lang="zh-TW" sz="3200" spc="-1" strike="noStrike">
                <a:solidFill>
                  <a:srgbClr val="000000"/>
                </a:solidFill>
                <a:latin typeface="DFKai-SB"/>
                <a:ea typeface="DFKai-SB"/>
              </a:rPr>
              <a:t>的訓練速度。</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模擬：</a:t>
            </a:r>
            <a:r>
              <a:rPr b="0" lang="en-US" sz="3200" spc="-1" strike="noStrike">
                <a:solidFill>
                  <a:srgbClr val="000000"/>
                </a:solidFill>
                <a:latin typeface="DFKai-SB"/>
                <a:ea typeface="DFKai-SB"/>
              </a:rPr>
              <a:t>XOR</a:t>
            </a:r>
            <a:r>
              <a:rPr b="0" lang="zh-TW" sz="3200" spc="-1" strike="noStrike">
                <a:solidFill>
                  <a:srgbClr val="000000"/>
                </a:solidFill>
                <a:latin typeface="DFKai-SB"/>
                <a:ea typeface="DFKai-SB"/>
              </a:rPr>
              <a:t>範例</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設定：初始學習率：</a:t>
            </a:r>
            <a:r>
              <a:rPr b="0" lang="en-US" sz="3200" spc="-1" strike="noStrike">
                <a:solidFill>
                  <a:srgbClr val="000000"/>
                </a:solidFill>
                <a:latin typeface="DFKai-SB"/>
                <a:ea typeface="DFKai-SB"/>
              </a:rPr>
              <a:t>0.3</a:t>
            </a:r>
            <a:r>
              <a:rPr b="0" lang="zh-TW" sz="3200" spc="-1" strike="noStrike">
                <a:solidFill>
                  <a:srgbClr val="000000"/>
                </a:solidFill>
                <a:latin typeface="DFKai-SB"/>
                <a:ea typeface="DFKai-SB"/>
              </a:rPr>
              <a:t>，學習次數</a:t>
            </a:r>
            <a:r>
              <a:rPr b="0" lang="en-US" sz="3200" spc="-1" strike="noStrike">
                <a:solidFill>
                  <a:srgbClr val="000000"/>
                </a:solidFill>
                <a:latin typeface="DFKai-SB"/>
                <a:ea typeface="DFKai-SB"/>
              </a:rPr>
              <a:t>1000</a:t>
            </a:r>
            <a:r>
              <a:rPr b="0" lang="zh-TW" sz="3200" spc="-1" strike="noStrike">
                <a:solidFill>
                  <a:srgbClr val="000000"/>
                </a:solidFill>
                <a:latin typeface="DFKai-SB"/>
                <a:ea typeface="DFKai-SB"/>
              </a:rPr>
              <a:t>次。</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由</a:t>
            </a:r>
            <a:r>
              <a:rPr b="0" lang="en-US" sz="3200" spc="-1" strike="noStrike">
                <a:solidFill>
                  <a:srgbClr val="000000"/>
                </a:solidFill>
                <a:latin typeface="DFKai-SB"/>
                <a:ea typeface="DFKai-SB"/>
              </a:rPr>
              <a:t>MSE</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mean square error</a:t>
            </a:r>
            <a:r>
              <a:rPr b="0" lang="zh-TW" sz="3200" spc="-1" strike="noStrike">
                <a:solidFill>
                  <a:srgbClr val="000000"/>
                </a:solidFill>
                <a:latin typeface="DFKai-SB"/>
                <a:ea typeface="DFKai-SB"/>
              </a:rPr>
              <a:t>）來判定收斂效。 </a:t>
            </a:r>
            <a:endParaRPr b="0" lang="en-US" sz="3200" spc="-1" strike="noStrike">
              <a:solidFill>
                <a:srgbClr val="000000"/>
              </a:solidFill>
              <a:latin typeface="Times New Roman"/>
            </a:endParaRPr>
          </a:p>
        </p:txBody>
      </p:sp>
      <p:sp>
        <p:nvSpPr>
          <p:cNvPr id="30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DFKai-SB"/>
                <a:ea typeface="DFKai-SB"/>
              </a:rPr>
              <a:t>背景（</a:t>
            </a:r>
            <a:r>
              <a:rPr b="0" lang="en-US" sz="4400" spc="-1" strike="noStrike">
                <a:solidFill>
                  <a:srgbClr val="6699ff"/>
                </a:solidFill>
                <a:latin typeface="DFKai-SB"/>
                <a:ea typeface="DFKai-SB"/>
              </a:rPr>
              <a:t>1</a:t>
            </a:r>
            <a:r>
              <a:rPr b="0" lang="zh-TW" sz="4400" spc="-1" strike="noStrike">
                <a:solidFill>
                  <a:srgbClr val="6699ff"/>
                </a:solidFill>
                <a:latin typeface="DFKai-SB"/>
                <a:ea typeface="DFKai-SB"/>
              </a:rPr>
              <a:t>）</a:t>
            </a:r>
            <a:endParaRPr b="0" lang="en-US" sz="4400" spc="-1" strike="noStrike">
              <a:solidFill>
                <a:srgbClr val="333399"/>
              </a:solidFill>
              <a:latin typeface="Times New Roman"/>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1957</a:t>
            </a:r>
            <a:r>
              <a:rPr b="0" lang="zh-TW" sz="3200" spc="-1" strike="noStrike">
                <a:solidFill>
                  <a:srgbClr val="000000"/>
                </a:solidFill>
                <a:latin typeface="DFKai-SB"/>
                <a:ea typeface="DFKai-SB"/>
              </a:rPr>
              <a:t>年（電腦發展的初期）：第一種類神經網路模式</a:t>
            </a:r>
            <a:r>
              <a:rPr b="0" lang="en-US" sz="3200" spc="-1" strike="noStrike">
                <a:solidFill>
                  <a:srgbClr val="000000"/>
                </a:solidFill>
                <a:latin typeface="DFKai-SB"/>
                <a:ea typeface="DFKai-SB"/>
              </a:rPr>
              <a:t>— </a:t>
            </a:r>
            <a:r>
              <a:rPr b="1" lang="zh-TW" sz="3200" spc="-1" strike="noStrike">
                <a:solidFill>
                  <a:srgbClr val="000000"/>
                </a:solidFill>
                <a:latin typeface="DFKai-SB"/>
                <a:ea typeface="DFKai-SB"/>
              </a:rPr>
              <a:t>感知機</a:t>
            </a: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Perceptron </a:t>
            </a:r>
            <a:r>
              <a:rPr b="0" lang="zh-TW" sz="3200" spc="-1" strike="noStrike">
                <a:solidFill>
                  <a:srgbClr val="000000"/>
                </a:solidFill>
                <a:latin typeface="DFKai-SB"/>
                <a:ea typeface="DFKai-SB"/>
              </a:rPr>
              <a:t>）提出。</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1960</a:t>
            </a:r>
            <a:r>
              <a:rPr b="0" lang="zh-TW" sz="3200" spc="-1" strike="noStrike">
                <a:solidFill>
                  <a:srgbClr val="000000"/>
                </a:solidFill>
                <a:latin typeface="DFKai-SB"/>
                <a:ea typeface="DFKai-SB"/>
              </a:rPr>
              <a:t>年代中期沒落。</a:t>
            </a:r>
            <a:endParaRPr b="0" lang="en-US" sz="3200" spc="-1" strike="noStrike">
              <a:solidFill>
                <a:srgbClr val="000000"/>
              </a:solidFill>
              <a:latin typeface="Times New Roman"/>
            </a:endParaRPr>
          </a:p>
        </p:txBody>
      </p:sp>
      <p:sp>
        <p:nvSpPr>
          <p:cNvPr id="15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解法（灰色）</a:t>
            </a:r>
            <a:endParaRPr b="0" lang="en-US" sz="4400" spc="-1" strike="noStrike">
              <a:solidFill>
                <a:srgbClr val="333399"/>
              </a:solidFill>
              <a:latin typeface="Times New Roman"/>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建立</a:t>
            </a:r>
            <a:r>
              <a:rPr b="0" lang="en-US" sz="3200" spc="-1" strike="noStrike">
                <a:solidFill>
                  <a:srgbClr val="000000"/>
                </a:solidFill>
                <a:latin typeface="DFKai-SB"/>
                <a:ea typeface="DFKai-SB"/>
              </a:rPr>
              <a:t>GM</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1,1</a:t>
            </a:r>
            <a:r>
              <a:rPr b="0" lang="zh-TW" sz="3200" spc="-1" strike="noStrike">
                <a:solidFill>
                  <a:srgbClr val="000000"/>
                </a:solidFill>
                <a:latin typeface="DFKai-SB"/>
                <a:ea typeface="DFKai-SB"/>
              </a:rPr>
              <a:t>）模型的灰微分方程式目的：預測</a:t>
            </a:r>
            <a:r>
              <a:rPr b="0" lang="en-US" sz="3200" spc="-1" strike="noStrike">
                <a:solidFill>
                  <a:srgbClr val="000000"/>
                </a:solidFill>
                <a:latin typeface="DFKai-SB"/>
                <a:ea typeface="DFKai-SB"/>
              </a:rPr>
              <a:t>error</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PE</a:t>
            </a: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and change of error(PCE) </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用</a:t>
            </a:r>
            <a:r>
              <a:rPr b="0" lang="en-US" sz="3200" spc="-1" strike="noStrike">
                <a:solidFill>
                  <a:srgbClr val="000000"/>
                </a:solidFill>
                <a:latin typeface="DFKai-SB"/>
                <a:ea typeface="DFKai-SB"/>
              </a:rPr>
              <a:t>PE</a:t>
            </a:r>
            <a:r>
              <a:rPr b="0" lang="zh-TW" sz="3200" spc="-1" strike="noStrike">
                <a:solidFill>
                  <a:srgbClr val="000000"/>
                </a:solidFill>
                <a:latin typeface="DFKai-SB"/>
                <a:ea typeface="DFKai-SB"/>
              </a:rPr>
              <a:t>和</a:t>
            </a:r>
            <a:r>
              <a:rPr b="0" lang="en-US" sz="3200" spc="-1" strike="noStrike">
                <a:solidFill>
                  <a:srgbClr val="000000"/>
                </a:solidFill>
                <a:latin typeface="DFKai-SB"/>
                <a:ea typeface="DFKai-SB"/>
              </a:rPr>
              <a:t>PCE</a:t>
            </a:r>
            <a:r>
              <a:rPr b="0" lang="zh-TW" sz="3200" spc="-1" strike="noStrike">
                <a:solidFill>
                  <a:srgbClr val="000000"/>
                </a:solidFill>
                <a:latin typeface="DFKai-SB"/>
                <a:ea typeface="DFKai-SB"/>
              </a:rPr>
              <a:t>根據</a:t>
            </a:r>
            <a:r>
              <a:rPr b="0" lang="en-US" sz="3200" spc="-1" strike="noStrike">
                <a:solidFill>
                  <a:srgbClr val="000000"/>
                </a:solidFill>
                <a:latin typeface="DFKai-SB"/>
                <a:ea typeface="DFKai-SB"/>
              </a:rPr>
              <a:t>FUZZY</a:t>
            </a:r>
            <a:r>
              <a:rPr b="0" lang="zh-TW" sz="3200" spc="-1" strike="noStrike">
                <a:solidFill>
                  <a:srgbClr val="000000"/>
                </a:solidFill>
                <a:latin typeface="DFKai-SB"/>
                <a:ea typeface="DFKai-SB"/>
              </a:rPr>
              <a:t>規則，調整訓練參數 。</a:t>
            </a:r>
            <a:endParaRPr b="0" lang="en-US" sz="3200" spc="-1" strike="noStrike">
              <a:solidFill>
                <a:srgbClr val="000000"/>
              </a:solidFill>
              <a:latin typeface="Times New Roman"/>
            </a:endParaRPr>
          </a:p>
        </p:txBody>
      </p:sp>
      <p:sp>
        <p:nvSpPr>
          <p:cNvPr id="30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解法（類神經）</a:t>
            </a:r>
            <a:endParaRPr b="0" lang="en-US" sz="4400" spc="-1" strike="noStrike">
              <a:solidFill>
                <a:srgbClr val="333399"/>
              </a:solidFill>
              <a:latin typeface="Times New Roman"/>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DFKai-S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各層間初始權重：亂數。</a:t>
            </a:r>
            <a:endParaRPr b="0" lang="en-US" sz="3200" spc="-1" strike="noStrike">
              <a:solidFill>
                <a:srgbClr val="000000"/>
              </a:solidFill>
              <a:latin typeface="Times New Roman"/>
            </a:endParaRPr>
          </a:p>
          <a:p>
            <a:pPr marL="609480" indent="-609480">
              <a:lnSpc>
                <a:spcPct val="100000"/>
              </a:lnSpc>
              <a:spcBef>
                <a:spcPts val="799"/>
              </a:spcBef>
              <a:buClr>
                <a:srgbClr val="3333cc"/>
              </a:buClr>
              <a:buSzPct val="60000"/>
              <a:buFont typeface="DFKai-S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開始時訓練誤差大：給大學習率使系統收斂快。</a:t>
            </a:r>
            <a:endParaRPr b="0" lang="en-US" sz="3200" spc="-1" strike="noStrike">
              <a:solidFill>
                <a:srgbClr val="000000"/>
              </a:solidFill>
              <a:latin typeface="Times New Roman"/>
            </a:endParaRPr>
          </a:p>
          <a:p>
            <a:pPr marL="609480" indent="-609480">
              <a:lnSpc>
                <a:spcPct val="100000"/>
              </a:lnSpc>
              <a:spcBef>
                <a:spcPts val="799"/>
              </a:spcBef>
              <a:buClr>
                <a:srgbClr val="3333cc"/>
              </a:buClr>
              <a:buSzPct val="60000"/>
              <a:buFont typeface="DFKai-S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當訓練接近最佳化：給小學習率以免震盪。</a:t>
            </a:r>
            <a:endParaRPr b="0" lang="en-US" sz="3200" spc="-1" strike="noStrike">
              <a:solidFill>
                <a:srgbClr val="000000"/>
              </a:solidFill>
              <a:latin typeface="Times New Roman"/>
            </a:endParaRPr>
          </a:p>
          <a:p>
            <a:pPr marL="609480" indent="-609480">
              <a:lnSpc>
                <a:spcPct val="100000"/>
              </a:lnSpc>
              <a:spcBef>
                <a:spcPts val="799"/>
              </a:spcBef>
              <a:buClr>
                <a:srgbClr val="3333cc"/>
              </a:buClr>
              <a:buSzPct val="60000"/>
              <a:buFont typeface="DFKai-S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訓練速度調整是根據</a:t>
            </a:r>
            <a:r>
              <a:rPr b="0" lang="en-US" sz="3200" spc="-1" strike="noStrike">
                <a:solidFill>
                  <a:srgbClr val="000000"/>
                </a:solidFill>
                <a:latin typeface="DFKai-SB"/>
                <a:ea typeface="DFKai-SB"/>
              </a:rPr>
              <a:t>PE</a:t>
            </a:r>
            <a:r>
              <a:rPr b="0" lang="zh-TW" sz="3200" spc="-1" strike="noStrike">
                <a:solidFill>
                  <a:srgbClr val="000000"/>
                </a:solidFill>
                <a:latin typeface="DFKai-SB"/>
                <a:ea typeface="DFKai-SB"/>
              </a:rPr>
              <a:t>和</a:t>
            </a:r>
            <a:r>
              <a:rPr b="0" lang="en-US" sz="3200" spc="-1" strike="noStrike">
                <a:solidFill>
                  <a:srgbClr val="000000"/>
                </a:solidFill>
                <a:latin typeface="DFKai-SB"/>
                <a:ea typeface="DFKai-SB"/>
              </a:rPr>
              <a:t>PCE</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解法（模糊）</a:t>
            </a:r>
            <a:endParaRPr b="0" lang="en-US" sz="4400" spc="-1" strike="noStrike">
              <a:solidFill>
                <a:srgbClr val="333399"/>
              </a:solidFill>
              <a:latin typeface="Times New Roman"/>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PE</a:t>
            </a:r>
            <a:r>
              <a:rPr b="0" lang="zh-TW" sz="3200" spc="-1" strike="noStrike">
                <a:solidFill>
                  <a:srgbClr val="000000"/>
                </a:solidFill>
                <a:latin typeface="DFKai-SB"/>
                <a:ea typeface="DFKai-SB"/>
              </a:rPr>
              <a:t>大時或非常大，訓練速率大，反之亦然。</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PCE</a:t>
            </a:r>
            <a:r>
              <a:rPr b="0" lang="zh-TW" sz="3200" spc="-1" strike="noStrike">
                <a:solidFill>
                  <a:srgbClr val="000000"/>
                </a:solidFill>
                <a:latin typeface="DFKai-SB"/>
                <a:ea typeface="DFKai-SB"/>
              </a:rPr>
              <a:t>負時訓練速率應增加，</a:t>
            </a:r>
            <a:r>
              <a:rPr b="0" lang="en-US" sz="3200" spc="-1" strike="noStrike">
                <a:solidFill>
                  <a:srgbClr val="000000"/>
                </a:solidFill>
                <a:latin typeface="DFKai-SB"/>
                <a:ea typeface="DFKai-SB"/>
              </a:rPr>
              <a:t>PCE</a:t>
            </a:r>
            <a:r>
              <a:rPr b="0" lang="zh-TW" sz="3200" spc="-1" strike="noStrike">
                <a:solidFill>
                  <a:srgbClr val="000000"/>
                </a:solidFill>
                <a:latin typeface="DFKai-SB"/>
                <a:ea typeface="DFKai-SB"/>
              </a:rPr>
              <a:t>正時訓練速率應減小。</a:t>
            </a:r>
            <a:endParaRPr b="0" lang="en-US" sz="3200" spc="-1" strike="noStrike">
              <a:solidFill>
                <a:srgbClr val="000000"/>
              </a:solidFill>
              <a:latin typeface="Times New Roman"/>
            </a:endParaRPr>
          </a:p>
        </p:txBody>
      </p:sp>
      <p:sp>
        <p:nvSpPr>
          <p:cNvPr id="31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模糊規則</a:t>
            </a:r>
            <a:endParaRPr b="0" lang="en-US" sz="4400" spc="-1" strike="noStrike">
              <a:solidFill>
                <a:srgbClr val="333399"/>
              </a:solidFill>
              <a:latin typeface="Times New Roman"/>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If PE is Very Large and PCE is Negatively Large THEN the training rate should be increased Positively Large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图片 91137" descr="xorftable"/>
          <p:cNvPicPr/>
          <p:nvPr/>
        </p:nvPicPr>
        <p:blipFill>
          <a:blip r:embed="rId1"/>
          <a:stretch/>
        </p:blipFill>
        <p:spPr>
          <a:xfrm>
            <a:off x="1066680" y="609480"/>
            <a:ext cx="7162920" cy="5181840"/>
          </a:xfrm>
          <a:prstGeom prst="rect">
            <a:avLst/>
          </a:prstGeom>
          <a:ln w="0">
            <a:noFill/>
          </a:ln>
        </p:spPr>
      </p:pic>
      <p:sp>
        <p:nvSpPr>
          <p:cNvPr id="31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92161" descr="xormember1"/>
          <p:cNvPicPr/>
          <p:nvPr/>
        </p:nvPicPr>
        <p:blipFill>
          <a:blip r:embed="rId1"/>
          <a:stretch/>
        </p:blipFill>
        <p:spPr>
          <a:xfrm>
            <a:off x="609480" y="457200"/>
            <a:ext cx="7848720" cy="5257800"/>
          </a:xfrm>
          <a:prstGeom prst="rect">
            <a:avLst/>
          </a:prstGeom>
          <a:ln w="0">
            <a:noFill/>
          </a:ln>
        </p:spPr>
      </p:pic>
      <p:sp>
        <p:nvSpPr>
          <p:cNvPr id="31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图片 93185" descr="xormember2"/>
          <p:cNvPicPr/>
          <p:nvPr/>
        </p:nvPicPr>
        <p:blipFill>
          <a:blip r:embed="rId1"/>
          <a:stretch/>
        </p:blipFill>
        <p:spPr>
          <a:xfrm>
            <a:off x="914400" y="2057400"/>
            <a:ext cx="7238880" cy="2819520"/>
          </a:xfrm>
          <a:prstGeom prst="rect">
            <a:avLst/>
          </a:prstGeom>
          <a:ln w="0">
            <a:noFill/>
          </a:ln>
        </p:spPr>
      </p:pic>
      <p:sp>
        <p:nvSpPr>
          <p:cNvPr id="32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23"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图片 94209" descr="mse"/>
          <p:cNvPicPr/>
          <p:nvPr/>
        </p:nvPicPr>
        <p:blipFill>
          <a:blip r:embed="rId1"/>
          <a:stretch/>
        </p:blipFill>
        <p:spPr>
          <a:xfrm>
            <a:off x="685800" y="762120"/>
            <a:ext cx="8001000" cy="5029200"/>
          </a:xfrm>
          <a:prstGeom prst="rect">
            <a:avLst/>
          </a:prstGeom>
          <a:ln w="0">
            <a:noFill/>
          </a:ln>
        </p:spPr>
      </p:pic>
      <p:sp>
        <p:nvSpPr>
          <p:cNvPr id="32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沒落因素</a:t>
            </a:r>
            <a:endParaRPr b="0" lang="en-US" sz="4400" spc="-1" strike="noStrike">
              <a:solidFill>
                <a:srgbClr val="333399"/>
              </a:solidFill>
              <a:latin typeface="Times New Roman"/>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1.</a:t>
            </a:r>
            <a:r>
              <a:rPr b="0" lang="zh-TW" sz="3200" spc="-1" strike="noStrike">
                <a:solidFill>
                  <a:srgbClr val="000000"/>
                </a:solidFill>
                <a:latin typeface="DFKai-SB"/>
                <a:ea typeface="DFKai-SB"/>
              </a:rPr>
              <a:t>本身理論無法突破（ </a:t>
            </a:r>
            <a:r>
              <a:rPr b="0" lang="en-US" sz="3200" spc="-1" strike="noStrike">
                <a:solidFill>
                  <a:srgbClr val="000000"/>
                </a:solidFill>
                <a:latin typeface="DFKai-SB"/>
                <a:ea typeface="DFKai-SB"/>
              </a:rPr>
              <a:t>EX</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XOR</a:t>
            </a:r>
            <a:r>
              <a:rPr b="0" lang="zh-TW" sz="3200" spc="-1" strike="noStrike">
                <a:solidFill>
                  <a:srgbClr val="000000"/>
                </a:solidFill>
                <a:latin typeface="DFKai-SB"/>
                <a:ea typeface="DFKai-SB"/>
              </a:rPr>
              <a:t>問題）。</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2.</a:t>
            </a:r>
            <a:r>
              <a:rPr b="0" lang="zh-TW" sz="3200" spc="-1" strike="noStrike">
                <a:solidFill>
                  <a:srgbClr val="000000"/>
                </a:solidFill>
                <a:latin typeface="DFKai-SB"/>
                <a:ea typeface="DFKai-SB"/>
              </a:rPr>
              <a:t>數位電腦、人工智慧的吸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3.</a:t>
            </a:r>
            <a:r>
              <a:rPr b="0" lang="zh-TW" sz="3200" spc="-1" strike="noStrike">
                <a:solidFill>
                  <a:srgbClr val="000000"/>
                </a:solidFill>
                <a:latin typeface="DFKai-SB"/>
                <a:ea typeface="DFKai-SB"/>
              </a:rPr>
              <a:t>當時相關技術無法實現「神經電腦」。</a:t>
            </a:r>
            <a:endParaRPr b="0" lang="en-US" sz="3200" spc="-1" strike="noStrike">
              <a:solidFill>
                <a:srgbClr val="000000"/>
              </a:solidFill>
              <a:latin typeface="Times New Roman"/>
            </a:endParaRPr>
          </a:p>
        </p:txBody>
      </p:sp>
      <p:sp>
        <p:nvSpPr>
          <p:cNvPr id="15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Times New Roman"/>
                <a:ea typeface="DFKai-SB"/>
              </a:rPr>
              <a:t>背景</a:t>
            </a:r>
            <a:r>
              <a:rPr b="0" lang="zh-TW" sz="4400" spc="-1" strike="noStrike">
                <a:solidFill>
                  <a:srgbClr val="6699ff"/>
                </a:solidFill>
                <a:latin typeface="Times New Roman"/>
              </a:rPr>
              <a:t>（</a:t>
            </a:r>
            <a:r>
              <a:rPr b="0" lang="en-US" sz="4400" spc="-1" strike="noStrike">
                <a:solidFill>
                  <a:srgbClr val="6699ff"/>
                </a:solidFill>
                <a:latin typeface="Times New Roman"/>
              </a:rPr>
              <a:t>2</a:t>
            </a:r>
            <a:r>
              <a:rPr b="0" lang="zh-TW" sz="4400" spc="-1" strike="noStrike">
                <a:solidFill>
                  <a:srgbClr val="6699ff"/>
                </a:solidFill>
                <a:latin typeface="Times New Roman"/>
              </a:rPr>
              <a:t>）</a:t>
            </a:r>
            <a:endParaRPr b="0" lang="en-US" sz="4400" spc="-1" strike="noStrike">
              <a:solidFill>
                <a:srgbClr val="333399"/>
              </a:solidFill>
              <a:latin typeface="Times New Roman"/>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80</a:t>
            </a:r>
            <a:r>
              <a:rPr b="0" lang="zh-TW" sz="3200" spc="-1" strike="noStrike">
                <a:solidFill>
                  <a:srgbClr val="000000"/>
                </a:solidFill>
                <a:latin typeface="DFKai-SB"/>
                <a:ea typeface="DFKai-SB"/>
              </a:rPr>
              <a:t>年代中期：類神經網路的研究復興，而在短短數年之內蔚為風潮。</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原因：如下</a:t>
            </a:r>
            <a:r>
              <a:rPr b="0" lang="en-US" sz="3200" spc="-1" strike="noStrike">
                <a:solidFill>
                  <a:srgbClr val="000000"/>
                </a:solidFill>
                <a:latin typeface="DFKai-SB"/>
                <a:ea typeface="DFKai-SB"/>
              </a:rPr>
              <a:t>4</a:t>
            </a:r>
            <a:r>
              <a:rPr b="0" lang="zh-TW" sz="3200" spc="-1" strike="noStrike">
                <a:solidFill>
                  <a:srgbClr val="000000"/>
                </a:solidFill>
                <a:latin typeface="DFKai-SB"/>
                <a:ea typeface="DFKai-SB"/>
              </a:rPr>
              <a:t>點。</a:t>
            </a:r>
            <a:endParaRPr b="0" lang="en-US" sz="3200" spc="-1" strike="noStrike">
              <a:solidFill>
                <a:srgbClr val="000000"/>
              </a:solidFill>
              <a:latin typeface="Times New Roman"/>
            </a:endParaRPr>
          </a:p>
        </p:txBody>
      </p:sp>
      <p:sp>
        <p:nvSpPr>
          <p:cNvPr id="15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DFKai-SB"/>
                <a:ea typeface="DFKai-SB"/>
              </a:rPr>
              <a:t>復興原因（</a:t>
            </a:r>
            <a:r>
              <a:rPr b="0" lang="en-US" sz="4400" spc="-1" strike="noStrike">
                <a:solidFill>
                  <a:srgbClr val="6699ff"/>
                </a:solidFill>
                <a:latin typeface="DFKai-SB"/>
                <a:ea typeface="DFKai-SB"/>
              </a:rPr>
              <a:t>1</a:t>
            </a:r>
            <a:r>
              <a:rPr b="0" lang="zh-TW" sz="4400" spc="-1" strike="noStrike">
                <a:solidFill>
                  <a:srgbClr val="6699ff"/>
                </a:solidFill>
                <a:latin typeface="DFKai-SB"/>
                <a:ea typeface="DFKai-SB"/>
              </a:rPr>
              <a:t>）</a:t>
            </a:r>
            <a:endParaRPr b="0" lang="en-US" sz="4400" spc="-1" strike="noStrike">
              <a:solidFill>
                <a:srgbClr val="333399"/>
              </a:solidFill>
              <a:latin typeface="Times New Roman"/>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類神經網路在理論的建立與模式的開發上有了突破，最明顯的突破包括：</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   </a:t>
            </a:r>
            <a:r>
              <a:rPr b="1" lang="zh-TW" sz="3200" spc="-1" strike="noStrike">
                <a:solidFill>
                  <a:srgbClr val="000000"/>
                </a:solidFill>
                <a:latin typeface="DFKai-SB"/>
                <a:ea typeface="DFKai-SB"/>
              </a:rPr>
              <a:t>霍普菲爾網路</a:t>
            </a: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Hopfield  neural   network</a:t>
            </a:r>
            <a:r>
              <a:rPr b="0" lang="zh-TW" sz="3200" spc="-1" strike="noStrike">
                <a:solidFill>
                  <a:srgbClr val="000000"/>
                </a:solidFill>
                <a:latin typeface="DFKai-SB"/>
                <a:ea typeface="DFKai-SB"/>
              </a:rPr>
              <a:t>， </a:t>
            </a:r>
            <a:r>
              <a:rPr b="0" lang="en-US" sz="3200" spc="-1" strike="noStrike">
                <a:solidFill>
                  <a:srgbClr val="000000"/>
                </a:solidFill>
                <a:latin typeface="DFKai-SB"/>
                <a:ea typeface="DFKai-SB"/>
              </a:rPr>
              <a:t>HNN</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DFKai-SB"/>
                <a:ea typeface="DFKai-SB"/>
              </a:rPr>
              <a:t>   </a:t>
            </a:r>
            <a:r>
              <a:rPr b="1" lang="zh-TW" sz="3200" spc="-1" strike="noStrike">
                <a:solidFill>
                  <a:srgbClr val="000000"/>
                </a:solidFill>
                <a:latin typeface="DFKai-SB"/>
                <a:ea typeface="DFKai-SB"/>
              </a:rPr>
              <a:t>倒傳遞網路</a:t>
            </a:r>
            <a:r>
              <a:rPr b="0" lang="zh-TW" sz="3200" spc="-1" strike="noStrike">
                <a:solidFill>
                  <a:srgbClr val="000000"/>
                </a:solidFill>
                <a:latin typeface="DFKai-SB"/>
                <a:ea typeface="DFKai-SB"/>
              </a:rPr>
              <a:t>（</a:t>
            </a:r>
            <a:r>
              <a:rPr b="0" lang="en-US" sz="3200" spc="-1" strike="noStrike">
                <a:solidFill>
                  <a:srgbClr val="000000"/>
                </a:solidFill>
                <a:latin typeface="DFKai-SB"/>
                <a:ea typeface="DFKai-SB"/>
              </a:rPr>
              <a:t>Back-propagation  network</a:t>
            </a:r>
            <a:r>
              <a:rPr b="0" lang="zh-TW" sz="3200" spc="-1" strike="noStrike">
                <a:solidFill>
                  <a:srgbClr val="000000"/>
                </a:solidFill>
                <a:latin typeface="DFKai-SB"/>
                <a:ea typeface="DFKai-SB"/>
              </a:rPr>
              <a:t>）。</a:t>
            </a:r>
            <a:endParaRPr b="0" lang="en-US" sz="3200" spc="-1" strike="noStrike">
              <a:solidFill>
                <a:srgbClr val="000000"/>
              </a:solidFill>
              <a:latin typeface="Times New Roman"/>
            </a:endParaRPr>
          </a:p>
        </p:txBody>
      </p:sp>
      <p:sp>
        <p:nvSpPr>
          <p:cNvPr id="16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DFKai-SB"/>
                <a:ea typeface="DFKai-SB"/>
              </a:rPr>
              <a:t>復興原因（</a:t>
            </a:r>
            <a:r>
              <a:rPr b="0" lang="en-US" sz="4400" spc="-1" strike="noStrike">
                <a:solidFill>
                  <a:srgbClr val="6699ff"/>
                </a:solidFill>
                <a:latin typeface="DFKai-SB"/>
                <a:ea typeface="DFKai-SB"/>
              </a:rPr>
              <a:t>2</a:t>
            </a:r>
            <a:r>
              <a:rPr b="0" lang="zh-TW" sz="4400" spc="-1" strike="noStrike">
                <a:solidFill>
                  <a:srgbClr val="6699ff"/>
                </a:solidFill>
                <a:latin typeface="DFKai-SB"/>
                <a:ea typeface="DFKai-SB"/>
              </a:rPr>
              <a:t>）</a:t>
            </a:r>
            <a:endParaRPr b="0" lang="en-US" sz="4400" spc="-1" strike="noStrike">
              <a:solidFill>
                <a:srgbClr val="333399"/>
              </a:solidFill>
              <a:latin typeface="Times New Roman"/>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解決電腦科學與人工智慧的難題，（</a:t>
            </a:r>
            <a:r>
              <a:rPr b="0" lang="en-US" sz="3200" spc="-1" strike="noStrike">
                <a:solidFill>
                  <a:srgbClr val="000000"/>
                </a:solidFill>
                <a:latin typeface="DFKai-SB"/>
                <a:ea typeface="DFKai-SB"/>
              </a:rPr>
              <a:t>EX</a:t>
            </a:r>
            <a:r>
              <a:rPr b="0" lang="zh-TW" sz="3200" spc="-1" strike="noStrike">
                <a:solidFill>
                  <a:srgbClr val="000000"/>
                </a:solidFill>
                <a:latin typeface="DFKai-SB"/>
                <a:ea typeface="DFKai-SB"/>
              </a:rPr>
              <a:t>：樣本識別、機器學習）。</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電子、光學等技術進展：提供實現「神經電腦」可能性（</a:t>
            </a:r>
            <a:r>
              <a:rPr b="0" lang="en-US" sz="3200" spc="-1" strike="noStrike">
                <a:solidFill>
                  <a:srgbClr val="000000"/>
                </a:solidFill>
                <a:latin typeface="DFKai-SB"/>
                <a:ea typeface="DFKai-SB"/>
              </a:rPr>
              <a:t>EX</a:t>
            </a:r>
            <a:r>
              <a:rPr b="0" lang="zh-TW" sz="3200" spc="-1" strike="noStrike">
                <a:solidFill>
                  <a:srgbClr val="000000"/>
                </a:solidFill>
                <a:latin typeface="DFKai-SB"/>
                <a:ea typeface="DFKai-SB"/>
              </a:rPr>
              <a:t>：基於</a:t>
            </a:r>
            <a:r>
              <a:rPr b="0" lang="en-US" sz="3200" spc="-1" strike="noStrike">
                <a:solidFill>
                  <a:srgbClr val="000000"/>
                </a:solidFill>
                <a:latin typeface="DFKai-SB"/>
                <a:ea typeface="DFKai-SB"/>
              </a:rPr>
              <a:t>VLSI</a:t>
            </a:r>
            <a:r>
              <a:rPr b="0" lang="zh-TW" sz="3200" spc="-1" strike="noStrike">
                <a:solidFill>
                  <a:srgbClr val="000000"/>
                </a:solidFill>
                <a:latin typeface="DFKai-SB"/>
                <a:ea typeface="DFKai-SB"/>
              </a:rPr>
              <a:t>的神經電腦與光神經電腦的誕生）。</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99ff"/>
                </a:solidFill>
                <a:latin typeface="DFKai-SB"/>
                <a:ea typeface="DFKai-SB"/>
              </a:rPr>
              <a:t>復興原因（</a:t>
            </a:r>
            <a:r>
              <a:rPr b="0" lang="en-US" sz="4400" spc="-1" strike="noStrike">
                <a:solidFill>
                  <a:srgbClr val="6699ff"/>
                </a:solidFill>
                <a:latin typeface="DFKai-SB"/>
                <a:ea typeface="DFKai-SB"/>
              </a:rPr>
              <a:t>3</a:t>
            </a:r>
            <a:r>
              <a:rPr b="0" lang="zh-TW" sz="4400" spc="-1" strike="noStrike">
                <a:solidFill>
                  <a:srgbClr val="6699ff"/>
                </a:solidFill>
                <a:latin typeface="DFKai-SB"/>
                <a:ea typeface="DFKai-SB"/>
              </a:rPr>
              <a:t>）</a:t>
            </a:r>
            <a:endParaRPr b="0" lang="en-US" sz="4400" spc="-1" strike="noStrike">
              <a:solidFill>
                <a:srgbClr val="333399"/>
              </a:solidFill>
              <a:latin typeface="Times New Roman"/>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DFKai-SB"/>
                <a:ea typeface="DFKai-SB"/>
              </a:rPr>
              <a:t>從現代生物學、認知學、心裡學對生物神經網路的瞭解，提供了發展新的類神經網路模式的啟示。</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9:21Z</dcterms:created>
  <dc:creator/>
  <dc:description/>
  <cp:keywords>泛朦 第三系 神經系</cp:keywords>
  <dc:language>en-US</dc:language>
  <cp:lastModifiedBy>An</cp:lastModifiedBy>
  <dcterms:modified xsi:type="dcterms:W3CDTF">2016-05-01T00:49:2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