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A258A-2527-4008-92B6-A5B88CF3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CD034-98D6-498D-9C21-531F6411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9E347-0D36-498D-ADE3-132CE19E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E98A6-4B70-494B-A44C-B5148534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4DAE4-36D1-49A0-A529-3E72C8D0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1988-7184-4B7F-B243-B8DA7785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0C4D-09B0-4D8F-9AE0-14275F74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59956-460E-455D-A13E-EEB8255C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1AA3B-7E02-49BE-823D-F696B57F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B73D-9989-436F-9992-577ED45C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B95CD-C907-482A-9E82-53156F02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5512E-F9E7-406C-ADCD-2992D705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7B27-716B-4516-9DEE-8BB550F377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engxuexiangxiang.photo.hexun.com/4769644_d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1920" y="1676520"/>
            <a:ext cx="26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《公顷、平方千米》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80880" y="177840"/>
            <a:ext cx="85345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在括号里填上合适的数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、天安门广场是世界上最大的城市广场，面积大约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4000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方米，合（                ）公顷。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、故宫是世界上最大的宫殿，占地面积约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72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公顷，合（                 ）平方米。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3657600" y="28954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219320" y="533412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720000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天安门广场"/>
          <p:cNvPicPr/>
          <p:nvPr/>
        </p:nvPicPr>
        <p:blipFill>
          <a:blip r:embed="rId2"/>
          <a:stretch/>
        </p:blipFill>
        <p:spPr>
          <a:xfrm>
            <a:off x="0" y="0"/>
            <a:ext cx="9144000" cy="4716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0" y="472428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天安门广场约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公顷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33520" y="571500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公顷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              )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平方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505320" y="571500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400000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故宫2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4268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457200" y="44197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故宫约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7200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方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33520" y="571500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720000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平方米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             )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公顷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791320" y="57150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72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762120" y="45720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千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100000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838080" y="3809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千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10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公顷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62120" y="213372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公顷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1000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277920"/>
            <a:ext cx="8381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单位换算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千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(       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公顷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5000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(       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公顷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8000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(       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公顷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公顷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(         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分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(       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厘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7000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公顷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(       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千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733920" y="19051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100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724280" y="2666880"/>
            <a:ext cx="13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952880" y="3352680"/>
            <a:ext cx="13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2438280" y="4038480"/>
            <a:ext cx="24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90000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962520" y="48006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100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886200" y="5562720"/>
            <a:ext cx="169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700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6666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838080"/>
            <a:ext cx="96775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一张邮票的面积约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（                   ）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课桌面的面积约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24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（                    ）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教室地面的面积约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54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（               ）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562720" y="76212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平方厘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172200" y="190512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平方分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477120" y="30481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平方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7" name="Picture 7" descr="76030cx_4_1_18"/>
          <p:cNvPicPr/>
          <p:nvPr/>
        </p:nvPicPr>
        <p:blipFill>
          <a:blip r:embed="rId2"/>
          <a:stretch/>
        </p:blipFill>
        <p:spPr>
          <a:xfrm>
            <a:off x="7391520" y="5510160"/>
            <a:ext cx="1292040" cy="1347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61722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0EDB9-B1C2-4212-9269-7E126CC20F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90512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边长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米的正方形土地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面积是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公顷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1295280" y="304920"/>
            <a:ext cx="6096240" cy="1447560"/>
          </a:xfrm>
          <a:prstGeom prst="cloudCallout">
            <a:avLst>
              <a:gd name="adj1" fmla="val -38435"/>
              <a:gd name="adj2" fmla="val 585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公顷有多大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066680" y="54864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公顷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=(              )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方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581280" y="55627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000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066680" y="396252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00×1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0000(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方米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2895480" y="41911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68" name="Picture 2" descr="sha"/>
          <p:cNvPicPr/>
          <p:nvPr/>
        </p:nvPicPr>
        <p:blipFill>
          <a:blip r:embed="rId2"/>
          <a:stretch/>
        </p:blipFill>
        <p:spPr>
          <a:xfrm>
            <a:off x="4664160" y="0"/>
            <a:ext cx="447984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4800600" y="4876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烈士公园位于开福区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总面积约为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18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公顷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70" name="Picture 4" descr="sha2"/>
          <p:cNvPicPr/>
          <p:nvPr/>
        </p:nvPicPr>
        <p:blipFill>
          <a:blip r:embed="rId3"/>
          <a:stretch/>
        </p:blipFill>
        <p:spPr>
          <a:xfrm>
            <a:off x="0" y="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0" y="51055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长沙世界之窗占地面积约为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公顷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b_1FFC8783C193786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457200" y="370368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贺龙体育馆占地面积大约是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1100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方米，建筑面积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大约是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156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方米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04920" y="30492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学校附近有块长方形的地，长约为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5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米，宽约为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米，这块地的面积大概是多少平方米？有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公顷吗？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66680" y="2895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50×100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5000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平方米）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685800" y="4038480"/>
            <a:ext cx="7391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5000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平方米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.5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公顷＞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公顷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答：这块地的面积大概是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5000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平方米，有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公顷。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78" name="Picture 5" descr="76030cx_4_1_14"/>
          <p:cNvPicPr/>
          <p:nvPr/>
        </p:nvPicPr>
        <p:blipFill>
          <a:blip r:embed="rId2"/>
          <a:stretch/>
        </p:blipFill>
        <p:spPr>
          <a:xfrm>
            <a:off x="8062920" y="5962680"/>
            <a:ext cx="1081080" cy="8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80880" y="22860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小结： 把平方米作单位的数量改成公顷做单位的数量时，可以用原来的数去掉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个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28600" y="2514600"/>
            <a:ext cx="8915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填空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公顷＝（                       ）平方米    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7000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平方米＝（              ）公顷         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733920" y="3733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60000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488200" y="48006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28600" y="609480"/>
            <a:ext cx="89154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在“＿”上填“ ＞”、“＜ ” 、“＝”。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公顷＿＿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75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方米         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500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方米＿＿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公顷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方米＿＿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0.3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公顷        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68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方米 ＿＿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0.68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公顷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133720" y="19051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＞</a:t>
            </a:r>
            <a:endParaRPr b="0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191120" y="26668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＝</a:t>
            </a:r>
            <a:endParaRPr b="0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352680" y="34290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＜</a:t>
            </a:r>
            <a:endParaRPr b="0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886200" y="4191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＝</a:t>
            </a:r>
            <a:endParaRPr b="0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1T11:38:59Z</dcterms:created>
  <dc:creator/>
  <dc:description/>
  <cp:keywords>幻灯片之家 http:/www.eeppt.com</cp:keywords>
  <dc:language>en-US</dc:language>
  <cp:lastModifiedBy/>
  <dcterms:modified xsi:type="dcterms:W3CDTF">2015-07-03T14:16:12Z</dcterms:modified>
  <cp:revision>1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