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C35A6-27F7-42FA-B45D-6E7D115F6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DC4F2-164A-4249-B4E5-1D130066D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14459-9708-4003-AFF8-752DDDE48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34C7A-6786-45A7-BCE4-54D5909B7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E95A7-AE56-4AD1-8383-7B10AFDA4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23D67-E65F-4E6F-8688-329C96C5E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2F9D4-36F1-4238-871E-80774667D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1689A-E101-48D2-B3F7-C6DD3AFBB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F40A2-9AAA-4A8A-8E35-38518A609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761CC-190C-49A9-9748-ECCA5170C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E8FFF-4E5E-40AE-992D-74694A964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DF8DD-CE90-41F5-93F8-45AD3C42D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25FBE-7C1F-465C-880A-544B1B727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F9A7D-4BB9-4CAA-BFDB-563EB3330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9DC94-E90B-4611-AD13-916045654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E629A-B4FE-4D11-8B55-DFF8388E8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E5442-E21D-4C47-932F-084B84D0B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0F535-EBA6-41A5-B36B-C74B88224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A1661-6D2C-443D-BFBE-8D93E9C3E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36B68-DAA6-4904-970C-02E16566F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71743-1191-4B63-85DA-6314A67E9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1D1FE-1DBE-4C4F-9C35-21D9AFEBC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C7A8F-1969-41BE-BA79-9452ED71F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EF75C-4D38-4A2A-BFDE-2331BFC13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0FE21-B734-4961-8053-E6A2CAC286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7" descr="图片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" name="Picture 8" descr=""/>
          <p:cNvPicPr/>
          <p:nvPr/>
        </p:nvPicPr>
        <p:blipFill>
          <a:blip r:embed="rId3"/>
          <a:stretch/>
        </p:blipFill>
        <p:spPr>
          <a:xfrm>
            <a:off x="0" y="3789360"/>
            <a:ext cx="3456000" cy="2438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F0390-06B1-4A85-AFEE-05B30EB9AB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图片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4" descr="图片3"/>
          <p:cNvPicPr/>
          <p:nvPr/>
        </p:nvPicPr>
        <p:blipFill>
          <a:blip r:embed="rId1"/>
          <a:stretch/>
        </p:blipFill>
        <p:spPr>
          <a:xfrm>
            <a:off x="34920" y="44280"/>
            <a:ext cx="9142560" cy="6858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5" descr=""/>
          <p:cNvPicPr/>
          <p:nvPr/>
        </p:nvPicPr>
        <p:blipFill>
          <a:blip r:embed="rId2"/>
          <a:stretch/>
        </p:blipFill>
        <p:spPr>
          <a:xfrm>
            <a:off x="423720" y="274680"/>
            <a:ext cx="3467160" cy="723960"/>
          </a:xfrm>
          <a:prstGeom prst="rect">
            <a:avLst/>
          </a:prstGeom>
          <a:ln w="0">
            <a:noFill/>
          </a:ln>
        </p:spPr>
      </p:pic>
      <p:sp>
        <p:nvSpPr>
          <p:cNvPr id="87" name="矩形 1"/>
          <p:cNvSpPr/>
          <p:nvPr/>
        </p:nvSpPr>
        <p:spPr>
          <a:xfrm>
            <a:off x="7380360" y="1844640"/>
            <a:ext cx="1512720" cy="43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50920" y="638172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17440" y="0"/>
            <a:ext cx="4153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钢琴曲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4" descr="图片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4" descr="图片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468360" y="328608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ppt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4" descr="图片4"/>
          <p:cNvPicPr/>
          <p:nvPr/>
        </p:nvPicPr>
        <p:blipFill>
          <a:blip r:embed="rId1"/>
          <a:stretch/>
        </p:blipFill>
        <p:spPr>
          <a:xfrm>
            <a:off x="-252360" y="-455760"/>
            <a:ext cx="9752040" cy="7313760"/>
          </a:xfrm>
          <a:prstGeom prst="rect">
            <a:avLst/>
          </a:prstGeom>
          <a:ln w="0">
            <a:noFill/>
          </a:ln>
        </p:spPr>
      </p:pic>
      <p:sp>
        <p:nvSpPr>
          <p:cNvPr id="98" name="WordArt 6"/>
          <p:cNvSpPr txBox="1"/>
          <p:nvPr/>
        </p:nvSpPr>
        <p:spPr>
          <a:xfrm>
            <a:off x="3130560" y="1341360"/>
            <a:ext cx="3097080" cy="8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solidFill>
                  <a:srgbClr val="c0c0c0"/>
                </a:solidFill>
                <a:latin typeface="宋体"/>
              </a:rPr>
              <a:t>谢谢聆听</a:t>
            </a:r>
            <a:endParaRPr b="1" lang="en-US" sz="1800" spc="-1" strike="noStrike">
              <a:ln w="0">
                <a:noFill/>
              </a:ln>
              <a:solidFill>
                <a:srgbClr val="c0c0c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DE2D0-194D-4385-A570-4FB2F93D04B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5T17:06:2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7T00:20:2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