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3.jpeg" ContentType="image/jpeg"/>
  <Override PartName="/ppt/media/image11.gif" ContentType="image/gif"/>
  <Override PartName="/ppt/media/image17.jpeg" ContentType="image/jpeg"/>
  <Override PartName="/ppt/media/image5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F16-6D9F-45E2-AC86-3F423237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449-3DDD-4ED1-B25B-DB6B5A9E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4E4-28E8-42A1-8DEB-EF71DE16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C12-6358-4C4B-8970-7D8AF906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1D9-0A4F-4337-8F47-D4B89075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EBDE-5E77-4434-B322-5737E1C6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A74F-0901-4CCE-8FDD-4DF0F9A7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629-A800-4140-A22A-FFBC8F11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E35B-6DF2-4F7A-A4E8-1195CCDA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727F-A975-42FE-9F28-C93280C0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A2C7-E0B1-4BD9-9F85-D63E8C8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C6D-BFF6-4DE4-913D-B5A4973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112-F0BB-4CA3-8124-396047D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33F1-3ED0-4AE3-8BC6-502908E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F004-7AEC-43DA-B262-8E1B61FC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4723-C429-4D04-85F0-74523103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0F16-AEF2-414F-AEA0-4C69950E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A9F-6DDE-4EF8-92B1-A1969AB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685-F16E-4639-B2D5-EB97C8E9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EF3-D0D5-4E86-BE5A-2D95A521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46F-1767-4FA1-87B0-AE689BE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04E-CCE7-40A0-9EC0-5F216A7B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61F-CFC5-446D-A68D-210DFCA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95F-B1C1-4EDC-9C3E-23FDA75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3237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287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2519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1796-E523-4F65-9A61-61F2BC8434EE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1FF-AB9F-411F-AACC-D7CAF87BBC7A}" type="slidenum">
              <a:rPr b="0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451"/>
              </a:spcBef>
              <a:buSzPct val="3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451"/>
              </a:spcBef>
              <a:buSzPct val="3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SzPct val="36018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SzPct val="36003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SzPct val="360035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SzPct val="360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SzPct val="360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5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9.gif"/><Relationship Id="rId16" Type="http://schemas.openxmlformats.org/officeDocument/2006/relationships/image" Target="../media/image16.gif"/><Relationship Id="rId1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SzPct val="3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宋体"/>
              </a:rPr>
              <a:t>Cool Turtle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9040" y="228600"/>
            <a:ext cx="4076640" cy="6553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08040" y="763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龟兔赛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331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SzPct val="3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331488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3896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331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SzPct val="3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34120" y="228600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ras Bold ITC"/>
              <a:ea typeface="宋体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181116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280" y="347040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280" y="512928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485120" y="4191120"/>
            <a:ext cx="165888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5029200" y="4330800"/>
            <a:ext cx="2394000" cy="252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362320" y="2438280"/>
            <a:ext cx="66492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2514600" y="4116240"/>
            <a:ext cx="2290680" cy="274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124080" y="1295280"/>
            <a:ext cx="1109880" cy="116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4876920" y="1295280"/>
            <a:ext cx="895320" cy="116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943600" y="208080"/>
            <a:ext cx="1163520" cy="105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6248520" y="1371600"/>
            <a:ext cx="930240" cy="116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4648320" y="208080"/>
            <a:ext cx="993600" cy="116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4"/>
          <a:stretch/>
        </p:blipFill>
        <p:spPr>
          <a:xfrm>
            <a:off x="3048120" y="344520"/>
            <a:ext cx="1163520" cy="87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5"/>
          <a:stretch/>
        </p:blipFill>
        <p:spPr>
          <a:xfrm>
            <a:off x="7620120" y="208080"/>
            <a:ext cx="1163520" cy="1163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6"/>
          <a:stretch/>
        </p:blipFill>
        <p:spPr>
          <a:xfrm>
            <a:off x="7848720" y="1371600"/>
            <a:ext cx="1057320" cy="1163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Eras Bold ITC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C79-8618-49DA-9459-11295B449101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01:1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1:4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