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rack02-2.26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EE1-11CE-44B8-BCE8-7BB1734C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51E-5BA5-4067-AF18-3C11F87E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6F9-1E28-4B38-A11A-CE9AACBF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A7A-EFD5-4287-82CB-E2EBD5E7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B7B22-DFCE-4708-8221-4DBC146E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BFB7D-DD26-4B2D-AB24-FD84CF77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0DB5E-5A39-4F44-B37D-8A3B996B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A53CF-E3C3-492A-A46B-93900528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E3221-BED2-4E06-BF3E-D2A82A31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827B5-814A-4682-88DF-B650E0FD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A77DC-7C66-4D14-B94E-8D98D4D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DE9-405F-4B13-88B6-720B3821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919A2-6945-4C68-9E05-00BE6A5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1C9EF-301F-4B74-AB08-85859E1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C363C-F3B7-4C6D-B240-A9834671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663AB-4E9C-4D1A-A8D1-B0640A78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03878-7315-415B-8C9F-00E386F1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7E0-559E-4E49-B12F-1E7EEE53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2C4-E8B5-46C5-BADC-6859D512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C51-A4BB-469A-85F4-549BF669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AB1-2174-4DCE-8F06-660E0C19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272-BDB2-4F30-B01D-B299E7AB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0863-B8BC-4F05-8CB5-A13704AA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676-D377-4A65-A5E5-07AB3DA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B43E-179B-4F63-85EB-E0327B4882FB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EEDA-7731-4017-B012-8D45BBAC26AD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429240" y="6214680"/>
            <a:ext cx="24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4B90-BF9E-4DBA-B527-51B7BB7E3CFF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5B88-FF37-47D6-996C-728EF3FE7F87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02-2.2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2306605-lg"/>
          <p:cNvPicPr/>
          <p:nvPr/>
        </p:nvPicPr>
        <p:blipFill>
          <a:blip r:embed="rId1"/>
          <a:stretch/>
        </p:blipFill>
        <p:spPr>
          <a:xfrm>
            <a:off x="-252360" y="44280"/>
            <a:ext cx="9607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灯片编号占位符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9F94-3212-4B20-9EF2-467C4DF3254C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7017120" y="6215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</a:rPr>
              <a:t>自动或手动播放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黑体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黑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"/>
          <p:cNvSpPr/>
          <p:nvPr/>
        </p:nvSpPr>
        <p:spPr>
          <a:xfrm>
            <a:off x="2059200" y="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关于友情的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使用规范说明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940DA-BD84-4198-B7F5-9D518DCF0D9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内容占位符 3" descr="咖啡.jpg"/>
          <p:cNvPicPr/>
          <p:nvPr/>
        </p:nvPicPr>
        <p:blipFill>
          <a:blip r:embed="rId1"/>
          <a:stretch/>
        </p:blipFill>
        <p:spPr>
          <a:xfrm>
            <a:off x="355680" y="26676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92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7881-FAF2-458D-8AC7-1145D5960A57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0040" y="1356840"/>
            <a:ext cx="52149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喝杯咖啡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聽起來讓人很温馨且令人感動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聊一聊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說說話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些無聊的東東給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42960" y="1357200"/>
            <a:ext cx="5562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文字方塊 6"/>
          <p:cNvSpPr/>
          <p:nvPr/>
        </p:nvSpPr>
        <p:spPr>
          <a:xfrm>
            <a:off x="1214280" y="857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DFKai-SB"/>
                <a:ea typeface="DFKai-SB"/>
              </a:rPr>
              <a:t>很特別的一句廣告詞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0" name="Picture 10" descr="2281147-lg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  <p:sp>
        <p:nvSpPr>
          <p:cNvPr id="101" name="內容版面配置區 11"/>
          <p:cNvSpPr/>
          <p:nvPr/>
        </p:nvSpPr>
        <p:spPr>
          <a:xfrm>
            <a:off x="928800" y="928800"/>
            <a:ext cx="7500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我們常怕打擾別人，而忽略要打個電話問候對方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久而久之，漸漸疏遠、漸漸陌生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直到有一天，連方的電話號碼都忘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或者，怕對方早忘了你，而沒有勇氣再打電話給他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灯片编号占位符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C804-7A8F-41EE-9B53-4098292058F9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打电话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276720" y="4572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9" name="Picture 10" descr="1750131-l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755640" y="857160"/>
            <a:ext cx="488808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想現代人應該都是寂寞的吧？因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總覺得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寂寞，與有沒有人陪在身邊，無關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那是一種心靈上的空虛，總在最脆弱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時分竄上心頭，引發出內心深層的孤寂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其實不很懂，為什麼我會覺得寂寞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大多時候，是忙得心力交瘁的，而不管如何地繁忙，我總是知道身邊至少還有個他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C393-D1E0-45B8-B29F-79F4BC7A0C49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advTm="22000">
    <p:diamond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17" name="Picture 11" descr="2930017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1447920" y="2666880"/>
            <a:ext cx="655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但為什麼還是會寂寞？我想或許是我太重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“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”不單單是愛情，還有親情和友情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甚至還有一些無法定義的感情，都是情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我常捫心自問：「有這麼忙嗎？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廣告詞中的：「再忙，也要和你喝杯咖啡。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說得多好啊！若有心，應該是這種境界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有時候，抓起話筒想和他說說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卻又顧忌到他是否有時間與我說話呢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最後，還是放下了電話。只是，偶爾我會感到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C761-FEA5-43A3-9AA3-229E271C80F2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为什么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20000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5" name="Picture 8" descr="2486586-lg"/>
          <p:cNvPicPr/>
          <p:nvPr/>
        </p:nvPicPr>
        <p:blipFill>
          <a:blip r:embed="rId1"/>
          <a:stretch/>
        </p:blipFill>
        <p:spPr>
          <a:xfrm>
            <a:off x="0" y="-7128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1143000" y="3143160"/>
            <a:ext cx="5823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每當想起其他的好朋友時，心頭總是悵然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曾經和我走過生命中某一段過程的朋友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都很想念，不知道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現在好嗎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是否偶爾也會想起我呢？或許將會永遠斷了聯絡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我永遠都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過得好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能夠幸福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FE03-5E23-4BE9-BDDE-CEC914231B19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想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3" name="Picture 8" descr="1903531-lg"/>
          <p:cNvPicPr/>
          <p:nvPr/>
        </p:nvPicPr>
        <p:blipFill>
          <a:blip r:embed="rId1"/>
          <a:stretch/>
        </p:blipFill>
        <p:spPr>
          <a:xfrm>
            <a:off x="-108000" y="-2700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428760" y="3714840"/>
            <a:ext cx="5603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看完這篇文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...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大家不管多忙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都不要忘了找一個時間和朋友聚一聚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或者通個電話問候一下吧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世界有許多人在關心你，也需要你的關心呢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5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51A9-C349-413B-B1AE-53B0B96110B0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聚一聚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黑体"/>
                <a:hlinkClick r:id="rId2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newsflash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42" name="Picture 8" descr="3026017-lg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3429000" y="1066680"/>
            <a:ext cx="52689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不過感謝現在有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麼方便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雖然隨著時間的流逝友情已不復當年濃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總是能知道一下對方的消息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有的時候並不是真的寄信的內容多吸引人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AFFB-A121-44AC-A78B-DB297DB4BF6D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e-mail</a:t>
            </a: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多方便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50" name="Picture 14" descr="2568684-lg"/>
          <p:cNvPicPr/>
          <p:nvPr/>
        </p:nvPicPr>
        <p:blipFill>
          <a:blip r:embed="rId1"/>
          <a:stretch/>
        </p:blipFill>
        <p:spPr>
          <a:xfrm>
            <a:off x="0" y="-7920"/>
            <a:ext cx="9396360" cy="6865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3"/>
          <p:cNvSpPr/>
          <p:nvPr/>
        </p:nvSpPr>
        <p:spPr>
          <a:xfrm>
            <a:off x="685800" y="685800"/>
            <a:ext cx="4724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在乎的是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看到誰寄</a:t>
            </a:r>
            <a:r>
              <a:rPr b="1" lang="en-US" sz="3600" spc="-1" strike="noStrike">
                <a:solidFill>
                  <a:srgbClr val="ffff00"/>
                </a:solidFill>
                <a:latin typeface="DFKai-SB"/>
                <a:ea typeface="DFKai-SB"/>
              </a:rPr>
              <a:t>E-mail</a:t>
            </a: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來了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DFKai-SB"/>
                <a:ea typeface="DFKai-SB"/>
              </a:rPr>
              <a:t>感覺真好</a:t>
            </a:r>
            <a:r>
              <a:rPr b="1" lang="en-US" sz="3600" spc="-1" strike="noStrike">
                <a:solidFill>
                  <a:srgbClr val="ff0000"/>
                </a:solidFill>
                <a:latin typeface="DFKai-SB"/>
                <a:ea typeface="DFKai-SB"/>
              </a:rPr>
              <a:t>......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2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6030-907C-43CD-B12F-EC05C0AB7332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感觉真好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6:01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0:24Z</dcterms:modified>
  <cp:revision>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