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350-4CF8-4AA3-B711-BD8BBE24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9CB-A7C7-4E37-BDED-0FFD45D8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BFC-6DBB-4C00-AA69-D3FB67DB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3FA-33E0-4518-9EA0-1D20CD95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E9A-BA2E-4403-8383-40E2CC70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2CD-BAC5-436B-BD15-F256D0C4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551-7155-4E12-B51B-EC565941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005-CE3B-4458-B708-61EF8FFB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943-7927-4A79-B0A0-83DCFED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51B-3555-45CA-96A7-AAAE241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940-0574-4605-B0F5-85FF6779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890-74C1-4C56-A08A-5BF9AB57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15F7-1406-4C8B-86D7-0AC61140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荷花1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33160" y="141300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荷花》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2195640" y="11826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exerc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1413000"/>
            <a:ext cx="65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荷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花  清香 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莲蓬挨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埃挤挤  碧绿 破裂 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仿佛 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 舞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蹈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翩</a:t>
            </a:r>
            <a:r>
              <a:rPr b="1" lang="zh-CN" sz="6000" spc="-1" strike="noStrike">
                <a:solidFill>
                  <a:srgbClr val="ff99ff"/>
                </a:solidFill>
                <a:latin typeface="黑体"/>
                <a:ea typeface="黑体"/>
              </a:rPr>
              <a:t>翩起舞 </a:t>
            </a:r>
            <a:r>
              <a:rPr b="1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蜻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荷叶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5"/>
          <p:cNvSpPr/>
          <p:nvPr/>
        </p:nvSpPr>
        <p:spPr>
          <a:xfrm>
            <a:off x="3708360" y="189000"/>
            <a:ext cx="5195880" cy="3744720"/>
          </a:xfrm>
          <a:prstGeom prst="cloudCallout">
            <a:avLst>
              <a:gd name="adj1" fmla="val -51856"/>
              <a:gd name="adj2" fmla="val 9194"/>
            </a:avLst>
          </a:prstGeom>
          <a:solidFill>
            <a:srgbClr val="ece5b2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 flipV="1" rot="10800000">
            <a:off x="4140360" y="10515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荷花已经开了不少了。荷叶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挨埃挤挤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像个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碧绿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大圆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荷花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秋日私语 钢琴曲.mp3" descr=""/>
          <p:cNvPicPr/>
          <p:nvPr/>
        </p:nvPicPr>
        <p:blipFill>
          <a:blip r:embed="rId2"/>
          <a:stretch/>
        </p:blipFill>
        <p:spPr>
          <a:xfrm>
            <a:off x="867564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 flipV="1" rot="10800000">
            <a:off x="3059280" y="836640"/>
            <a:ext cx="6084720" cy="5184720"/>
          </a:xfrm>
          <a:prstGeom prst="wedgeRoundRectCallout">
            <a:avLst>
              <a:gd name="adj1" fmla="val 42064"/>
              <a:gd name="adj2" fmla="val -5574"/>
              <a:gd name="adj3" fmla="val 16667"/>
            </a:avLst>
          </a:prstGeom>
          <a:solidFill>
            <a:srgbClr val="cccc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348000" y="1557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白荷花在这些大圆盘之间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冒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出来。有的才展开两三片花瓣儿。有的花瓣儿全展开了，露出嫩黄色的小莲蓬。有的还是花骨朵儿，看起来饱胀得马上要破裂似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924360" y="0"/>
            <a:ext cx="2376360" cy="1484280"/>
          </a:xfrm>
          <a:prstGeom prst="wedgeEllipseCallout">
            <a:avLst>
              <a:gd name="adj1" fmla="val -19740"/>
              <a:gd name="adj2" fmla="val 59944"/>
            </a:avLst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211640" y="333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冒”用得真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5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荷花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秋日私语 钢琴曲.mp3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826920" y="112536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这么多的白荷花，一朵有一多的姿势。看看这一朵，很美；看看那一朵，也很美。如果把眼前的一池荷花看作一大幅活的画，那画家的本领可真了不起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1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秋日私语 钢琴曲.mp3" descr=""/>
          <p:cNvPicPr/>
          <p:nvPr/>
        </p:nvPicPr>
        <p:blipFill>
          <a:blip r:embed="rId1"/>
          <a:stretch/>
        </p:blipFill>
        <p:spPr>
          <a:xfrm>
            <a:off x="867564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荷花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秋日私语 钢琴曲.mp3" descr=""/>
          <p:cNvPicPr/>
          <p:nvPr/>
        </p:nvPicPr>
        <p:blipFill>
          <a:blip r:embed="rId3"/>
          <a:stretch/>
        </p:blipFill>
        <p:spPr>
          <a:xfrm>
            <a:off x="939636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0" y="1413000"/>
            <a:ext cx="7596360" cy="2952720"/>
          </a:xfrm>
          <a:prstGeom prst="ellipse">
            <a:avLst/>
          </a:prstGeom>
          <a:solidFill>
            <a:srgbClr val="bbe0e3">
              <a:alpha val="19000"/>
            </a:srgbClr>
          </a:solidFill>
          <a:ln w="9360">
            <a:solidFill>
              <a:srgbClr val="e5e2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826920" y="184464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过了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一会儿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，我才记起我不是荷花，我是在看荷花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 rot="10800000">
            <a:off x="2123640" y="4076280"/>
            <a:ext cx="5761080" cy="863640"/>
          </a:xfrm>
          <a:prstGeom prst="wedgeRoundRectCallout">
            <a:avLst>
              <a:gd name="adj1" fmla="val 6458"/>
              <a:gd name="adj2" fmla="val 148157"/>
              <a:gd name="adj3" fmla="val 16667"/>
            </a:avLst>
          </a:prstGeom>
          <a:gradFill rotWithShape="0">
            <a:gsLst>
              <a:gs pos="0">
                <a:srgbClr val="ffff66">
                  <a:alpha val="19215"/>
                </a:srgbClr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e5e2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050920" y="422100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我”怎么会忘记自己是在看荷花呢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BE6-7D9C-492E-B5FC-E17C8219D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边框15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8" descr="边框15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小练笔"/>
          <p:cNvPicPr/>
          <p:nvPr/>
        </p:nvPicPr>
        <p:blipFill>
          <a:blip r:embed="rId3"/>
          <a:stretch/>
        </p:blipFill>
        <p:spPr>
          <a:xfrm>
            <a:off x="1403280" y="11592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综合性学习提示"/>
          <p:cNvPicPr/>
          <p:nvPr/>
        </p:nvPicPr>
        <p:blipFill>
          <a:blip r:embed="rId4"/>
          <a:stretch/>
        </p:blipFill>
        <p:spPr>
          <a:xfrm>
            <a:off x="1187280" y="1413000"/>
            <a:ext cx="2305080" cy="647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1"/>
          <p:cNvSpPr/>
          <p:nvPr/>
        </p:nvSpPr>
        <p:spPr>
          <a:xfrm>
            <a:off x="1476360" y="1484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  练  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755640" y="2565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作者把荷花写得很美啊！我也写写自己喜欢的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6:05:08Z</dcterms:created>
  <dc:creator/>
  <dc:description/>
  <cp:keywords>幻灯片之家 http:/www.eeppt.com</cp:keywords>
  <dc:language>en-US</dc:language>
  <cp:lastModifiedBy/>
  <dcterms:modified xsi:type="dcterms:W3CDTF">2015-07-04T03:01:46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