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F78-7F61-4D23-84D5-5A6693B0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3E8-80E1-40FB-817B-651A73F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288-E38A-4C1A-8071-C8113336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D7D-162D-4101-9A46-D03FC84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498-4664-4FD7-B988-29F5DE2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CB4-213A-4C97-B89C-06A8B94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E10-1140-45AE-8669-D344ED5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141-D61F-4950-97EF-BDD9DD8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18C-0C94-46E7-812C-7AE8AAC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D38-15B7-47AA-8698-8B4F9E0B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D54-1D50-4E51-B706-9A6D3AA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D83-3F0C-4AF3-A041-7BACA93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69B4-1A94-4088-992D-F560342F5B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55CC-8894-49AA-8C41-ED1A9A717C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video" Target="file:///tmp/home/.config/libreoffice/4/user/gallery/media1.wma" TargetMode="External"/><Relationship Id="rId4" Type="http://schemas.microsoft.com/office/2007/relationships/media" Target="file:///tmp/home/.config/libreoffice/4/user/gallery/media1.wma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-36360" y="22096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179280" y="2425680"/>
            <a:ext cx="8785440" cy="863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4369320" y="193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92040" y="3794040"/>
            <a:ext cx="1430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恭贺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31280" y="2498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男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4968360" y="2498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女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5289480" y="393876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新婚快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8520" y="1936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婚礼主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4.44444E-006 L -0.37014 -4.44444E-006 E">
                                      <p:cBhvr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任意多边形 1"/>
          <p:cNvSpPr/>
          <p:nvPr/>
        </p:nvSpPr>
        <p:spPr>
          <a:xfrm>
            <a:off x="-755640" y="2173320"/>
            <a:ext cx="10656720" cy="13683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25"/>
          <p:cNvSpPr/>
          <p:nvPr/>
        </p:nvSpPr>
        <p:spPr>
          <a:xfrm>
            <a:off x="-755640" y="2317680"/>
            <a:ext cx="10656720" cy="10796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26"/>
          <p:cNvSpPr/>
          <p:nvPr/>
        </p:nvSpPr>
        <p:spPr>
          <a:xfrm>
            <a:off x="-755640" y="2460600"/>
            <a:ext cx="10656720" cy="7923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27"/>
          <p:cNvSpPr/>
          <p:nvPr/>
        </p:nvSpPr>
        <p:spPr>
          <a:xfrm>
            <a:off x="-755640" y="2028960"/>
            <a:ext cx="10656720" cy="165708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 flipH="1">
            <a:off x="7209000" y="0"/>
            <a:ext cx="19476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0" y="0"/>
            <a:ext cx="183528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988600">
            <a:off x="1168200" y="47592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61" name="Picture 2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697200">
            <a:off x="6230520" y="283176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62" name="矩形 29"/>
          <p:cNvSpPr/>
          <p:nvPr/>
        </p:nvSpPr>
        <p:spPr>
          <a:xfrm>
            <a:off x="1562400" y="4032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英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9"/>
          <p:cNvSpPr/>
          <p:nvPr/>
        </p:nvSpPr>
        <p:spPr>
          <a:xfrm>
            <a:off x="6745680" y="747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潇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心形 41"/>
          <p:cNvSpPr/>
          <p:nvPr/>
        </p:nvSpPr>
        <p:spPr>
          <a:xfrm rot="21018600">
            <a:off x="4247640" y="256860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2"/>
          <p:cNvSpPr/>
          <p:nvPr/>
        </p:nvSpPr>
        <p:spPr>
          <a:xfrm>
            <a:off x="5178600" y="2689200"/>
            <a:ext cx="1130040" cy="113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3"/>
          <p:cNvSpPr/>
          <p:nvPr/>
        </p:nvSpPr>
        <p:spPr>
          <a:xfrm>
            <a:off x="4940280" y="122076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4"/>
          <p:cNvSpPr/>
          <p:nvPr/>
        </p:nvSpPr>
        <p:spPr>
          <a:xfrm>
            <a:off x="3524400" y="369396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5"/>
          <p:cNvSpPr/>
          <p:nvPr/>
        </p:nvSpPr>
        <p:spPr>
          <a:xfrm>
            <a:off x="3419640" y="517680"/>
            <a:ext cx="115236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38E-5D5B-43AC-B341-95BE32D2E553}" type="slidenum">
              <a:t>10</a:t>
            </a:fld>
          </a:p>
        </p:txBody>
      </p:sp>
    </p:spTree>
  </p:cSld>
  <p:transition spd="med" advTm="0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mph" presetID="7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643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70c0"/>
                                      </p:to>
                                    </p:animClr>
                                    <p:set>
                                      <p:cBhvr>
                                        <p:cTn id="644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7" presetSubtype="2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646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647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mph" presetID="7" presetSubtype="2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649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650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652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53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mph" presetID="7" presetSubtype="2">
                                  <p:stCondLst>
                                    <p:cond delay="4750"/>
                                  </p:stCondLst>
                                  <p:childTnLst>
                                    <p:animClr clrSpc="rgb">
                                      <p:cBhvr>
                                        <p:cTn id="667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8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7" presetSubtype="2">
                                  <p:stCondLst>
                                    <p:cond delay="5050"/>
                                  </p:stCondLst>
                                  <p:childTnLst>
                                    <p:animClr clrSpc="rgb">
                                      <p:cBhvr>
                                        <p:cTn id="670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71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mph" presetID="7" presetSubtype="2">
                                  <p:stCondLst>
                                    <p:cond delay="5350"/>
                                  </p:stCondLst>
                                  <p:childTnLst>
                                    <p:animClr clrSpc="rgb">
                                      <p:cBhvr>
                                        <p:cTn id="673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74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mph" presetID="7" presetSubtype="2">
                                  <p:stCondLst>
                                    <p:cond delay="5650"/>
                                  </p:stCondLst>
                                  <p:childTnLst>
                                    <p:animClr clrSpc="rgb">
                                      <p:cBhvr>
                                        <p:cTn id="676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7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mph" presetID="26" repeatCount="8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50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任意多边形 2"/>
          <p:cNvSpPr/>
          <p:nvPr/>
        </p:nvSpPr>
        <p:spPr>
          <a:xfrm flipV="1">
            <a:off x="-684000" y="1919880"/>
            <a:ext cx="10514160" cy="187308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3"/>
          <p:cNvSpPr/>
          <p:nvPr/>
        </p:nvSpPr>
        <p:spPr>
          <a:xfrm flipV="1">
            <a:off x="-684000" y="2116800"/>
            <a:ext cx="10514160" cy="1479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4"/>
          <p:cNvSpPr/>
          <p:nvPr/>
        </p:nvSpPr>
        <p:spPr>
          <a:xfrm flipV="1">
            <a:off x="-684000" y="2315880"/>
            <a:ext cx="10514160" cy="108432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5"/>
          <p:cNvSpPr/>
          <p:nvPr/>
        </p:nvSpPr>
        <p:spPr>
          <a:xfrm flipV="1">
            <a:off x="-684000" y="2500920"/>
            <a:ext cx="10514160" cy="711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6"/>
          <p:cNvSpPr/>
          <p:nvPr/>
        </p:nvSpPr>
        <p:spPr>
          <a:xfrm flipH="1">
            <a:off x="7209000" y="0"/>
            <a:ext cx="19476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0" y="0"/>
            <a:ext cx="183528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868200">
            <a:off x="6281280" y="47628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76" name="Picture 2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20734800">
            <a:off x="1230480" y="285588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77" name="矩形 8"/>
          <p:cNvSpPr/>
          <p:nvPr/>
        </p:nvSpPr>
        <p:spPr>
          <a:xfrm>
            <a:off x="6675840" y="4124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美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9"/>
          <p:cNvSpPr/>
          <p:nvPr/>
        </p:nvSpPr>
        <p:spPr>
          <a:xfrm>
            <a:off x="1624320" y="74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温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心形 10"/>
          <p:cNvSpPr/>
          <p:nvPr/>
        </p:nvSpPr>
        <p:spPr>
          <a:xfrm rot="619800">
            <a:off x="4247640" y="256860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1"/>
          <p:cNvSpPr/>
          <p:nvPr/>
        </p:nvSpPr>
        <p:spPr>
          <a:xfrm>
            <a:off x="5178600" y="2689200"/>
            <a:ext cx="1130040" cy="113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2"/>
          <p:cNvSpPr/>
          <p:nvPr/>
        </p:nvSpPr>
        <p:spPr>
          <a:xfrm>
            <a:off x="4940280" y="122076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3"/>
          <p:cNvSpPr/>
          <p:nvPr/>
        </p:nvSpPr>
        <p:spPr>
          <a:xfrm>
            <a:off x="3524400" y="369396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4"/>
          <p:cNvSpPr/>
          <p:nvPr/>
        </p:nvSpPr>
        <p:spPr>
          <a:xfrm>
            <a:off x="3419640" y="517680"/>
            <a:ext cx="115236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-108000" y="-93600"/>
            <a:ext cx="9360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C3D-CE91-49D7-868B-E85E4DDF50CD}" type="slidenum">
              <a:t>11</a:t>
            </a:fld>
          </a:p>
        </p:txBody>
      </p:sp>
    </p:spTree>
  </p:cSld>
  <p:transition spd="med" advTm="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7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7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748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94429"/>
                                      </p:to>
                                    </p:animClr>
                                    <p:set>
                                      <p:cBhvr>
                                        <p:cTn id="749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mph" presetID="7" presetSubtype="2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751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set>
                                      <p:cBhvr>
                                        <p:cTn id="752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7" presetSubtype="2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754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755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757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758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7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772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73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mph" presetID="7" presetSubtype="2">
                                  <p:stCondLst>
                                    <p:cond delay="5100"/>
                                  </p:stCondLst>
                                  <p:childTnLst>
                                    <p:animClr clrSpc="rgb">
                                      <p:cBhvr>
                                        <p:cTn id="775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6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7" presetSubtype="2">
                                  <p:stCondLst>
                                    <p:cond delay="5400"/>
                                  </p:stCondLst>
                                  <p:childTnLst>
                                    <p:animClr clrSpc="rgb">
                                      <p:cBhvr>
                                        <p:cTn id="778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79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mph" presetID="7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781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2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1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26" repeatCount="7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D:\hust work bag\个人\PPT演义\最近的作品\刘老师的婚礼PPT\图片\箭头8.png"/>
          <p:cNvPicPr/>
          <p:nvPr/>
        </p:nvPicPr>
        <p:blipFill>
          <a:blip r:embed="rId1"/>
          <a:stretch/>
        </p:blipFill>
        <p:spPr>
          <a:xfrm rot="368400">
            <a:off x="4174920" y="260280"/>
            <a:ext cx="1076040" cy="2584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D:\hust work bag\个人\PPT演义\最近的作品\刘老师的婚礼PPT\图片\箭头9.png"/>
          <p:cNvPicPr/>
          <p:nvPr/>
        </p:nvPicPr>
        <p:blipFill>
          <a:blip r:embed="rId2"/>
          <a:stretch/>
        </p:blipFill>
        <p:spPr>
          <a:xfrm rot="9717600">
            <a:off x="4509720" y="2866320"/>
            <a:ext cx="539640" cy="1298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hust work bag\个人\PPT演义\最近的作品\刘老师的婚礼PPT\图片\箭头1.png"/>
          <p:cNvPicPr/>
          <p:nvPr/>
        </p:nvPicPr>
        <p:blipFill>
          <a:blip r:embed="rId3"/>
          <a:stretch/>
        </p:blipFill>
        <p:spPr>
          <a:xfrm rot="18111600">
            <a:off x="3301920" y="1304640"/>
            <a:ext cx="675000" cy="2004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D:\hust work bag\个人\PPT演义\最近的作品\刘老师的婚礼PPT\图片\箭头2.png"/>
          <p:cNvPicPr/>
          <p:nvPr/>
        </p:nvPicPr>
        <p:blipFill>
          <a:blip r:embed="rId4"/>
          <a:stretch/>
        </p:blipFill>
        <p:spPr>
          <a:xfrm rot="5026200">
            <a:off x="5105880" y="1896120"/>
            <a:ext cx="714240" cy="1716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hust work bag\个人\PPT演义\最近的作品\刘老师的婚礼PPT\图片\箭头3.png"/>
          <p:cNvPicPr/>
          <p:nvPr/>
        </p:nvPicPr>
        <p:blipFill>
          <a:blip r:embed="rId5"/>
          <a:stretch/>
        </p:blipFill>
        <p:spPr>
          <a:xfrm rot="12898200">
            <a:off x="3765240" y="2676240"/>
            <a:ext cx="698400" cy="1679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D:\hust work bag\个人\PPT演义\最近的作品\刘老师的婚礼PPT\图片\箭头4.png"/>
          <p:cNvPicPr/>
          <p:nvPr/>
        </p:nvPicPr>
        <p:blipFill>
          <a:blip r:embed="rId6"/>
          <a:stretch/>
        </p:blipFill>
        <p:spPr>
          <a:xfrm rot="15975000">
            <a:off x="3364200" y="2091600"/>
            <a:ext cx="696960" cy="167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hust work bag\个人\PPT演义\最近的作品\刘老师的婚礼PPT\图片\箭头5.png"/>
          <p:cNvPicPr/>
          <p:nvPr/>
        </p:nvPicPr>
        <p:blipFill>
          <a:blip r:embed="rId7"/>
          <a:stretch/>
        </p:blipFill>
        <p:spPr>
          <a:xfrm rot="7506000">
            <a:off x="5007240" y="2353320"/>
            <a:ext cx="938160" cy="225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hust work bag\个人\PPT演义\最近的作品\刘老师的婚礼PPT\图片\箭头6.png"/>
          <p:cNvPicPr/>
          <p:nvPr/>
        </p:nvPicPr>
        <p:blipFill>
          <a:blip r:embed="rId8"/>
          <a:stretch/>
        </p:blipFill>
        <p:spPr>
          <a:xfrm rot="2568600">
            <a:off x="4863600" y="1353600"/>
            <a:ext cx="711360" cy="171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hust work bag\个人\PPT演义\最近的作品\刘老师的婚礼PPT\图片\箭头7.png"/>
          <p:cNvPicPr/>
          <p:nvPr/>
        </p:nvPicPr>
        <p:blipFill>
          <a:blip r:embed="rId9"/>
          <a:stretch/>
        </p:blipFill>
        <p:spPr>
          <a:xfrm rot="20145000">
            <a:off x="3990960" y="1504440"/>
            <a:ext cx="552600" cy="13287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/>
          <p:cNvSpPr/>
          <p:nvPr/>
        </p:nvSpPr>
        <p:spPr>
          <a:xfrm>
            <a:off x="3975120" y="2306520"/>
            <a:ext cx="1203480" cy="1071720"/>
          </a:xfrm>
          <a:custGeom>
            <a:avLst/>
            <a:gdLst>
              <a:gd name="textAreaLeft" fmla="*/ 420120 w 1203480"/>
              <a:gd name="textAreaRight" fmla="*/ 783360 w 1203480"/>
              <a:gd name="textAreaTop" fmla="*/ 374040 h 1071720"/>
              <a:gd name="textAreaBottom" fmla="*/ 6976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279" y="11679"/>
                </a:lnTo>
                <a:lnTo>
                  <a:pt x="786" y="14846"/>
                </a:lnTo>
                <a:lnTo>
                  <a:pt x="6937" y="13309"/>
                </a:lnTo>
                <a:lnTo>
                  <a:pt x="3163" y="18437"/>
                </a:lnTo>
                <a:lnTo>
                  <a:pt x="8224" y="14619"/>
                </a:lnTo>
                <a:lnTo>
                  <a:pt x="6580" y="20741"/>
                </a:lnTo>
                <a:lnTo>
                  <a:pt x="9842" y="15305"/>
                </a:lnTo>
                <a:lnTo>
                  <a:pt x="10800" y="21600"/>
                </a:lnTo>
                <a:lnTo>
                  <a:pt x="11679" y="15321"/>
                </a:lnTo>
                <a:lnTo>
                  <a:pt x="14846" y="20814"/>
                </a:lnTo>
                <a:lnTo>
                  <a:pt x="13309" y="14663"/>
                </a:lnTo>
                <a:lnTo>
                  <a:pt x="18437" y="18437"/>
                </a:lnTo>
                <a:lnTo>
                  <a:pt x="14619" y="13376"/>
                </a:lnTo>
                <a:lnTo>
                  <a:pt x="20741" y="15020"/>
                </a:lnTo>
                <a:lnTo>
                  <a:pt x="15305" y="11758"/>
                </a:lnTo>
                <a:lnTo>
                  <a:pt x="21600" y="10800"/>
                </a:lnTo>
                <a:lnTo>
                  <a:pt x="15321" y="9921"/>
                </a:lnTo>
                <a:lnTo>
                  <a:pt x="20814" y="6754"/>
                </a:lnTo>
                <a:lnTo>
                  <a:pt x="14663" y="8291"/>
                </a:lnTo>
                <a:lnTo>
                  <a:pt x="18437" y="3163"/>
                </a:lnTo>
                <a:lnTo>
                  <a:pt x="13376" y="6981"/>
                </a:lnTo>
                <a:lnTo>
                  <a:pt x="15020" y="859"/>
                </a:lnTo>
                <a:lnTo>
                  <a:pt x="11758" y="6295"/>
                </a:lnTo>
                <a:lnTo>
                  <a:pt x="10800" y="0"/>
                </a:lnTo>
                <a:lnTo>
                  <a:pt x="9921" y="6279"/>
                </a:lnTo>
                <a:lnTo>
                  <a:pt x="6754" y="786"/>
                </a:lnTo>
                <a:lnTo>
                  <a:pt x="8291" y="6937"/>
                </a:lnTo>
                <a:lnTo>
                  <a:pt x="3163" y="3163"/>
                </a:lnTo>
                <a:lnTo>
                  <a:pt x="6981" y="8224"/>
                </a:lnTo>
                <a:lnTo>
                  <a:pt x="859" y="6580"/>
                </a:lnTo>
                <a:lnTo>
                  <a:pt x="6295" y="984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728880" y="1995480"/>
            <a:ext cx="1687680" cy="1711440"/>
          </a:xfrm>
          <a:custGeom>
            <a:avLst/>
            <a:gdLst>
              <a:gd name="textAreaLeft" fmla="*/ 765000 w 1687680"/>
              <a:gd name="textAreaRight" fmla="*/ 922680 w 1687680"/>
              <a:gd name="textAreaTop" fmla="*/ 775800 h 1711440"/>
              <a:gd name="textAreaBottom" fmla="*/ 93564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789" y="9789"/>
                </a:lnTo>
                <a:lnTo>
                  <a:pt x="10800" y="0"/>
                </a:lnTo>
                <a:lnTo>
                  <a:pt x="11811" y="9789"/>
                </a:lnTo>
                <a:lnTo>
                  <a:pt x="21600" y="10800"/>
                </a:lnTo>
                <a:lnTo>
                  <a:pt x="11811" y="11811"/>
                </a:lnTo>
                <a:lnTo>
                  <a:pt x="10800" y="21600"/>
                </a:lnTo>
                <a:lnTo>
                  <a:pt x="9789" y="118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5"/>
          <p:cNvSpPr/>
          <p:nvPr/>
        </p:nvSpPr>
        <p:spPr>
          <a:xfrm>
            <a:off x="3139560" y="912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6"/>
          <p:cNvSpPr/>
          <p:nvPr/>
        </p:nvSpPr>
        <p:spPr>
          <a:xfrm>
            <a:off x="1470600" y="1333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7"/>
          <p:cNvSpPr/>
          <p:nvPr/>
        </p:nvSpPr>
        <p:spPr>
          <a:xfrm>
            <a:off x="1691640" y="2627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喜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8"/>
          <p:cNvSpPr/>
          <p:nvPr/>
        </p:nvSpPr>
        <p:spPr>
          <a:xfrm>
            <a:off x="2905560" y="4216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舒体简体"/>
                <a:ea typeface="方正舒体简体"/>
              </a:rPr>
              <a:t>激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9"/>
          <p:cNvSpPr/>
          <p:nvPr/>
        </p:nvSpPr>
        <p:spPr>
          <a:xfrm>
            <a:off x="4551840" y="4176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奋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0"/>
          <p:cNvSpPr/>
          <p:nvPr/>
        </p:nvSpPr>
        <p:spPr>
          <a:xfrm>
            <a:off x="6755760" y="3724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幸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1"/>
          <p:cNvSpPr/>
          <p:nvPr/>
        </p:nvSpPr>
        <p:spPr>
          <a:xfrm>
            <a:off x="6672600" y="2185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祈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2"/>
          <p:cNvSpPr/>
          <p:nvPr/>
        </p:nvSpPr>
        <p:spPr>
          <a:xfrm>
            <a:off x="6141600" y="105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健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057-900C-47C4-B405-6651E9B16C09}" type="slidenum">
              <a:t>12</a:t>
            </a:fld>
          </a:p>
        </p:txBody>
      </p:sp>
    </p:spTree>
  </p:cSld>
  <p:transition spd="med" advTm="0"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0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10799880">
                                      <p:cBhvr>
                                        <p:cTn id="857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59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mph" presetID="26" repeatCount="1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1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375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26" repeatCount="1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4" dur="7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5" dur="375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1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1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1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1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2" presetSubtype="4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8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1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4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10">
                                  <p:stCondLst>
                                    <p:cond delay="7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0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3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6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9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33333E-006 -1.11111E-006 L -0.55938 -0.55889 E">
                                      <p:cBhvr>
                                        <p:cTn id="952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61111E-006 0 L -0.58334 0.03778 E">
                                      <p:cBhvr>
                                        <p:cTn id="954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05556E-006 -2.22222E-006 L -0.13975 -0.52222 E">
                                      <p:cBhvr>
                                        <p:cTn id="956" dur="4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72222E-006 1.11111E-006 L 0.57066 0.62194 E">
                                      <p:cBhvr>
                                        <p:cTn id="958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5.55556E-007 -4.44444E-006 L 0.57187 -0.09527 E">
                                      <p:cBhvr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 2.22222E-006 L -0.28073 0.60278 E">
                                      <p:cBhvr>
                                        <p:cTn id="962" dur="4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05556E-006 2.22222E-006 L 0.1033 0.5525 E">
                                      <p:cBhvr>
                                        <p:cTn id="964" dur="4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33333E-006 1.11111E-006 L 0.32292 -0.57945 E">
                                      <p:cBhvr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1.38889E-006 3.33333E-006 L 0.03976 -0.55278 E">
                                      <p:cBhvr>
                                        <p:cTn id="968" dur="4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0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3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6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9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2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5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1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"/>
          <p:cNvSpPr/>
          <p:nvPr/>
        </p:nvSpPr>
        <p:spPr>
          <a:xfrm>
            <a:off x="-108000" y="-93600"/>
            <a:ext cx="9360000" cy="5904000"/>
          </a:xfrm>
          <a:prstGeom prst="rect">
            <a:avLst/>
          </a:prstGeom>
          <a:solidFill>
            <a:srgbClr val="db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4784400" y="2063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缘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6505920" y="179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铭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2688120" y="3002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思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6366240" y="4286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新舒体简体"/>
                <a:ea typeface="方正新舒体简体"/>
              </a:rPr>
              <a:t>陪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9"/>
          <p:cNvSpPr/>
          <p:nvPr/>
        </p:nvSpPr>
        <p:spPr>
          <a:xfrm>
            <a:off x="4813920" y="803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相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6799680" y="480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恒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1"/>
          <p:cNvSpPr/>
          <p:nvPr/>
        </p:nvSpPr>
        <p:spPr>
          <a:xfrm>
            <a:off x="1752120" y="4313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家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1257840" y="19861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1700640" y="264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流行体简体"/>
                <a:ea typeface="方正流行体简体"/>
              </a:rPr>
              <a:t>箴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5408640" y="3193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2819160" y="152892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仿宋 Std R"/>
                <a:ea typeface="Adobe 仿宋 Std R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3395520" y="4010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U-HT"/>
                <a:ea typeface="EU-HT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0FE-5650-4C97-837D-78FEB86E27A6}" type="slidenum">
              <a:t>13</a:t>
            </a:fld>
          </a:p>
        </p:txBody>
      </p:sp>
    </p:spTree>
  </p:cSld>
  <p:transition spd="med" advTm="0">
    <p:fade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3.61111E-006 -2.22222E-006 L -0.08716 0.00084 E">
                                      <p:cBhvr>
                                        <p:cTn id="1005" dur="8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3.33333E-006 1.11111E-006 L 0.08646 1.11111E-006 E">
                                      <p:cBhvr>
                                        <p:cTn id="1011" dur="43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7778E-006 4.44444E-006 L 0.06215 4.44444E-006 E">
                                      <p:cBhvr>
                                        <p:cTn id="1017" dur="76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path" presetID="42">
                                  <p:stCondLst>
                                    <p:cond delay="1050"/>
                                  </p:stCondLst>
                                  <p:childTnLst>
                                    <p:animMotion origin="layout" path="M 2.77778E-006 0 L 0.07882 0 E">
                                      <p:cBhvr>
                                        <p:cTn id="1023" dur="495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path" presetID="42">
                                  <p:stCondLst>
                                    <p:cond delay="1350"/>
                                  </p:stCondLst>
                                  <p:childTnLst>
                                    <p:animMotion origin="layout" path="M -3.33333E-006 2.22222E-006 L -0.07083 2.22222E-006 E">
                                      <p:cBhvr>
                                        <p:cTn id="1029" dur="615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path" presetID="42">
                                  <p:stCondLst>
                                    <p:cond delay="1950"/>
                                  </p:stCondLst>
                                  <p:childTnLst>
                                    <p:animMotion origin="layout" path="M 4.44444E-006 -2.22222E-006 L 0.07864 -2.22222E-006 E">
                                      <p:cBhvr>
                                        <p:cTn id="1035" dur="495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05556E-006 -2.22222E-006 L -0.08003 0.00028 E">
                                      <p:cBhvr>
                                        <p:cTn id="1041" dur="555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path" presetID="42">
                                  <p:stCondLst>
                                    <p:cond delay="2850"/>
                                  </p:stCondLst>
                                  <p:childTnLst>
                                    <p:animMotion origin="layout" path="M 5.55556E-007 3.33333E-006 L -0.07101 3.33333E-006 E">
                                      <p:cBhvr>
                                        <p:cTn id="1047" dur="13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path" presetID="42">
                                  <p:stCondLst>
                                    <p:cond delay="3150"/>
                                  </p:stCondLst>
                                  <p:childTnLst>
                                    <p:animMotion origin="layout" path="M -4.16667E-006 -4.44444E-006 L -0.08663 -4.44444E-006 E">
                                      <p:cBhvr>
                                        <p:cTn id="1053" dur="225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ntr" presetID="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path" presetID="42">
                                  <p:stCondLst>
                                    <p:cond delay="3450"/>
                                  </p:stCondLst>
                                  <p:childTnLst>
                                    <p:animMotion origin="layout" path="M -3.33333E-006 -1.11111E-006 L 0.08646 -1.11111E-006 E">
                                      <p:cBhvr>
                                        <p:cTn id="1059" dur="495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1.66667E-006 -1.11111E-006 L 0.07882 -1.11111E-006 E">
                                      <p:cBhvr>
                                        <p:cTn id="1065" dur="46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2" presetSubtype="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42">
                                  <p:stCondLst>
                                    <p:cond delay="4050"/>
                                  </p:stCondLst>
                                  <p:childTnLst>
                                    <p:animMotion origin="layout" path="M -0.00052 0.00305 L -0.05555 0.00305 E">
                                      <p:cBhvr>
                                        <p:cTn id="1071" dur="435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2" presetSubtype="8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2" presetSubtype="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1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xit" presetID="2" presetSubtype="8">
                                  <p:stCondLst>
                                    <p:cond delay="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xit" presetID="2" presetSubtype="2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xit" presetID="2" presetSubtype="2">
                                  <p:stCondLst>
                                    <p:cond delay="6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2" presetSubtype="8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1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2" presetSubtype="8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xit" presetID="2" presetSubtype="8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2" presetSubtype="8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1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1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11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mph" presetID="19">
                                  <p:stCondLst>
                                    <p:cond delay="380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mph" presetID="19">
                                  <p:stCondLst>
                                    <p:cond delay="5900"/>
                                  </p:stCondLst>
                                  <p:childTnLst>
                                    <p:animClr clrSpc="rgb">
                                      <p:cBhvr>
                                        <p:cTn id="1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mph" presetID="19">
                                  <p:stCondLst>
                                    <p:cond delay="8000"/>
                                  </p:stCondLst>
                                  <p:childTnLst>
                                    <p:animClr clrSpc="rgb">
                                      <p:cBhvr>
                                        <p:cTn id="1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6666"/>
                                      </p:to>
                                    </p:animClr>
                                    <p:animClr clrSpc="rgb">
                                      <p:cBhvr>
                                        <p:cTn id="1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6666"/>
                                      </p:to>
                                    </p:animClr>
                                    <p:set>
                                      <p:cBhvr>
                                        <p:cTn id="11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2571840" y="129852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18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>
            <a:off x="2724120" y="145080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19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>
            <a:off x="2876400" y="1603440"/>
            <a:ext cx="3530880" cy="264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20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>
            <a:off x="3029040" y="175572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21" name="椭圆 20"/>
          <p:cNvSpPr/>
          <p:nvPr/>
        </p:nvSpPr>
        <p:spPr>
          <a:xfrm>
            <a:off x="1082520" y="362916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1"/>
          <p:cNvSpPr/>
          <p:nvPr/>
        </p:nvSpPr>
        <p:spPr>
          <a:xfrm>
            <a:off x="5143680" y="444600"/>
            <a:ext cx="10461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2"/>
          <p:cNvSpPr/>
          <p:nvPr/>
        </p:nvSpPr>
        <p:spPr>
          <a:xfrm>
            <a:off x="6732720" y="440064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23"/>
          <p:cNvSpPr/>
          <p:nvPr/>
        </p:nvSpPr>
        <p:spPr>
          <a:xfrm>
            <a:off x="6929280" y="175572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1260360" y="70812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3289320" y="222732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4096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B9E-E881-458A-B6DF-4B50393CD6B6}" type="slidenum">
              <a:t>14</a:t>
            </a:fld>
          </a:p>
        </p:txBody>
      </p:sp>
    </p:spTree>
  </p:cSld>
  <p:transition spd="med" advTm="0">
    <p:fade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44444E-006 -2.10877E-006 L -0.18698 -0.1096 E">
                                      <p:cBhvr>
                                        <p:cTn id="1153" dur="25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2.22222E-006 8.2131E-007 L -0.19566 0.16565 E">
                                      <p:cBhvr>
                                        <p:cTn id="1155" dur="25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1.11111E-006 3.75139E-006 L 0.22864 -0.16288 E">
                                      <p:cBhvr>
                                        <p:cTn id="1157" dur="25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44444E-006 -3.31853E-006 L 0.21197 0.09989 E">
                                      <p:cBhvr>
                                        <p:cTn id="1159" dur="2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899880">
                                      <p:cBhvr>
                                        <p:cTn id="1161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900000">
                                      <p:cBhvr>
                                        <p:cTn id="1163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900000">
                                      <p:cBhvr>
                                        <p:cTn id="1165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899880">
                                      <p:cBhvr>
                                        <p:cTn id="1167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xit" presetID="2" presetSubtype="9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2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2" presetSubtype="12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xit" presetID="2" presetSubtype="3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2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xit" presetID="2" presetSubtype="6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2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7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7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2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2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5"/>
          <p:cNvSpPr/>
          <p:nvPr/>
        </p:nvSpPr>
        <p:spPr>
          <a:xfrm>
            <a:off x="3666960" y="1128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遇到挫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4860720" y="1758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经历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54480" y="2406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前路忐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4315680" y="39607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也不会停下前进的脚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3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4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5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36" name="椭圆 13"/>
          <p:cNvSpPr/>
          <p:nvPr/>
        </p:nvSpPr>
        <p:spPr>
          <a:xfrm>
            <a:off x="1835280" y="277164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4"/>
          <p:cNvSpPr/>
          <p:nvPr/>
        </p:nvSpPr>
        <p:spPr>
          <a:xfrm>
            <a:off x="3859200" y="8244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5"/>
          <p:cNvSpPr/>
          <p:nvPr/>
        </p:nvSpPr>
        <p:spPr>
          <a:xfrm>
            <a:off x="5891040" y="1116000"/>
            <a:ext cx="10479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6"/>
          <p:cNvSpPr/>
          <p:nvPr/>
        </p:nvSpPr>
        <p:spPr>
          <a:xfrm>
            <a:off x="6797520" y="4206960"/>
            <a:ext cx="10479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0"/>
          <p:cNvSpPr/>
          <p:nvPr/>
        </p:nvSpPr>
        <p:spPr>
          <a:xfrm>
            <a:off x="395280" y="42069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1"/>
          <p:cNvSpPr/>
          <p:nvPr/>
        </p:nvSpPr>
        <p:spPr>
          <a:xfrm>
            <a:off x="682560" y="97308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2"/>
          <p:cNvSpPr/>
          <p:nvPr/>
        </p:nvSpPr>
        <p:spPr>
          <a:xfrm>
            <a:off x="3349800" y="202104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3"/>
          <p:cNvSpPr/>
          <p:nvPr/>
        </p:nvSpPr>
        <p:spPr>
          <a:xfrm>
            <a:off x="4397400" y="306720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4"/>
          <p:cNvSpPr/>
          <p:nvPr/>
        </p:nvSpPr>
        <p:spPr>
          <a:xfrm>
            <a:off x="3780000" y="451332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25"/>
          <p:cNvSpPr/>
          <p:nvPr/>
        </p:nvSpPr>
        <p:spPr>
          <a:xfrm>
            <a:off x="7454880" y="26463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26"/>
          <p:cNvSpPr/>
          <p:nvPr/>
        </p:nvSpPr>
        <p:spPr>
          <a:xfrm>
            <a:off x="7632720" y="34308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7"/>
          <p:cNvSpPr/>
          <p:nvPr/>
        </p:nvSpPr>
        <p:spPr>
          <a:xfrm>
            <a:off x="1450800" y="268920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8"/>
          <p:cNvSpPr/>
          <p:nvPr/>
        </p:nvSpPr>
        <p:spPr>
          <a:xfrm>
            <a:off x="3473280" y="0"/>
            <a:ext cx="10479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9"/>
          <p:cNvSpPr/>
          <p:nvPr/>
        </p:nvSpPr>
        <p:spPr>
          <a:xfrm>
            <a:off x="5505480" y="103356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0"/>
          <p:cNvSpPr/>
          <p:nvPr/>
        </p:nvSpPr>
        <p:spPr>
          <a:xfrm>
            <a:off x="6411960" y="41241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31"/>
          <p:cNvSpPr/>
          <p:nvPr/>
        </p:nvSpPr>
        <p:spPr>
          <a:xfrm>
            <a:off x="9360" y="4124160"/>
            <a:ext cx="10479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2"/>
          <p:cNvSpPr/>
          <p:nvPr/>
        </p:nvSpPr>
        <p:spPr>
          <a:xfrm>
            <a:off x="298440" y="89064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33"/>
          <p:cNvSpPr/>
          <p:nvPr/>
        </p:nvSpPr>
        <p:spPr>
          <a:xfrm>
            <a:off x="2965320" y="1938240"/>
            <a:ext cx="10461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4"/>
          <p:cNvSpPr/>
          <p:nvPr/>
        </p:nvSpPr>
        <p:spPr>
          <a:xfrm>
            <a:off x="4011480" y="298440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35"/>
          <p:cNvSpPr/>
          <p:nvPr/>
        </p:nvSpPr>
        <p:spPr>
          <a:xfrm>
            <a:off x="3394080" y="443232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6"/>
          <p:cNvSpPr/>
          <p:nvPr/>
        </p:nvSpPr>
        <p:spPr>
          <a:xfrm>
            <a:off x="7068960" y="2563920"/>
            <a:ext cx="104652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37"/>
          <p:cNvSpPr/>
          <p:nvPr/>
        </p:nvSpPr>
        <p:spPr>
          <a:xfrm>
            <a:off x="7246800" y="260280"/>
            <a:ext cx="10461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4BA-371B-430A-BA8F-0DE17D694E80}" type="slidenum">
              <a:t>15</a:t>
            </a:fld>
          </a:p>
        </p:txBody>
      </p:sp>
    </p:spTree>
  </p:cSld>
  <p:transition spd="med" advTm="0">
    <p:fade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23" dur="6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33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43" dur="3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53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xit" presetID="2" presetSubtype="8">
                                  <p:stCondLst>
                                    <p:cond delay="9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5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2" presetSubtype="2">
                                  <p:stCondLst>
                                    <p:cond delay="875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63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xit" presetID="2" presetSubtype="8">
                                  <p:stCondLst>
                                    <p:cond delay="1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2" presetSubtype="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path" presetID="42">
                                  <p:stCondLst>
                                    <p:cond delay="1125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73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xit" presetID="2" presetSubtype="8">
                                  <p:stCondLst>
                                    <p:cond delay="14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2" presetSubtype="2">
                                  <p:stCondLst>
                                    <p:cond delay="1325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83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xit" presetID="2" presetSubtype="8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5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2" presetSubtype="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16667E-006 -4.23973E-006 L -0.1809 0.00444 E">
                                      <p:cBhvr>
                                        <p:cTn id="1293" dur="1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exit" presetID="2" presetSubtype="8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1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6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1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1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6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6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xit" presetID="10">
                                  <p:stCondLst>
                                    <p:cond delay="1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6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1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6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6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6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822960" y="696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8"/>
          <p:cNvSpPr/>
          <p:nvPr/>
        </p:nvSpPr>
        <p:spPr>
          <a:xfrm>
            <a:off x="2163600" y="1501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男方</a:t>
            </a:r>
            <a:r>
              <a:rPr b="0" lang="en-US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&amp;</a:t>
            </a: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女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9"/>
          <p:cNvSpPr/>
          <p:nvPr/>
        </p:nvSpPr>
        <p:spPr>
          <a:xfrm>
            <a:off x="3757680" y="2306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新婚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0"/>
          <p:cNvSpPr/>
          <p:nvPr/>
        </p:nvSpPr>
        <p:spPr>
          <a:xfrm>
            <a:off x="5188320" y="3111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百年好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97A-1133-4038-A468-E58CE156EC08}" type="slidenum">
              <a:t>16</a:t>
            </a:fld>
          </a:p>
        </p:txBody>
      </p:sp>
    </p:spTree>
  </p:cSld>
  <p:transition spd="med" advTm="15000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6EB-23D4-4965-9B48-896AE67870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1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2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7"/>
          <p:cNvSpPr/>
          <p:nvPr/>
        </p:nvSpPr>
        <p:spPr>
          <a:xfrm>
            <a:off x="6075360" y="2441520"/>
            <a:ext cx="1119240" cy="11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2"/>
          <p:cNvSpPr/>
          <p:nvPr/>
        </p:nvSpPr>
        <p:spPr>
          <a:xfrm>
            <a:off x="2843280" y="4368960"/>
            <a:ext cx="94752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3"/>
          <p:cNvSpPr/>
          <p:nvPr/>
        </p:nvSpPr>
        <p:spPr>
          <a:xfrm>
            <a:off x="6635880" y="4299120"/>
            <a:ext cx="863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354560" y="6242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7A0-847E-4AEC-9C8A-39CC35A4F686}" type="slidenum">
              <a:t>2</a:t>
            </a:fld>
          </a:p>
        </p:txBody>
      </p:sp>
    </p:spTree>
  </p:cSld>
  <p:transition spd="med" advTm="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3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6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6300720" y="3552840"/>
            <a:ext cx="1119240" cy="11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2"/>
          <p:cNvSpPr/>
          <p:nvPr/>
        </p:nvSpPr>
        <p:spPr>
          <a:xfrm>
            <a:off x="3247920" y="4368960"/>
            <a:ext cx="94788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8FC-D63B-4F55-8973-0671A2690612}" type="slidenum">
              <a:t>3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3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7"/>
          <p:cNvSpPr/>
          <p:nvPr/>
        </p:nvSpPr>
        <p:spPr>
          <a:xfrm>
            <a:off x="6075360" y="2441520"/>
            <a:ext cx="1119240" cy="11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2"/>
          <p:cNvSpPr/>
          <p:nvPr/>
        </p:nvSpPr>
        <p:spPr>
          <a:xfrm>
            <a:off x="2843280" y="4368960"/>
            <a:ext cx="94752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3"/>
          <p:cNvSpPr/>
          <p:nvPr/>
        </p:nvSpPr>
        <p:spPr>
          <a:xfrm>
            <a:off x="6635880" y="4299120"/>
            <a:ext cx="863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C59-A853-4F77-AE25-EF16B9C154F2}" type="slidenum">
              <a:t>4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2502000" y="1306440"/>
            <a:ext cx="4138560" cy="3102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6"/>
          <p:cNvSpPr/>
          <p:nvPr/>
        </p:nvSpPr>
        <p:spPr>
          <a:xfrm>
            <a:off x="5168880" y="352440"/>
            <a:ext cx="89532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5867280" y="3849840"/>
            <a:ext cx="1121040" cy="11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9"/>
          <p:cNvSpPr/>
          <p:nvPr/>
        </p:nvSpPr>
        <p:spPr>
          <a:xfrm>
            <a:off x="1835280" y="3552840"/>
            <a:ext cx="857160" cy="857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F03-CF74-489A-BD5A-7A857FE13E25}" type="slidenum">
              <a:t>5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3250" fill="hold"/>
                                        <p:tgtEl>
                                          <p:spTgt spid="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0"/>
          <p:cNvSpPr/>
          <p:nvPr/>
        </p:nvSpPr>
        <p:spPr>
          <a:xfrm flipH="1">
            <a:off x="-255600" y="2819520"/>
            <a:ext cx="64944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"/>
          <p:cNvSpPr/>
          <p:nvPr/>
        </p:nvSpPr>
        <p:spPr>
          <a:xfrm flipH="1">
            <a:off x="-255600" y="1604880"/>
            <a:ext cx="719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2"/>
          <p:cNvSpPr/>
          <p:nvPr/>
        </p:nvSpPr>
        <p:spPr>
          <a:xfrm flipH="1">
            <a:off x="-256320" y="1994040"/>
            <a:ext cx="11509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3"/>
          <p:cNvSpPr/>
          <p:nvPr/>
        </p:nvSpPr>
        <p:spPr>
          <a:xfrm flipH="1">
            <a:off x="-255600" y="2414520"/>
            <a:ext cx="1440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4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5"/>
          <p:cNvSpPr/>
          <p:nvPr/>
        </p:nvSpPr>
        <p:spPr>
          <a:xfrm flipH="1">
            <a:off x="-256320" y="3225960"/>
            <a:ext cx="11509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6"/>
          <p:cNvSpPr/>
          <p:nvPr/>
        </p:nvSpPr>
        <p:spPr>
          <a:xfrm flipH="1">
            <a:off x="-256320" y="3645000"/>
            <a:ext cx="12970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7"/>
          <p:cNvSpPr/>
          <p:nvPr/>
        </p:nvSpPr>
        <p:spPr>
          <a:xfrm flipH="1">
            <a:off x="-256320" y="4076640"/>
            <a:ext cx="115092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8"/>
          <p:cNvSpPr/>
          <p:nvPr/>
        </p:nvSpPr>
        <p:spPr>
          <a:xfrm flipH="1">
            <a:off x="-255600" y="1209600"/>
            <a:ext cx="5745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9"/>
          <p:cNvSpPr/>
          <p:nvPr/>
        </p:nvSpPr>
        <p:spPr>
          <a:xfrm flipH="1">
            <a:off x="-255600" y="4475160"/>
            <a:ext cx="719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0"/>
          <p:cNvSpPr/>
          <p:nvPr/>
        </p:nvSpPr>
        <p:spPr>
          <a:xfrm flipH="1">
            <a:off x="-255600" y="4906800"/>
            <a:ext cx="5745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2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3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4"/>
          <p:cNvSpPr/>
          <p:nvPr/>
        </p:nvSpPr>
        <p:spPr>
          <a:xfrm>
            <a:off x="8793000" y="2819520"/>
            <a:ext cx="603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5"/>
          <p:cNvSpPr/>
          <p:nvPr/>
        </p:nvSpPr>
        <p:spPr>
          <a:xfrm>
            <a:off x="8726400" y="1604880"/>
            <a:ext cx="669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6"/>
          <p:cNvSpPr/>
          <p:nvPr/>
        </p:nvSpPr>
        <p:spPr>
          <a:xfrm>
            <a:off x="8325000" y="1994040"/>
            <a:ext cx="1071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7"/>
          <p:cNvSpPr/>
          <p:nvPr/>
        </p:nvSpPr>
        <p:spPr>
          <a:xfrm>
            <a:off x="8056440" y="2414520"/>
            <a:ext cx="13399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8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9"/>
          <p:cNvSpPr/>
          <p:nvPr/>
        </p:nvSpPr>
        <p:spPr>
          <a:xfrm>
            <a:off x="8325000" y="3225960"/>
            <a:ext cx="1071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0"/>
          <p:cNvSpPr/>
          <p:nvPr/>
        </p:nvSpPr>
        <p:spPr>
          <a:xfrm>
            <a:off x="8188200" y="3645000"/>
            <a:ext cx="12081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1"/>
          <p:cNvSpPr/>
          <p:nvPr/>
        </p:nvSpPr>
        <p:spPr>
          <a:xfrm>
            <a:off x="8325000" y="4076640"/>
            <a:ext cx="10713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2"/>
          <p:cNvSpPr/>
          <p:nvPr/>
        </p:nvSpPr>
        <p:spPr>
          <a:xfrm>
            <a:off x="8861400" y="1209600"/>
            <a:ext cx="534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3"/>
          <p:cNvSpPr/>
          <p:nvPr/>
        </p:nvSpPr>
        <p:spPr>
          <a:xfrm>
            <a:off x="8726400" y="4475160"/>
            <a:ext cx="669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4"/>
          <p:cNvSpPr/>
          <p:nvPr/>
        </p:nvSpPr>
        <p:spPr>
          <a:xfrm>
            <a:off x="8861400" y="4906800"/>
            <a:ext cx="534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5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6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7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hust work bag\个人\PPT演义\最近的作品\刘老师的婚礼PPT\图片\6.PNG"/>
          <p:cNvPicPr/>
          <p:nvPr/>
        </p:nvPicPr>
        <p:blipFill>
          <a:blip r:embed="rId1"/>
          <a:srcRect l="0" t="0" r="0" b="2916"/>
          <a:stretch/>
        </p:blipFill>
        <p:spPr>
          <a:xfrm>
            <a:off x="7183440" y="-77760"/>
            <a:ext cx="2009880" cy="588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hust work bag\个人\PPT演义\最近的作品\刘老师的婚礼PPT\图片\6.PNG"/>
          <p:cNvPicPr/>
          <p:nvPr/>
        </p:nvPicPr>
        <p:blipFill>
          <a:blip r:embed="rId2"/>
          <a:srcRect l="0" t="0" r="0" b="2916"/>
          <a:stretch/>
        </p:blipFill>
        <p:spPr>
          <a:xfrm>
            <a:off x="-108000" y="-77760"/>
            <a:ext cx="2008080" cy="588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 rot="1083600">
            <a:off x="3565440" y="55260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1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 rot="20537400">
            <a:off x="4128840" y="2706840"/>
            <a:ext cx="31636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2" name="Picture 2" descr="D:\hust work bag\个人\PPT演义\最近的作品\刘老师的婚礼PPT\图片\3.png"/>
          <p:cNvPicPr/>
          <p:nvPr/>
        </p:nvPicPr>
        <p:blipFill>
          <a:blip r:embed="rId5"/>
          <a:stretch/>
        </p:blipFill>
        <p:spPr>
          <a:xfrm rot="495000">
            <a:off x="1196640" y="298584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Picture 2" descr="D:\hust work bag\个人\PPT演义\最近的作品\刘老师的婚礼PPT\图片\3.png"/>
          <p:cNvPicPr/>
          <p:nvPr/>
        </p:nvPicPr>
        <p:blipFill>
          <a:blip r:embed="rId6"/>
          <a:stretch/>
        </p:blipFill>
        <p:spPr>
          <a:xfrm rot="20232600">
            <a:off x="558360" y="92988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4" name="Picture 2" descr="D:\hust work bag\个人\PPT演义\最近的作品\刘老师的婚礼PPT\图片\3.png"/>
          <p:cNvPicPr/>
          <p:nvPr/>
        </p:nvPicPr>
        <p:blipFill>
          <a:blip r:embed="rId7"/>
          <a:stretch/>
        </p:blipFill>
        <p:spPr>
          <a:xfrm rot="1816200">
            <a:off x="5365800" y="81756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5" name="Picture 2" descr="D:\hust work bag\个人\PPT演义\最近的作品\刘老师的婚礼PPT\图片\3.png"/>
          <p:cNvPicPr/>
          <p:nvPr/>
        </p:nvPicPr>
        <p:blipFill>
          <a:blip r:embed="rId8"/>
          <a:stretch/>
        </p:blipFill>
        <p:spPr>
          <a:xfrm rot="21270000">
            <a:off x="5460840" y="304128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6" name="Picture 2" descr="D:\hust work bag\个人\PPT演义\最近的作品\刘老师的婚礼PPT\图片\3.png"/>
          <p:cNvPicPr/>
          <p:nvPr/>
        </p:nvPicPr>
        <p:blipFill>
          <a:blip r:embed="rId9"/>
          <a:stretch/>
        </p:blipFill>
        <p:spPr>
          <a:xfrm rot="1227600">
            <a:off x="2457360" y="267660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7" name="Picture 2" descr="D:\hust work bag\个人\PPT演义\最近的作品\刘老师的婚礼PPT\图片\3.png"/>
          <p:cNvPicPr/>
          <p:nvPr/>
        </p:nvPicPr>
        <p:blipFill>
          <a:blip r:embed="rId10"/>
          <a:stretch/>
        </p:blipFill>
        <p:spPr>
          <a:xfrm rot="20965200">
            <a:off x="2268360" y="53172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F79-2C01-4EA2-84ED-C342D75A1F84}" type="slidenum">
              <a:t>6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 repeatCount="1300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 repeatCount="13000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 repeatCount="13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2" presetSubtype="8" repeatCount="1300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2" presetSubtype="8" repeatCount="1300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 repeatCount="13000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 repeatCount="1300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8" repeatCount="1300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8" repeatCount="1300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8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2" presetSubtype="8" repeatCount="13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2" repeatCount="1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2" repeatCount="1300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2" repeatCount="1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2" repeatCount="1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2" repeatCount="13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2" repeatCount="1300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2" repeatCount="13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2" repeatCount="13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2" repeatCount="1300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2" presetSubtype="2" repeatCount="1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870200" y="831960"/>
            <a:ext cx="5403600" cy="405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ECC-FFD9-484F-BC93-4501E8699903}" type="slidenum">
              <a:t>7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9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J:\PHOTO\其他\幻灯片高手背景（部分）\023.jpg"/>
          <p:cNvPicPr/>
          <p:nvPr/>
        </p:nvPicPr>
        <p:blipFill>
          <a:blip r:embed="rId1"/>
          <a:stretch/>
        </p:blipFill>
        <p:spPr>
          <a:xfrm>
            <a:off x="-720720" y="-2287440"/>
            <a:ext cx="10671120" cy="800244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479960" y="998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3069000" y="179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658040" y="258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307-72EC-40ED-AA70-54193583745F}" type="slidenum">
              <a:t>8</a:t>
            </a:fld>
          </a:p>
        </p:txBody>
      </p:sp>
    </p:spTree>
  </p:cSld>
  <p:transition spd="med" advTm="0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864E-006 L 0 0.3276 E">
                                      <p:cBhvr>
                                        <p:cTn id="440" dur="3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直接连接符 2"/>
          <p:cNvSpPr/>
          <p:nvPr/>
        </p:nvSpPr>
        <p:spPr>
          <a:xfrm>
            <a:off x="1332000" y="409680"/>
            <a:ext cx="691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>
            <a:off x="3046320" y="841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0"/>
          <p:cNvSpPr/>
          <p:nvPr/>
        </p:nvSpPr>
        <p:spPr>
          <a:xfrm>
            <a:off x="1116000" y="1262160"/>
            <a:ext cx="6696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2"/>
          <p:cNvSpPr/>
          <p:nvPr/>
        </p:nvSpPr>
        <p:spPr>
          <a:xfrm rot="21018600">
            <a:off x="791640" y="19512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笑脸 18"/>
          <p:cNvSpPr/>
          <p:nvPr/>
        </p:nvSpPr>
        <p:spPr>
          <a:xfrm>
            <a:off x="2757600" y="552600"/>
            <a:ext cx="576000" cy="57600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太阳形 20"/>
          <p:cNvSpPr/>
          <p:nvPr/>
        </p:nvSpPr>
        <p:spPr>
          <a:xfrm rot="820800">
            <a:off x="7289640" y="830160"/>
            <a:ext cx="8654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新月形 21"/>
          <p:cNvSpPr/>
          <p:nvPr/>
        </p:nvSpPr>
        <p:spPr>
          <a:xfrm rot="19497600">
            <a:off x="5454720" y="217440"/>
            <a:ext cx="43164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角星 23"/>
          <p:cNvSpPr/>
          <p:nvPr/>
        </p:nvSpPr>
        <p:spPr>
          <a:xfrm rot="920400">
            <a:off x="4203360" y="990360"/>
            <a:ext cx="712800" cy="712800"/>
          </a:xfrm>
          <a:prstGeom prst="star5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 rot="21069000">
            <a:off x="630360" y="2127240"/>
            <a:ext cx="4138560" cy="3102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42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 rot="798000">
            <a:off x="4512960" y="1990440"/>
            <a:ext cx="4138560" cy="3101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43" name="椭圆 31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2"/>
          <p:cNvSpPr/>
          <p:nvPr/>
        </p:nvSpPr>
        <p:spPr>
          <a:xfrm>
            <a:off x="6064200" y="264960"/>
            <a:ext cx="1038240" cy="104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3"/>
          <p:cNvSpPr/>
          <p:nvPr/>
        </p:nvSpPr>
        <p:spPr>
          <a:xfrm>
            <a:off x="6543720" y="3527280"/>
            <a:ext cx="1119240" cy="112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4"/>
          <p:cNvSpPr/>
          <p:nvPr/>
        </p:nvSpPr>
        <p:spPr>
          <a:xfrm>
            <a:off x="4659480" y="2238480"/>
            <a:ext cx="1130040" cy="113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5"/>
          <p:cNvSpPr/>
          <p:nvPr/>
        </p:nvSpPr>
        <p:spPr>
          <a:xfrm>
            <a:off x="907920" y="3368520"/>
            <a:ext cx="1000080" cy="100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6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7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8"/>
          <p:cNvSpPr/>
          <p:nvPr/>
        </p:nvSpPr>
        <p:spPr>
          <a:xfrm>
            <a:off x="2843280" y="436896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1"/>
          <p:cNvSpPr/>
          <p:nvPr/>
        </p:nvSpPr>
        <p:spPr>
          <a:xfrm>
            <a:off x="1933200" y="1603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2"/>
          <p:cNvSpPr/>
          <p:nvPr/>
        </p:nvSpPr>
        <p:spPr>
          <a:xfrm>
            <a:off x="4170960" y="4448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约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3"/>
          <p:cNvSpPr/>
          <p:nvPr/>
        </p:nvSpPr>
        <p:spPr>
          <a:xfrm>
            <a:off x="7160040" y="2238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守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06E-B9D4-4FE5-BF9D-1FE40F4563B2}" type="slidenum">
              <a:t>9</a:t>
            </a:fld>
          </a:p>
        </p:txBody>
      </p:sp>
    </p:spTree>
  </p:cSld>
  <p:transition spd="med" advTm="0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2" presetSubtype="2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mph" presetID="32" repeatCount="8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32" repeatCount="7000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32" repeatCount="7000">
                                  <p:stCondLst>
                                    <p:cond delay="1000"/>
                                  </p:stCondLst>
                                  <p:childTnLst>
                                    <p:animRot by="120000">
                                      <p:cBhvr>
                                        <p:cTn id="4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32" repeatCount="7000">
                                  <p:stCondLst>
                                    <p:cond delay="1250"/>
                                  </p:stCondLst>
                                  <p:childTnLs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32" repeatCount="7000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32">
                                  <p:stCondLst>
                                    <p:cond delay="1250"/>
                                  </p:stCondLst>
                                  <p:childTnLst>
                                    <p:animRot by="120000">
                                      <p:cBhvr>
                                        <p:cTn id="5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>
                                  <p:stCondLst>
                                    <p:cond delay="8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xit" presetID="10">
                                  <p:stCondLst>
                                    <p:cond delay="8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10">
                                  <p:stCondLst>
                                    <p:cond delay="8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8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>
                                  <p:stCondLst>
                                    <p:cond delay="8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1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xit" presetID="10">
                                  <p:stCondLst>
                                    <p:cond delay="8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1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3:05Z</dcterms:modified>
  <cp:revision>3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