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04E-3125-425F-AC6A-181B1952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7D2-DD3A-4D79-8228-A7F8DAF5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A7C-4146-4B12-BED6-873A6877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801-C1E4-4EF5-B21F-71D7F8AA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CBE-831B-4CF7-8D31-40EA9C57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1B3-A424-48A4-A0F4-EF45FA7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7F4-8EF2-480B-8D6A-47E34E75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306-E82F-4CD5-A7CB-1895D84A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FF7-6D53-460C-97D0-C03093B1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3A5-0175-455F-93B3-45D4E6F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A28-808E-4F52-819D-DF144E0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16A-16EC-4B3B-8EEF-E89ECA2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B65-F2DF-458E-A1E4-B8114CE9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45440" cy="550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7028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10960" y="4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康饮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455256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What do you think should go into a good m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Imagine you and your partner are going to invite some friends for dinner. What special food of your place would you offer them? Plan a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61636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Look at the title of the reading passage and the pictures. Predict what the passage is about. Then read it quickly to see if you wer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554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1680" y="1773000"/>
            <a:ext cx="41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3644640"/>
            <a:ext cx="3529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about the passage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981000"/>
            <a:ext cx="705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fter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1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79280" y="1773360"/>
            <a:ext cx="48225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eh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3635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passage carefully and think about the these statements. Tick the correct boxes in your textbook. Give the reasons for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54560" y="907920"/>
            <a:ext cx="47894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ually Wang Peng`s restaurant was full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ong Hui could make people thin in two weeks by giving them  good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Wang Peng`s regular customers often became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Yong Hui`s menu gave customers more energy-giving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Wang Peng`s menu gave customers more protectiv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Wang Peng decided to compete with Yong Hui by copying her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530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4753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ust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g Peng sat in his empty restaurant feeling ver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鹏坐在自己空荡荡的餐厅里，感到相当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沮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87640" y="256500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518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g Peng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was amazed 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is especially at the pric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鹏对此感到吃惊，特别是对他们的价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2924280"/>
            <a:ext cx="84358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be amazed at /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…感到惊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was amazed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s weird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ould be amazed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difficult it 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620280"/>
            <a:ext cx="43192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08000" y="1699920"/>
            <a:ext cx="4535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pictures shown to you, judge the types of the foods 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9280" y="43657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-building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4941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ve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37840" y="378936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-giving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640" y="5300280"/>
            <a:ext cx="1882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4797000"/>
            <a:ext cx="230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56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700360" y="5877000"/>
            <a:ext cx="2890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360" y="5734080"/>
            <a:ext cx="2098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762440" cy="6324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48000" y="198864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8560" y="3573360"/>
            <a:ext cx="410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in groups what food you must eat to have a balanced diet. How much should you eat each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48000" y="836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ords and expressions from the text that mean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____  something that you say is not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____  not to be punished for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____  unco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____  the strong wish to know about something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____  someone who buys things or services from               a  shop, company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____  a particular quality that gives someone or something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3827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ell a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et away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589200" cy="424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your assignme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Listen to the tape till you can understand every word of the passage. And do the best you can to recit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Read the passage again and again and try to recite the sentences on the page 81-82 in your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Read the sentences and copy them in your notebooks, trying to keep them in your mind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You don`t like it? Ok, just drop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 has to eat, but do you eat a healthy diet? Do you know that the food you eat helps you grow in different w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682920" y="2599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, it en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ask me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0AE-73DD-427C-9DA9-D9AC3BBCAA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139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Major Types of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3059280" cy="44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313080" cy="444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059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47685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that provide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g, energy-giving f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noodles spaghetti bread potatoes            chocolate butter cream oils 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8560" y="5057280"/>
            <a:ext cx="7273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that helps grow bones and mus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g, body-building f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eggs cheese milk to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4265280"/>
            <a:ext cx="8435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that helps the body figh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g, protective f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vegetables (eg, beans, peas, cucumbers, eggplants, peppers, mushrooms, cabbages) and fruit (eg, apples, peaches, oranges, lem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308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groups of food do you like best? Which do you eat most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eat the three kinds of food each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happen to you if you didn`t eat a balanced d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49528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3280" y="278100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956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5:2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1:1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