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548-B52D-4EEB-9729-DB654057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CD0-65BD-44D7-B4A1-A7910645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1AA-1DDF-4868-BCAF-A193B210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AAA2-939B-45EC-B89C-FB823643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EC1-F936-4071-8F9E-AE27E785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6AA-1647-48F2-B5FC-1567C527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DC8-BCDB-4F1E-B3DF-940CE71C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238-C588-4AEA-9B76-4E71058C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30B-BC1D-4357-ACA5-79E58CD5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EC3-44EE-4007-A4F9-48AFA4C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A92E-4880-4413-9A3A-372951A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60F-D022-4FFD-8F34-40D9202A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5A10-3D10-4550-8066-EE9688295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801720" y="765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C:\Program Files\Common Files\Microsoft Shared\Clipart\cagcat50\MP00640_.wmf"/>
          <p:cNvPicPr/>
          <p:nvPr/>
        </p:nvPicPr>
        <p:blipFill>
          <a:blip r:embed="rId2"/>
          <a:stretch/>
        </p:blipFill>
        <p:spPr>
          <a:xfrm>
            <a:off x="0" y="154080"/>
            <a:ext cx="2666880" cy="2590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3320" y="234936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假如没有灰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050"/>
          <p:cNvSpPr/>
          <p:nvPr/>
        </p:nvSpPr>
        <p:spPr>
          <a:xfrm>
            <a:off x="3288240" y="121932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灰尘颗粒的直径一般在万分之一到百万分之一毫米之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中的“一般”能否删去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2051"/>
          <p:cNvSpPr txBox="1"/>
          <p:nvPr/>
        </p:nvSpPr>
        <p:spPr>
          <a:xfrm>
            <a:off x="533520" y="533520"/>
            <a:ext cx="327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体味用词的准确性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Text Box 2052"/>
          <p:cNvSpPr/>
          <p:nvPr/>
        </p:nvSpPr>
        <p:spPr>
          <a:xfrm>
            <a:off x="4370040" y="2133720"/>
            <a:ext cx="68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不能，一般指通常，大多数情况，表明了灰尘的直径大多数是在万分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一到百万分之一的范围内，但也有特殊情况，这个词在这里有限制的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用，删去后不符合客观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53"/>
          <p:cNvSpPr/>
          <p:nvPr/>
        </p:nvSpPr>
        <p:spPr>
          <a:xfrm>
            <a:off x="1923120" y="320040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庞然大物”的原意是什么？它与“灰尘的直径一般在万分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一到百万分之一毫米之间”是否矛盾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54"/>
          <p:cNvSpPr/>
          <p:nvPr/>
        </p:nvSpPr>
        <p:spPr>
          <a:xfrm>
            <a:off x="2262240" y="403848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形容体积大而笨重的东西。不矛盾，这里的庞然大物是指颗粒比较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人肉眼能够看到的灰尘，它们与在高倍显微镜下才能看到的细小灰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相比，就显得巨大笨重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55"/>
          <p:cNvSpPr/>
          <p:nvPr/>
        </p:nvSpPr>
        <p:spPr>
          <a:xfrm>
            <a:off x="1999440" y="510552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阳光经过灰尘的反射，强度大大削弱一句中的“大大”有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么作用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56"/>
          <p:cNvSpPr/>
          <p:nvPr/>
        </p:nvSpPr>
        <p:spPr>
          <a:xfrm>
            <a:off x="2936880" y="6019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突出了反射后阳光强度被削弱的程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906-46D3-466A-938E-9C046794C3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609480" y="685800"/>
            <a:ext cx="2457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灰尘的两面性</a:t>
            </a:r>
            <a:endParaRPr b="1" lang="en-US" sz="32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914400" y="1828800"/>
            <a:ext cx="5734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碍环境卫生，危害人体健康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838080" y="2590920"/>
            <a:ext cx="5734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对人类、地球的生存及大自然，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914400" y="3429000"/>
            <a:ext cx="3686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都具有巨大的作用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892960" y="430848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告诉我们：“任何事物都有它的两面性”。请你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周围的事物，举一两个例子来说明这个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734080"/>
            <a:ext cx="61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192560" y="762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事物有两面性的观点，仿照下面的句子，再造两个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灰尘，一方面，有碍卫生，对人体健康有一定的危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，在削弱阳光调节气候等方面又有重要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10360" y="2789280"/>
            <a:ext cx="78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蛇毒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　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08640" y="4348080"/>
            <a:ext cx="751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废品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514600" y="762120"/>
            <a:ext cx="6019920" cy="2971800"/>
          </a:xfrm>
          <a:prstGeom prst="cloudCallout">
            <a:avLst>
              <a:gd name="adj1" fmla="val -62578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3352680" y="1219320"/>
            <a:ext cx="4876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假如自然界真的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2743200" y="1981080"/>
            <a:ext cx="561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我们将面临怎样的境地呢？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8" name="Picture 5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838080" y="38098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Program Files\Common Files\Microsoft Shared\Clipart\cagcat50\SO01038_.wmf"/>
          <p:cNvPicPr/>
          <p:nvPr/>
        </p:nvPicPr>
        <p:blipFill>
          <a:blip r:embed="rId2"/>
          <a:stretch/>
        </p:blipFill>
        <p:spPr>
          <a:xfrm>
            <a:off x="2209680" y="914400"/>
            <a:ext cx="46483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482840" y="46483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假如大气中没有灰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07240" y="5562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强烈的阳光将使人无法睁开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y Documents\TN_CLOUD7.jpg"/>
          <p:cNvPicPr/>
          <p:nvPr/>
        </p:nvPicPr>
        <p:blipFill>
          <a:blip r:embed="rId2"/>
          <a:stretch/>
        </p:blipFill>
        <p:spPr>
          <a:xfrm>
            <a:off x="838080" y="457200"/>
            <a:ext cx="739152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914400" y="4648320"/>
            <a:ext cx="4572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假如空气中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64912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中行书简"/>
              </a:rPr>
              <a:t>天空将变成白茫茫的一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33600" y="4800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假如大气中没有灰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990680" y="5562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文鼎CS长宋"/>
              </a:rPr>
              <a:t>生物将无法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My Documents\My Pictures\book1-4s.jpg"/>
          <p:cNvPicPr/>
          <p:nvPr/>
        </p:nvPicPr>
        <p:blipFill>
          <a:blip r:embed="rId2"/>
          <a:stretch/>
        </p:blipFill>
        <p:spPr>
          <a:xfrm>
            <a:off x="914400" y="685800"/>
            <a:ext cx="6934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1026"/>
          <p:cNvSpPr txBox="1"/>
          <p:nvPr/>
        </p:nvSpPr>
        <p:spPr>
          <a:xfrm>
            <a:off x="914400" y="685800"/>
            <a:ext cx="5143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假如空气中没有灰尘，</a:t>
            </a:r>
            <a:endParaRPr b="1" lang="en-US" sz="4000" spc="-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" name="AutoShape 1027"/>
          <p:cNvSpPr/>
          <p:nvPr/>
        </p:nvSpPr>
        <p:spPr>
          <a:xfrm>
            <a:off x="3962520" y="25146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28"/>
          <p:cNvSpPr/>
          <p:nvPr/>
        </p:nvSpPr>
        <p:spPr>
          <a:xfrm>
            <a:off x="45720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29"/>
          <p:cNvSpPr/>
          <p:nvPr/>
        </p:nvSpPr>
        <p:spPr>
          <a:xfrm>
            <a:off x="5181480" y="2514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0" descr="C:\Program Files\Common Files\Microsoft Shared\Clipart\cagcat50\PE02097_.wmf"/>
          <p:cNvPicPr/>
          <p:nvPr/>
        </p:nvPicPr>
        <p:blipFill>
          <a:blip r:embed="rId2"/>
          <a:stretch/>
        </p:blipFill>
        <p:spPr>
          <a:xfrm>
            <a:off x="1676520" y="3505320"/>
            <a:ext cx="358128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31"/>
          <p:cNvSpPr/>
          <p:nvPr/>
        </p:nvSpPr>
        <p:spPr>
          <a:xfrm>
            <a:off x="5087880" y="1600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CS大隶书"/>
              </a:rPr>
              <a:t>大自然将多么单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y Documents\云1.jpg"/>
          <p:cNvPicPr/>
          <p:nvPr/>
        </p:nvPicPr>
        <p:blipFill>
          <a:blip r:embed="rId2"/>
          <a:stretch/>
        </p:blipFill>
        <p:spPr>
          <a:xfrm>
            <a:off x="838080" y="914400"/>
            <a:ext cx="769644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3124080" y="5029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闲云迷雾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C:\My Documents\5.jpg"/>
          <p:cNvPicPr/>
          <p:nvPr/>
        </p:nvPicPr>
        <p:blipFill>
          <a:blip r:embed="rId2"/>
          <a:stretch/>
        </p:blipFill>
        <p:spPr>
          <a:xfrm>
            <a:off x="990720" y="990720"/>
            <a:ext cx="7543800" cy="4348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27"/>
          <p:cNvSpPr txBox="1"/>
          <p:nvPr/>
        </p:nvSpPr>
        <p:spPr>
          <a:xfrm>
            <a:off x="3048120" y="55627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深沉的晚霞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483360" y="609480"/>
            <a:ext cx="14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下列句子，说说哪个表达效果更好，并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大多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有的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09480" y="198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大多”指大多数，准确说明了灰尘中具有吸湿功能的灰尘的数量，而“有的”没有数量的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059280" y="289548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形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变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081520" y="3733920"/>
            <a:ext cx="518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形成”是逐渐发展生长而造成的，形象地写出了分散的水汽逐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吸附灰尘所形成水滴的过程。而“变成”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则指改变而成，这里水的本质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没有改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364200" y="480060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正确地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121840" y="5867280"/>
            <a:ext cx="505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仅仅“认识”是不能区分利和弊的，“正确的认识”是趋利避害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前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699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7:17:46Z</dcterms:created>
  <dc:creator/>
  <dc:description/>
  <cp:keywords>幻灯片之家 http:/www.eeppt.com</cp:keywords>
  <dc:language>en-US</dc:language>
  <cp:lastModifiedBy/>
  <dcterms:modified xsi:type="dcterms:W3CDTF">2015-07-20T02:04:20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