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CD5-232D-4B1E-85C2-9132112D3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6C65-1957-4FF2-BA1A-5F29BBDA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C3E-C568-433A-98AB-43F5C0C4E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F67B-A046-4176-8DBC-99ACDA5B9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D4B7-F6C9-4BB1-A4FE-56DECB77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EA8B-23DC-49CC-9F97-CFAC01B0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5BC8-8E3D-4A43-B768-658B8A9A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6E02-ECB2-43C9-AB86-0D7A8F32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0792-A264-4B04-B95E-14C47CA65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FE0A-58BA-4475-82EF-19B9D849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DD52-5E4E-47C7-8C51-C9112D66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5A4-3481-47C0-B5E7-ECA5E12F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C022-7BC9-46F2-9BC8-C165CD28454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7069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14259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9920" y="12700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儿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656964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4259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41407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42836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211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63550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7"/>
          <p:cNvSpPr/>
          <p:nvPr/>
        </p:nvSpPr>
        <p:spPr>
          <a:xfrm>
            <a:off x="57837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264060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99772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56408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61408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43549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22118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5640" y="162864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24260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57837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249768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578376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02AB-0CE5-4EA9-A2F2-C4A5979DAA2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10:19Z</dcterms:modified>
  <cp:revision>17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