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9C080-FAA5-496D-8122-D496015FB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7CF20-EA8F-4881-907A-03BE63E44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19ACB-7516-48CB-86D0-3C0011A8F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4BDD3-B441-4310-89B3-F812F7FB1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EC749-1182-4678-B628-F7C4B758D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05B45-2887-430C-A392-1EF41CA21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942D2-754B-4C0A-A655-DEC5AF8B7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50F8C-38B5-44FE-B1B9-3805304FB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AB1B1-47E1-4495-8A30-3CFEBFE22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5658B-1575-4278-95E8-00A08B960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DE11C-041B-49DC-9BF5-492A0ACF0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7CD30-BB67-490A-9742-014F70CCE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432E8-A9F2-49DB-AEE7-FF783B366B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655308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15800" y="76320"/>
            <a:ext cx="384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可爱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914400" y="2971800"/>
            <a:ext cx="5643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706E3-BC66-4A57-8DFC-D8DC9A6F5A1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27T09:07:46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8T10:59:22Z</dcterms:modified>
  <cp:revision>3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  <property fmtid="{D5CDD505-2E9C-101B-9397-08002B2CF9AE}" pid="3" name="Version">
    <vt:r8>1</vt:r8>
  </property>
</Properties>
</file>