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5863-9718-4EA5-883E-3B36365D9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B7BC-D3EE-40C4-A19E-9E1E3415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0DB8-6192-47C7-8262-AC3387A16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5520-FAE1-469D-B81A-FF4B52F5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0E25-67E9-420A-9B1C-EB33247F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5872-53CD-4FE0-B75D-B0DEC8F3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50AA-4FB5-43FF-BAF3-E3BD9700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655C-D1B1-4314-AC8F-0571556A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1AB6-7CD6-49D8-9EDD-B2C664D1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6DEC-D4AF-4A3E-AE35-6F0C21CC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8AAE-10A4-49E4-B6CD-3D777063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9B5F-F294-46E0-BBB9-88B5778D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088D-29C5-4BE1-9D1D-1974F0F104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378612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428364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41407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4213800" y="384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6237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00160" y="1173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科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DD5B-E3A7-409A-B9B8-35EC3F0C29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402012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571212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62838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56408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3805920" y="4255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2571840" y="37861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67838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3805920" y="496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2500200" y="4786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54266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4979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3734640" y="496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2831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60696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385488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402012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9"/>
          <p:cNvSpPr/>
          <p:nvPr/>
        </p:nvSpPr>
        <p:spPr>
          <a:xfrm>
            <a:off x="385488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9"/>
          <p:cNvSpPr/>
          <p:nvPr/>
        </p:nvSpPr>
        <p:spPr>
          <a:xfrm>
            <a:off x="52837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22831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39488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1714680" y="335772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614088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41407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12700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402012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5069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25689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49978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306900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"/>
          <p:cNvSpPr/>
          <p:nvPr/>
        </p:nvSpPr>
        <p:spPr>
          <a:xfrm>
            <a:off x="394884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/>
          <p:cNvSpPr/>
          <p:nvPr/>
        </p:nvSpPr>
        <p:spPr>
          <a:xfrm>
            <a:off x="6072120" y="3714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19976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42120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3:16:10Z</dcterms:modified>
  <cp:revision>3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