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A03-6CCB-4831-9AF9-B72A4192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919-1416-4264-A821-C4322D42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87208-FA30-45E5-8958-12502C4F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D90A9-5F76-46CE-8AF6-8B3F9A69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D2376-FC38-4585-910B-F68FD147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8F642-55EA-4DF2-99AC-3033C816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B9316-2098-4F37-BE3B-31B7BDA7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4588B-29EC-424B-B4EA-543EEC47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1A1B4-537A-4E5B-8A2D-AD4A1398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F6914-ED24-44CF-8121-96C7BC69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5ED8F-6AEB-491E-AF08-2DDCB93A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465-1112-4C31-82E7-4656590A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4AD-418B-4730-8E4C-5B2CE801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3BC6-2963-4E0D-B680-1D66AF1D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4DE0-B838-4561-9C47-E1234E00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307A-9D3A-4CEB-ADA1-FAA8DEFB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2F73-73F7-4DF1-837D-4E6DB34D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3893-7644-46E2-BB74-2BF9BD91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5169-0F4A-4BA3-9941-AAC3B46A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DB74-1919-4E59-855E-9937EBED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67B-8DC9-43B3-AC7E-E4BA6739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28E6-C15A-4B7D-B067-1A5907EB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E211-8833-42F9-80C7-71B6AF39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B9BC-528A-4D1C-B9DC-97E753B3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CCA6-A3DA-493D-992F-D0355C1E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004D-35E8-4C1A-8FA8-E9706F9C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607FB-F02A-45A2-97B6-FE7548CF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AA6C5-2808-48DE-885C-7C97D487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EE75B-8F6C-4F2F-B093-338BA6F0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02B3-B121-4C5F-B965-894B14AD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59D98-9288-481C-A83F-5A5AEEB9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7E6-313A-43CE-858C-9A90D231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8A53-8906-4A56-A28D-5D3618FD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D523-A212-4402-9E51-5C64565B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5285E-C159-4314-B5DB-0B260525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78503-5C05-4DA4-AD71-A1449C78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C142F-7DDE-4797-8579-B8785C8B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AC080-448E-4C01-971D-3BCC3DB7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2F80C-3F62-452B-BFF3-B8C7F570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BFCC1-A9D1-4776-BDB7-C7DCEB0C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2A20-DB41-4B29-828B-002A53C4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E107C-6B1D-4D5C-8931-B9F563E8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3AF-CD9B-478D-9546-865218F5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8AFD3-FE4A-4467-AB9C-232BE78D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034E8-56BB-41AE-846B-BF3DA087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CADCC-051E-41C7-A3E0-67CC94F1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C1D7C-4AB5-4A27-A28D-D6A2B2AF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BF247-73F0-477B-AB3F-1B165FE8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36C6A-3B4A-4DBC-8CA6-88D00990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CC641-BDEE-4B08-B71D-54E7E347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55D89-7E91-460A-A143-4F09CECC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3A71E-4285-4172-BC8C-46502AD2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1D8BE-BDB9-4404-BBE9-6EFD5FC2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775-D12D-4C05-91E3-A68FF18B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0A0F5-6F5C-4D0B-9052-B67538AD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1EAE9-C0CB-48C4-B1E1-B7E841C2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EE81D-3D98-4D30-8A72-F0D134F6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2738D-4732-4E73-ADAF-C0A3B864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186A6-E67E-4477-937D-ADABE19C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8D009-9AF9-4608-8AAB-50AA00D9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ABCCD-DC42-4ADC-873D-7B76D99D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F88DC-7420-4F51-9F27-C465DEA8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5AFDC-AF67-4CDF-B886-A4E382A1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F0732-DBD2-4225-9237-415D5BE4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E9D-8A43-4A90-955B-DE7B1F20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56340-444F-473C-BC04-3B5587B8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CB833-AE06-421E-B556-9E378911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89A486-C244-463D-9985-3173219D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96EB6-6972-4A68-AD12-67A5D7AE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66659-B278-469B-90D8-1D965E88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FC3D07-DC2E-44A5-8816-E3E30FB3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58E64E-0710-45D5-A923-9F4D24BB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F1930D-7E47-46E3-8240-0925D241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33384F-153C-4059-81FC-963B7588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58405-BE12-40ED-904B-8E5713CC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94C-CC87-496E-93A5-A74A3362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A50944-2555-4332-B67C-0E53A870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A72F34-9362-4143-B91A-ACC153F0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C4C0C-3D71-4495-9752-7B7F123A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0B09E-3B91-46F2-85C7-92879843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71C2E-4043-4C0E-8CBF-8CBCAAB3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D0137-A514-41D4-82A0-6209D7D7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DA6BD-93B7-4430-B96E-E89536D2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47B9F-EAC8-4032-8390-AB127346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0CBAF-CB59-4BC9-ABD4-B3B43787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A4FEA-D9AE-455C-BF1A-82ED8F02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0D3-EBB3-4DBD-ADC8-9D1B0914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BCAD1-054E-4D45-A827-C38F9F2C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66CFA-FD3F-4C72-B0B9-5BF56566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CC253-A938-4BDF-A477-ED253625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102FD-EE43-45C6-A1C7-070534FB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FC879-9A6E-4E3E-8461-29010650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560390-AB34-4CE0-8003-119EE846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7D637B-97FB-4CA5-BC2A-85968DED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F47F87-C660-4B35-B3C5-C76736E7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C8A357-D52B-4C99-B676-A9D06218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7274F9-33D9-4F03-9225-BA98EE26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8A6-7A94-464E-8705-89AE359B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FD121B-BF04-4704-A4C3-968996CC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A6FB1B-102F-4D19-96C7-785FC86E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0E7F42-79BC-4EA1-9F5D-556F94F3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234681-F288-446B-9123-A79E374C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76FA0A-ECD7-44C4-9F59-268A0B90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23AC33-F18B-4117-AE41-7D9D7EE6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CB5AB7-68D0-4D5B-9D69-B149842E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51D1F-95B4-447E-A502-CCC576F3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0FDB1-0452-411D-A9CC-D8009C91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4B5CC-E039-471B-B158-334DDF1F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4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任意多边形 10242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任意多边形 10243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任意多边形 1024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组合 10245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任意多边形 10246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组合 10247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任意多边形 10248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任意多边形 10249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任意多边形 10250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任意多边形 10251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任意多边形 10252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任意多边形 1025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组合 10254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任意多边形 10255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任意多边形 10256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任意多边形 10257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任意多边形 10258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任意多边形 10259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任意多边形 10260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8FCB-DE97-4CC3-A7DC-4A080FEB881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24577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2" name="任意多边形 24578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24579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任意多边形 24580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任意多边形 24581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任意多边形 24582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任意多边形 24583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任意多边形 24584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任意多边形 24585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任意多边形 24586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矩形 24587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矩形 24588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任意多边形 24589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任意多边形 24590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任意多边形 24591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任意多边形 24592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任意多边形 24593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任意多边形 24594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任意多边形 24595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A1F4-DFB0-4CB0-883C-56CCC84CAEC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E46C-C8F3-4DBF-B5C2-95BE602814A8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39937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39938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矩形 39939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矩形 39940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39941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矩形 39942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矩形 39943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B652-44E8-4209-97CE-8F25A45412AA}" type="slidenum">
              <a:rPr b="0" lang="zh-TW" sz="1400" spc="-1" strike="noStrike">
                <a:solidFill>
                  <a:srgbClr val="000000"/>
                </a:solidFill>
                <a:latin typeface="Tahoma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515D-326D-4634-BE29-45A0C2E2B05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8137-B673-4523-933E-28FEDEB0C69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组合 11265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2" name="任意多边形 11266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11267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任意多边形 11268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组合 11269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6" name="任意多边形 11270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组合 11271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8" name="任意多边形 11272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任意多边形 11273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任意多边形 11274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任意多边形 11275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任意多边形 11276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3" name="任意多边形 11277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组合 11278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5" name="任意多边形 11279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任意多边形 11280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任意多边形 11281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任意多边形 11282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任意多边形 11283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任意多边形 11284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7899-5693-4C64-91F0-6679F76F61E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组合 25601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13" name="任意多边形 25602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25603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25604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25605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25606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任意多边形 25607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任意多边形 25608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任意多边形 25609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任意多边形 25610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矩形 25611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矩形 25612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任意多边形 25613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任意多边形 25614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任意多边形 25615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任意多边形 25616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任意多边形 25617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任意多边形 25618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任意多边形 25619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2DFB-B07F-446D-B1E8-1E2DC4B328F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任意多边形 37891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BCBE-2659-40DE-8FA2-43BD954FDB5E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组合 40961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15" name="组合 40962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6" name="矩形 40963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矩形 40964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8" name="组合 40965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19" name="矩形 40966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矩形 40967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1" name="矩形 40968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矩形 40969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矩形 40970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FD6C-2B71-464A-9C89-A0633DB1A1BC}" type="slidenum">
              <a:rPr b="0" lang="zh-TW" sz="1400" spc="-1" strike="noStrike">
                <a:solidFill>
                  <a:srgbClr val="1c1c1c"/>
                </a:solidFill>
                <a:latin typeface="Tahoma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XX</a:t>
            </a:r>
            <a:r>
              <a:rPr b="1" lang="zh-TW" sz="4000" spc="-1" strike="noStrike">
                <a:solidFill>
                  <a:srgbClr val="ff6699"/>
                </a:solidFill>
                <a:latin typeface="Arial"/>
              </a:rPr>
              <a:t>旅遊導覽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66cc"/>
                </a:solidFill>
                <a:uFillTx/>
                <a:latin typeface="Arial"/>
              </a:rPr>
              <a:t>自然生態之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3e3ff"/>
                </a:solidFill>
                <a:latin typeface="Arial"/>
              </a:rPr>
              <a:t>山之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柴山風景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壽山風景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壽山動物園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半屏山自然公園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3e3ff"/>
                </a:solidFill>
                <a:latin typeface="Arial"/>
              </a:rPr>
              <a:t>海之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高雄港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西子灣風景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旗津海岸公園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旗津風車公園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高字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3e3ff"/>
                </a:solidFill>
                <a:latin typeface="Arial"/>
              </a:rPr>
              <a:t>河之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愛河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前鎮河親水公園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3e3ff"/>
                </a:solidFill>
                <a:latin typeface="Arial"/>
              </a:rPr>
              <a:t>湖之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蓮池潭風景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金獅湖風景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澄清湖風景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Arial"/>
              </a:rPr>
              <a:t>XX</a:t>
            </a:r>
            <a:r>
              <a:rPr b="0" lang="zh-TW" sz="4000" spc="-1" strike="noStrike">
                <a:solidFill>
                  <a:srgbClr val="ff6699"/>
                </a:solidFill>
                <a:latin typeface="Arial"/>
              </a:rPr>
              <a:t>旅遊導覽</a:t>
            </a:r>
            <a:r>
              <a:rPr b="0" lang="en-US" sz="4000" spc="-1" strike="noStrike">
                <a:solidFill>
                  <a:srgbClr val="feec94"/>
                </a:solidFill>
                <a:latin typeface="Arial"/>
              </a:rPr>
              <a:t> 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66cc"/>
                </a:solidFill>
                <a:uFillTx/>
                <a:latin typeface="Arial"/>
              </a:rPr>
              <a:t>歷史人文之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99"/>
                </a:solidFill>
                <a:latin typeface="Arial"/>
              </a:rPr>
              <a:t>古蹟之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原鳳山舊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孔廟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雄鎮北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元亨寺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前清英國領事館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旗津天后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99"/>
                </a:solidFill>
                <a:latin typeface="Arial"/>
              </a:rPr>
              <a:t>民俗之旅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愛河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蓮池潭風景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99"/>
                </a:solidFill>
                <a:latin typeface="Arial"/>
              </a:rPr>
              <a:t>藝文之旅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高雄市立美術館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高雄市立音樂館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市立中正文化中心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市立圖書館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市立電影圖書館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99"/>
                </a:solidFill>
                <a:latin typeface="Arial"/>
              </a:rPr>
              <a:t>博物之旅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國立科學工藝博物館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高雄市立歷史博物館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高雄市客家文物館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XX</a:t>
            </a:r>
            <a:r>
              <a:rPr b="1" lang="zh-TW" sz="4000" spc="-1" strike="noStrike">
                <a:solidFill>
                  <a:srgbClr val="ff6699"/>
                </a:solidFill>
                <a:latin typeface="Arial"/>
              </a:rPr>
              <a:t>旅遊導覽</a:t>
            </a: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66cc"/>
                </a:solidFill>
                <a:uFillTx/>
                <a:latin typeface="Arial"/>
              </a:rPr>
              <a:t>休閒娛樂之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"/>
              </a:rPr>
              <a:t>賞光之旅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城市光廊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高雄光之塔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賞綠之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高雄都會公園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高雄市原生植物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"/>
              </a:rPr>
              <a:t>遊樂之旅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旗津海岸公園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愛河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高雄港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"/>
              </a:rPr>
              <a:t>雅趣之旅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前清英國領事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Arial"/>
              </a:rPr>
              <a:t>XX</a:t>
            </a:r>
            <a:r>
              <a:rPr b="1" lang="zh-TW" sz="4400" spc="-1" strike="noStrike">
                <a:solidFill>
                  <a:srgbClr val="ff6699"/>
                </a:solidFill>
                <a:latin typeface="Arial"/>
              </a:rPr>
              <a:t>旅遊導覽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 u="sng">
                <a:solidFill>
                  <a:srgbClr val="0066cc"/>
                </a:solidFill>
                <a:uFillTx/>
                <a:latin typeface="Arial"/>
              </a:rPr>
              <a:t>美食購物之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99ff"/>
                </a:solidFill>
                <a:latin typeface="Arial"/>
              </a:rPr>
              <a:t>海鮮之旅</a:t>
            </a: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旗津海岸公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99ff"/>
                </a:solidFill>
                <a:latin typeface="Arial"/>
              </a:rPr>
              <a:t>小吃之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高雄小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六合觀光夜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南華觀光夜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興中觀光夜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光華觀光夜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3399ff"/>
                </a:solidFill>
                <a:latin typeface="Arial"/>
              </a:rPr>
              <a:t>商圈之旅</a:t>
            </a:r>
            <a:r>
              <a:rPr b="1" lang="en-US" sz="1400" spc="-1" strike="noStrike">
                <a:solidFill>
                  <a:srgbClr val="3399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三多商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漢神大立商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新崛江商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尖美商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火車站商圈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文化中心商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鹽埕商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南華商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日期占位符 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XX</a:t>
            </a:r>
            <a:r>
              <a:rPr b="1" lang="zh-TW" sz="4000" spc="-1" strike="noStrike">
                <a:solidFill>
                  <a:srgbClr val="ff6699"/>
                </a:solidFill>
                <a:latin typeface="Arial"/>
              </a:rPr>
              <a:t>旅遊導覽</a:t>
            </a: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ff"/>
                </a:solidFill>
                <a:latin typeface="Arial"/>
              </a:rPr>
              <a:t>商街之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三鳳中街（南北貨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興中花卉街（花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大連商圈（皮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原宿玉竹商圈（流行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新崛江商圈（新潮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鹽埕崛江商場（舶來品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長明商圈（成衣、電子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後驛商圈（成衣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新樂金仔街（金飾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新興區特色街道（婚紗、家俱、補教、汽車材料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十全玉市商場（玉石古玩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十全跳蚤商場（二手貨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日期占位符 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5:53Z</dcterms:created>
  <dc:creator/>
  <dc:description/>
  <cp:keywords>鏃呮父 瀵艰</cp:keywords>
  <dc:language>en-US</dc:language>
  <cp:lastModifiedBy>An</cp:lastModifiedBy>
  <dcterms:modified xsi:type="dcterms:W3CDTF">2016-05-01T00:45:5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