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DD47-6057-4514-AFA0-6A45C2A7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283C-F052-4A46-8121-E8D6730B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3A62-CDF5-4C53-BF62-C775F2D1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FDB3-747E-4E30-A98A-AB4DD49E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9EBB1-5420-4561-8821-86AD2845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ACBC-868F-44F1-A97D-8180E227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B0EF-B6AF-4154-988B-EC9DAC69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46EA6-06E3-4475-80A0-6C571BF3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5916-A610-447B-A7A5-AF7267C0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CEE99-8C91-41D3-B29B-FDB1F5A4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973D-9256-4596-A8A0-08AB5EE7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C2E1-8213-43D0-825A-E3F3F05D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EFAE-970A-4B1D-A501-8D2B2FB2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07AA-6927-4654-9694-882A2A79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21FF-5103-4136-BD0D-3822F02C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B037-E567-4E5C-814C-FAD41036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ACD8-7010-4863-86E8-64D17BA7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FC3A-0746-4AAA-8111-8E70D697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1C64-E587-4184-AB29-66606A8B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9A57-C10E-424D-BC22-6D91C5E9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2924-8389-4046-90C7-C7674808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9CCF-83E5-4F5D-9273-FE1D48B6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19A7-77BC-4770-9F05-9A4ECB68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C321-AF36-4D33-AB1E-3329EF93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E8EA-7D53-4688-8C35-04C1A05B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27B6-0461-49FC-91F6-DFC91F35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BFC7-28CB-4125-856A-3F4E65DC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B0DD9-1356-4567-96B9-4B1C441E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DCC7F-C223-4AFF-A4B1-67CF538D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6D50-E03B-4D71-9E9D-D4DF7F45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D7A3-DA7D-43C0-8E66-F42079EF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DED26-788C-4734-A7D5-737E0D7C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D0F4-B9C2-4164-A179-A4EC6782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A71C-D547-4F89-A892-9BC049C3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A016-4BE3-4E77-ADCF-E3292EFC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11C2-4DAA-4C8E-8215-E3612A9B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00A08-2BDC-4A3C-A8E8-A690F27F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8E219-9125-45DB-9476-C29DFC2F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0697-4825-48F6-B9AA-77F9863D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4017F-87BC-48A9-B767-D14B1FF6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69C02-8DF2-4663-B91B-A30A9E5D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1457D-B243-4A00-A6C0-29E65399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10F5-A7A4-422F-A28F-5F615CD6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ECA2-AD46-450D-A102-D47FB740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712C-DD71-4E2F-83BC-240CCD5A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2CE10-E309-4182-A880-FAFDA4BC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6614E-A7DD-4D37-83C5-E47B007F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B09B9-07DF-4B41-A098-2F39312E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5391"/>
          <p:cNvSpPr/>
          <p:nvPr/>
        </p:nvSpPr>
        <p:spPr>
          <a:xfrm>
            <a:off x="5219640" y="6380280"/>
            <a:ext cx="3600360" cy="1443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1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268280"/>
            <a:ext cx="4427640" cy="360"/>
            <a:chOff x="0" y="1268280"/>
            <a:chExt cx="4427640" cy="360"/>
          </a:xfrm>
        </p:grpSpPr>
        <p:sp>
          <p:nvSpPr>
            <p:cNvPr id="2" name="直接连接符 15394"/>
            <p:cNvSpPr/>
            <p:nvPr/>
          </p:nvSpPr>
          <p:spPr>
            <a:xfrm>
              <a:off x="0" y="1268280"/>
              <a:ext cx="442764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0" y="1268280"/>
              <a:ext cx="442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" name="对象 154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D0CA-7B6B-4F9C-AFF2-45625EED1D5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组合 272387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组合 27238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任意多边形 272389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任意多边形 272390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任意多边形 272391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任意多边形 272392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任意多边形 272393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" name="任意多边形 272394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任意多边形 272395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1268280"/>
            <a:ext cx="4427640" cy="360"/>
            <a:chOff x="0" y="1268280"/>
            <a:chExt cx="4427640" cy="360"/>
          </a:xfrm>
        </p:grpSpPr>
        <p:sp>
          <p:nvSpPr>
            <p:cNvPr id="54" name="直接连接符 272399"/>
            <p:cNvSpPr/>
            <p:nvPr/>
          </p:nvSpPr>
          <p:spPr>
            <a:xfrm>
              <a:off x="0" y="1268280"/>
              <a:ext cx="4427640" cy="0"/>
            </a:xfrm>
            <a:prstGeom prst="line">
              <a:avLst/>
            </a:prstGeom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0" y="1268280"/>
              <a:ext cx="442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矩形 272400"/>
          <p:cNvSpPr/>
          <p:nvPr/>
        </p:nvSpPr>
        <p:spPr>
          <a:xfrm>
            <a:off x="0" y="1008000"/>
            <a:ext cx="2133720" cy="101520"/>
          </a:xfrm>
          <a:prstGeom prst="rect">
            <a:avLst/>
          </a:prstGeom>
          <a:solidFill>
            <a:srgbClr val="a886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矩形 272401"/>
          <p:cNvSpPr/>
          <p:nvPr/>
        </p:nvSpPr>
        <p:spPr>
          <a:xfrm>
            <a:off x="1447920" y="1008000"/>
            <a:ext cx="7238880" cy="101520"/>
          </a:xfrm>
          <a:prstGeom prst="rect">
            <a:avLst/>
          </a:prstGeom>
          <a:gradFill rotWithShape="0">
            <a:gsLst>
              <a:gs pos="0">
                <a:srgbClr val="a886e0"/>
              </a:gs>
              <a:gs pos="100000">
                <a:srgbClr val="00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组合 272404"/>
          <p:cNvGrpSpPr/>
          <p:nvPr/>
        </p:nvGrpSpPr>
        <p:grpSpPr>
          <a:xfrm>
            <a:off x="5622840" y="6488280"/>
            <a:ext cx="358920" cy="253800"/>
            <a:chOff x="5622840" y="6488280"/>
            <a:chExt cx="358920" cy="253800"/>
          </a:xfrm>
        </p:grpSpPr>
        <p:sp>
          <p:nvSpPr>
            <p:cNvPr id="59" name="等腰三角形 272405"/>
            <p:cNvSpPr/>
            <p:nvPr/>
          </p:nvSpPr>
          <p:spPr>
            <a:xfrm>
              <a:off x="5709240" y="6540120"/>
              <a:ext cx="185040" cy="1555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椭圆 272406"/>
            <p:cNvSpPr/>
            <p:nvPr/>
          </p:nvSpPr>
          <p:spPr>
            <a:xfrm>
              <a:off x="5622840" y="6690240"/>
              <a:ext cx="106200" cy="51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椭圆 272407"/>
            <p:cNvSpPr/>
            <p:nvPr/>
          </p:nvSpPr>
          <p:spPr>
            <a:xfrm>
              <a:off x="5749200" y="6488280"/>
              <a:ext cx="106200" cy="518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椭圆 272408"/>
            <p:cNvSpPr/>
            <p:nvPr/>
          </p:nvSpPr>
          <p:spPr>
            <a:xfrm>
              <a:off x="5875560" y="6690240"/>
              <a:ext cx="106200" cy="518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D047-73A0-4ACA-B688-8CFD53A1569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229C-D0D7-42A7-9AA0-07579B07F6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228600" y="990720"/>
            <a:ext cx="8610480" cy="360"/>
            <a:chOff x="228600" y="990720"/>
            <a:chExt cx="8610480" cy="360"/>
          </a:xfrm>
        </p:grpSpPr>
        <p:sp>
          <p:nvSpPr>
            <p:cNvPr id="143" name="直接连接符 16390"/>
            <p:cNvSpPr/>
            <p:nvPr/>
          </p:nvSpPr>
          <p:spPr>
            <a:xfrm>
              <a:off x="228600" y="990720"/>
              <a:ext cx="8610480" cy="0"/>
            </a:xfrm>
            <a:prstGeom prst="line">
              <a:avLst/>
            </a:prstGeom>
            <a:ln w="66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228600" y="990720"/>
              <a:ext cx="8610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组合 16391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46" name="矩形 16392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矩形 16393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矩形 16394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矩形 16395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矩形 16396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矩形 16397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矩形 16398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矩形 16399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矩形 16400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矩形 16401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矩形 16402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矩形 16403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矩形 16404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66760" y="6172200"/>
            <a:ext cx="8610480" cy="360"/>
            <a:chOff x="266760" y="6172200"/>
            <a:chExt cx="8610480" cy="360"/>
          </a:xfrm>
        </p:grpSpPr>
        <p:sp>
          <p:nvSpPr>
            <p:cNvPr id="160" name="直接连接符 16405"/>
            <p:cNvSpPr/>
            <p:nvPr/>
          </p:nvSpPr>
          <p:spPr>
            <a:xfrm>
              <a:off x="266760" y="6172200"/>
              <a:ext cx="8610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266760" y="6172200"/>
              <a:ext cx="8610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88E6-4B80-4A46-A8C3-6623F0E78E1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27340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2" name="组合 273410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3" name="任意多边形 273411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任意多边形 273412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任意多边形 273413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任意多边形 273414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任意多边形 273415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任意多边形 273416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任意多边形 273417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0EAD-4996-46C3-A8BE-7C7EA0843441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09320" y="4800600"/>
            <a:ext cx="1600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Times New Roman"/>
              </a:rPr>
              <a:t>标题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内容占位符 17438" descr=""/>
          <p:cNvPicPr/>
          <p:nvPr/>
        </p:nvPicPr>
        <p:blipFill>
          <a:blip r:embed="rId1"/>
          <a:stretch/>
        </p:blipFill>
        <p:spPr>
          <a:xfrm>
            <a:off x="0" y="5589720"/>
            <a:ext cx="1476360" cy="1268280"/>
          </a:xfrm>
          <a:prstGeom prst="rect">
            <a:avLst/>
          </a:prstGeom>
          <a:ln w="0">
            <a:noFill/>
          </a:ln>
        </p:spPr>
      </p:pic>
      <p:grpSp>
        <p:nvGrpSpPr>
          <p:cNvPr id="251" name="组合 17460"/>
          <p:cNvGrpSpPr/>
          <p:nvPr/>
        </p:nvGrpSpPr>
        <p:grpSpPr>
          <a:xfrm>
            <a:off x="1371600" y="1523880"/>
            <a:ext cx="6899040" cy="1783800"/>
            <a:chOff x="1371600" y="1523880"/>
            <a:chExt cx="6899040" cy="1783800"/>
          </a:xfrm>
        </p:grpSpPr>
        <p:sp>
          <p:nvSpPr>
            <p:cNvPr id="252" name="矩形 17435"/>
            <p:cNvSpPr/>
            <p:nvPr/>
          </p:nvSpPr>
          <p:spPr>
            <a:xfrm>
              <a:off x="1371600" y="2195280"/>
              <a:ext cx="68990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文本框 17443"/>
            <p:cNvSpPr/>
            <p:nvPr/>
          </p:nvSpPr>
          <p:spPr>
            <a:xfrm>
              <a:off x="1617480" y="1523880"/>
              <a:ext cx="648036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66"/>
                  </a:solidFill>
                  <a:latin typeface="Arial"/>
                  <a:ea typeface="黑体"/>
                </a:rPr>
                <a:t>普通高中技术课程标准</a:t>
              </a: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简    介</a:t>
              </a: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组合 17445"/>
          <p:cNvGrpSpPr/>
          <p:nvPr/>
        </p:nvGrpSpPr>
        <p:grpSpPr>
          <a:xfrm>
            <a:off x="1403280" y="1293840"/>
            <a:ext cx="432000" cy="306000"/>
            <a:chOff x="1403280" y="1293840"/>
            <a:chExt cx="432000" cy="306000"/>
          </a:xfrm>
        </p:grpSpPr>
        <p:sp>
          <p:nvSpPr>
            <p:cNvPr id="255" name="等腰三角形 17446"/>
            <p:cNvSpPr/>
            <p:nvPr/>
          </p:nvSpPr>
          <p:spPr>
            <a:xfrm>
              <a:off x="1507320" y="1356120"/>
              <a:ext cx="222480" cy="1879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椭圆 17447"/>
            <p:cNvSpPr/>
            <p:nvPr/>
          </p:nvSpPr>
          <p:spPr>
            <a:xfrm>
              <a:off x="1403280" y="1537560"/>
              <a:ext cx="127800" cy="6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椭圆 17448"/>
            <p:cNvSpPr/>
            <p:nvPr/>
          </p:nvSpPr>
          <p:spPr>
            <a:xfrm>
              <a:off x="1555200" y="1293840"/>
              <a:ext cx="127800" cy="622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椭圆 17449"/>
            <p:cNvSpPr/>
            <p:nvPr/>
          </p:nvSpPr>
          <p:spPr>
            <a:xfrm>
              <a:off x="1707480" y="1537560"/>
              <a:ext cx="127800" cy="622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8000" y="2060640"/>
            <a:ext cx="360" cy="3240000"/>
            <a:chOff x="108000" y="2060640"/>
            <a:chExt cx="360" cy="3240000"/>
          </a:xfrm>
        </p:grpSpPr>
        <p:sp>
          <p:nvSpPr>
            <p:cNvPr id="260" name="直接连接符 17450"/>
            <p:cNvSpPr/>
            <p:nvPr/>
          </p:nvSpPr>
          <p:spPr>
            <a:xfrm>
              <a:off x="108000" y="2060640"/>
              <a:ext cx="0" cy="3240000"/>
            </a:xfrm>
            <a:prstGeom prst="line">
              <a:avLst/>
            </a:prstGeom>
            <a:ln w="93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08000" y="2060640"/>
              <a:ext cx="360" cy="32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64960" y="2219400"/>
            <a:ext cx="360" cy="1800000"/>
            <a:chOff x="264960" y="2219400"/>
            <a:chExt cx="360" cy="1800000"/>
          </a:xfrm>
        </p:grpSpPr>
        <p:sp>
          <p:nvSpPr>
            <p:cNvPr id="263" name="直接连接符 17451"/>
            <p:cNvSpPr/>
            <p:nvPr/>
          </p:nvSpPr>
          <p:spPr>
            <a:xfrm>
              <a:off x="264960" y="2219400"/>
              <a:ext cx="0" cy="1800000"/>
            </a:xfrm>
            <a:prstGeom prst="line">
              <a:avLst/>
            </a:prstGeom>
            <a:ln w="93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64960" y="2219400"/>
              <a:ext cx="36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组合 17459"/>
          <p:cNvGrpSpPr/>
          <p:nvPr/>
        </p:nvGrpSpPr>
        <p:grpSpPr>
          <a:xfrm>
            <a:off x="395280" y="2205000"/>
            <a:ext cx="1008000" cy="144360"/>
            <a:chOff x="395280" y="2205000"/>
            <a:chExt cx="1008000" cy="144360"/>
          </a:xfrm>
        </p:grpSpPr>
        <p:sp>
          <p:nvSpPr>
            <p:cNvPr id="266" name="矩形 17454"/>
            <p:cNvSpPr/>
            <p:nvPr/>
          </p:nvSpPr>
          <p:spPr>
            <a:xfrm>
              <a:off x="395280" y="2205000"/>
              <a:ext cx="144360" cy="144360"/>
            </a:xfrm>
            <a:prstGeom prst="rect">
              <a:avLst/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矩形 17455"/>
            <p:cNvSpPr/>
            <p:nvPr/>
          </p:nvSpPr>
          <p:spPr>
            <a:xfrm>
              <a:off x="611280" y="2205000"/>
              <a:ext cx="144360" cy="144360"/>
            </a:xfrm>
            <a:prstGeom prst="rect">
              <a:avLst/>
            </a:prstGeom>
            <a:solidFill>
              <a:srgbClr val="c2b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矩形 17456"/>
            <p:cNvSpPr/>
            <p:nvPr/>
          </p:nvSpPr>
          <p:spPr>
            <a:xfrm>
              <a:off x="826920" y="2205000"/>
              <a:ext cx="144720" cy="1443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矩形 17457"/>
            <p:cNvSpPr/>
            <p:nvPr/>
          </p:nvSpPr>
          <p:spPr>
            <a:xfrm>
              <a:off x="1042920" y="2205000"/>
              <a:ext cx="144360" cy="14436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矩形 17458"/>
            <p:cNvSpPr/>
            <p:nvPr/>
          </p:nvSpPr>
          <p:spPr>
            <a:xfrm>
              <a:off x="1258920" y="2205000"/>
              <a:ext cx="144360" cy="1443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文本框 376834"/>
          <p:cNvSpPr/>
          <p:nvPr/>
        </p:nvSpPr>
        <p:spPr>
          <a:xfrm>
            <a:off x="1295280" y="609480"/>
            <a:ext cx="327672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椭圆 376836"/>
          <p:cNvSpPr/>
          <p:nvPr/>
        </p:nvSpPr>
        <p:spPr>
          <a:xfrm>
            <a:off x="2666880" y="5334120"/>
            <a:ext cx="2826000" cy="5331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理解技术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椭圆 376837"/>
          <p:cNvSpPr/>
          <p:nvPr/>
        </p:nvSpPr>
        <p:spPr>
          <a:xfrm>
            <a:off x="2666880" y="4191120"/>
            <a:ext cx="2826000" cy="5331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使用技术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椭圆 376838"/>
          <p:cNvSpPr/>
          <p:nvPr/>
        </p:nvSpPr>
        <p:spPr>
          <a:xfrm>
            <a:off x="2743200" y="3048120"/>
            <a:ext cx="2825640" cy="5331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管理技术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椭圆 376839"/>
          <p:cNvSpPr/>
          <p:nvPr/>
        </p:nvSpPr>
        <p:spPr>
          <a:xfrm>
            <a:off x="2819520" y="1905120"/>
            <a:ext cx="2825640" cy="5331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参与技术活动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技术素养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69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文本框 328705"/>
          <p:cNvSpPr/>
          <p:nvPr/>
        </p:nvSpPr>
        <p:spPr>
          <a:xfrm>
            <a:off x="457200" y="228600"/>
            <a:ext cx="46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黑体"/>
              </a:rPr>
              <a:t>着重培养的能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文本框 328706"/>
          <p:cNvSpPr/>
          <p:nvPr/>
        </p:nvSpPr>
        <p:spPr>
          <a:xfrm>
            <a:off x="152280" y="1676520"/>
            <a:ext cx="8796600" cy="38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信息的获取、加工、管理、表达与交流的能力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技术的理解、使用、改进及其决策的能力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意念的表达与理念转化为操作方案的能力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知识的整合、应用及物化的能力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创造性的想象、批判性的思维及问题解决的能力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9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信息文化与技术文化的理解、评价及其选择的能力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椭圆 378882"/>
          <p:cNvSpPr/>
          <p:nvPr/>
        </p:nvSpPr>
        <p:spPr>
          <a:xfrm>
            <a:off x="2209680" y="1600200"/>
            <a:ext cx="4530960" cy="4073400"/>
          </a:xfrm>
          <a:prstGeom prst="ellipse">
            <a:avLst/>
          </a:pr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文本框 378884"/>
          <p:cNvSpPr/>
          <p:nvPr/>
        </p:nvSpPr>
        <p:spPr>
          <a:xfrm>
            <a:off x="1676520" y="2743200"/>
            <a:ext cx="1079280" cy="134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基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础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矩形 378885"/>
          <p:cNvSpPr/>
          <p:nvPr/>
        </p:nvSpPr>
        <p:spPr>
          <a:xfrm>
            <a:off x="3276720" y="2634120"/>
            <a:ext cx="2222280" cy="581400"/>
          </a:xfrm>
          <a:prstGeom prst="rect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信息技术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文本框 378886"/>
          <p:cNvSpPr/>
          <p:nvPr/>
        </p:nvSpPr>
        <p:spPr>
          <a:xfrm>
            <a:off x="6095880" y="2743200"/>
            <a:ext cx="1079640" cy="134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时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代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矩形 378887"/>
          <p:cNvSpPr/>
          <p:nvPr/>
        </p:nvSpPr>
        <p:spPr>
          <a:xfrm>
            <a:off x="3276720" y="3837600"/>
            <a:ext cx="2297160" cy="581400"/>
          </a:xfrm>
          <a:prstGeom prst="rect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通用技术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文本框 378888"/>
          <p:cNvSpPr/>
          <p:nvPr/>
        </p:nvSpPr>
        <p:spPr>
          <a:xfrm>
            <a:off x="3652920" y="5105520"/>
            <a:ext cx="143028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性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择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选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419720" y="3276720"/>
            <a:ext cx="360" cy="595080"/>
            <a:chOff x="4419720" y="3276720"/>
            <a:chExt cx="360" cy="595080"/>
          </a:xfrm>
        </p:grpSpPr>
        <p:sp>
          <p:nvSpPr>
            <p:cNvPr id="380" name="直接连接符 378890"/>
            <p:cNvSpPr/>
            <p:nvPr/>
          </p:nvSpPr>
          <p:spPr>
            <a:xfrm>
              <a:off x="4419720" y="3276720"/>
              <a:ext cx="0" cy="595080"/>
            </a:xfrm>
            <a:prstGeom prst="line">
              <a:avLst/>
            </a:prstGeom>
            <a:ln w="5724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4419720" y="3276720"/>
              <a:ext cx="360" cy="59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419720" y="4495680"/>
            <a:ext cx="360" cy="1143000"/>
            <a:chOff x="4419720" y="4495680"/>
            <a:chExt cx="360" cy="1143000"/>
          </a:xfrm>
        </p:grpSpPr>
        <p:sp>
          <p:nvSpPr>
            <p:cNvPr id="383" name="直接连接符 378892"/>
            <p:cNvSpPr/>
            <p:nvPr/>
          </p:nvSpPr>
          <p:spPr>
            <a:xfrm>
              <a:off x="4419720" y="4495680"/>
              <a:ext cx="0" cy="1143000"/>
            </a:xfrm>
            <a:prstGeom prst="line">
              <a:avLst/>
            </a:prstGeom>
            <a:ln w="5724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4419720" y="449568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419720" y="1600200"/>
            <a:ext cx="360" cy="1052640"/>
            <a:chOff x="4419720" y="1600200"/>
            <a:chExt cx="360" cy="1052640"/>
          </a:xfrm>
        </p:grpSpPr>
        <p:sp>
          <p:nvSpPr>
            <p:cNvPr id="386" name="直接连接符 378893"/>
            <p:cNvSpPr/>
            <p:nvPr/>
          </p:nvSpPr>
          <p:spPr>
            <a:xfrm>
              <a:off x="4419720" y="1600200"/>
              <a:ext cx="0" cy="1052640"/>
            </a:xfrm>
            <a:prstGeom prst="line">
              <a:avLst/>
            </a:prstGeom>
            <a:ln w="5724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4419720" y="1600200"/>
              <a:ext cx="360" cy="10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宏观架构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89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75"/>
                            </p:stCondLst>
                            <p:childTnLst>
                              <p:par>
                                <p:cTn id="159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1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26"/>
                            </p:stCondLst>
                            <p:childTnLst>
                              <p:par>
                                <p:cTn id="165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226"/>
                            </p:stCondLst>
                            <p:childTnLst>
                              <p:par>
                                <p:cTn id="172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726"/>
                            </p:stCondLst>
                            <p:childTnLst>
                              <p:par>
                                <p:cTn id="17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226"/>
                            </p:stCondLst>
                            <p:childTnLst>
                              <p:par>
                                <p:cTn id="18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726"/>
                            </p:stCondLst>
                            <p:childTnLst>
                              <p:par>
                                <p:cTn id="18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组合 379905"/>
          <p:cNvGrpSpPr/>
          <p:nvPr/>
        </p:nvGrpSpPr>
        <p:grpSpPr>
          <a:xfrm>
            <a:off x="1905120" y="1523880"/>
            <a:ext cx="5819760" cy="3743280"/>
            <a:chOff x="1905120" y="1523880"/>
            <a:chExt cx="5819760" cy="3743280"/>
          </a:xfrm>
        </p:grpSpPr>
        <p:cxnSp>
          <p:nvCxnSpPr>
            <p:cNvPr id="391" name="直接箭头连接符 379906"/>
            <p:cNvCxnSpPr/>
            <p:nvPr/>
          </p:nvCxnSpPr>
          <p:spPr>
            <a:xfrm flipH="1" flipV="1">
              <a:off x="4744800" y="4595040"/>
              <a:ext cx="5760" cy="478800"/>
            </a:xfrm>
            <a:prstGeom prst="straightConnector1">
              <a:avLst/>
            </a:prstGeom>
            <a:ln w="108000">
              <a:solidFill>
                <a:srgbClr val="008000"/>
              </a:solidFill>
              <a:round/>
              <a:tailEnd len="med" type="triangle" w="med"/>
            </a:ln>
          </p:spPr>
        </p:cxnSp>
        <p:sp>
          <p:nvSpPr>
            <p:cNvPr id="392" name="文本框 379907"/>
            <p:cNvSpPr/>
            <p:nvPr/>
          </p:nvSpPr>
          <p:spPr>
            <a:xfrm>
              <a:off x="3967560" y="5068800"/>
              <a:ext cx="1787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文本框 379908"/>
            <p:cNvSpPr/>
            <p:nvPr/>
          </p:nvSpPr>
          <p:spPr>
            <a:xfrm>
              <a:off x="1905120" y="3508200"/>
              <a:ext cx="1568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文本框 379909"/>
            <p:cNvSpPr/>
            <p:nvPr/>
          </p:nvSpPr>
          <p:spPr>
            <a:xfrm>
              <a:off x="2060640" y="2730240"/>
              <a:ext cx="20386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文本框 379910"/>
            <p:cNvSpPr/>
            <p:nvPr/>
          </p:nvSpPr>
          <p:spPr>
            <a:xfrm>
              <a:off x="2319480" y="2036520"/>
              <a:ext cx="20383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文本框 379911"/>
            <p:cNvSpPr/>
            <p:nvPr/>
          </p:nvSpPr>
          <p:spPr>
            <a:xfrm>
              <a:off x="6158160" y="3562200"/>
              <a:ext cx="1566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文本框 379912"/>
            <p:cNvSpPr/>
            <p:nvPr/>
          </p:nvSpPr>
          <p:spPr>
            <a:xfrm>
              <a:off x="5985000" y="2793600"/>
              <a:ext cx="1568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文本框 379913"/>
            <p:cNvSpPr/>
            <p:nvPr/>
          </p:nvSpPr>
          <p:spPr>
            <a:xfrm>
              <a:off x="5545440" y="1962000"/>
              <a:ext cx="15667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295600" y="3717720"/>
              <a:ext cx="560880" cy="806400"/>
              <a:chOff x="5295600" y="3717720"/>
              <a:chExt cx="560880" cy="806400"/>
            </a:xfrm>
          </p:grpSpPr>
          <p:sp>
            <p:nvSpPr>
              <p:cNvPr id="400" name="直接连接符 379914"/>
              <p:cNvSpPr/>
              <p:nvPr/>
            </p:nvSpPr>
            <p:spPr>
              <a:xfrm flipH="1">
                <a:off x="5295600" y="3717720"/>
                <a:ext cx="560520" cy="80640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5295960" y="3717720"/>
                <a:ext cx="560520" cy="80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810240" y="2963520"/>
              <a:ext cx="663480" cy="1570320"/>
              <a:chOff x="3810240" y="2963520"/>
              <a:chExt cx="663480" cy="1570320"/>
            </a:xfrm>
          </p:grpSpPr>
          <p:sp>
            <p:nvSpPr>
              <p:cNvPr id="403" name="直接连接符 379915"/>
              <p:cNvSpPr/>
              <p:nvPr/>
            </p:nvSpPr>
            <p:spPr>
              <a:xfrm>
                <a:off x="3810240" y="2963520"/>
                <a:ext cx="663480" cy="157032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3810240" y="2963520"/>
                <a:ext cx="663480" cy="1570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130720" y="3006360"/>
              <a:ext cx="493920" cy="1527480"/>
              <a:chOff x="5130720" y="3006360"/>
              <a:chExt cx="493920" cy="1527480"/>
            </a:xfrm>
          </p:grpSpPr>
          <p:sp>
            <p:nvSpPr>
              <p:cNvPr id="406" name="直接连接符 379916"/>
              <p:cNvSpPr/>
              <p:nvPr/>
            </p:nvSpPr>
            <p:spPr>
              <a:xfrm flipH="1">
                <a:off x="5130720" y="3006360"/>
                <a:ext cx="493560" cy="152748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5131080" y="3006360"/>
                <a:ext cx="493560" cy="1527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3959640" y="2249640"/>
              <a:ext cx="806760" cy="2180160"/>
              <a:chOff x="3959640" y="2249640"/>
              <a:chExt cx="806760" cy="2180160"/>
            </a:xfrm>
          </p:grpSpPr>
          <p:sp>
            <p:nvSpPr>
              <p:cNvPr id="409" name="直接连接符 379917"/>
              <p:cNvSpPr/>
              <p:nvPr/>
            </p:nvSpPr>
            <p:spPr>
              <a:xfrm>
                <a:off x="4092840" y="2249640"/>
                <a:ext cx="540000" cy="218016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 rot="20551200">
                <a:off x="4293000" y="2218680"/>
                <a:ext cx="139680" cy="224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967640" y="2174760"/>
              <a:ext cx="328320" cy="2359080"/>
              <a:chOff x="4967640" y="2174760"/>
              <a:chExt cx="328320" cy="2359080"/>
            </a:xfrm>
          </p:grpSpPr>
          <p:sp>
            <p:nvSpPr>
              <p:cNvPr id="412" name="直接连接符 379918"/>
              <p:cNvSpPr/>
              <p:nvPr/>
            </p:nvSpPr>
            <p:spPr>
              <a:xfrm flipH="1">
                <a:off x="4967640" y="2174760"/>
                <a:ext cx="328320" cy="235908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4967640" y="2174760"/>
                <a:ext cx="328320" cy="235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4" name="文本框 379919"/>
            <p:cNvSpPr/>
            <p:nvPr/>
          </p:nvSpPr>
          <p:spPr>
            <a:xfrm>
              <a:off x="4145040" y="1523880"/>
              <a:ext cx="1567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54000" bIns="0" anchor="t">
              <a:no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802400" y="1896840"/>
              <a:ext cx="360" cy="2622600"/>
              <a:chOff x="4802400" y="1896840"/>
              <a:chExt cx="360" cy="2622600"/>
            </a:xfrm>
          </p:grpSpPr>
          <p:sp>
            <p:nvSpPr>
              <p:cNvPr id="416" name="直接连接符 379920"/>
              <p:cNvSpPr/>
              <p:nvPr/>
            </p:nvSpPr>
            <p:spPr>
              <a:xfrm>
                <a:off x="4802400" y="1896840"/>
                <a:ext cx="0" cy="262260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 txBox="1"/>
              <p:nvPr/>
            </p:nvSpPr>
            <p:spPr>
              <a:xfrm>
                <a:off x="4802400" y="1896840"/>
                <a:ext cx="360" cy="262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556080" y="3715920"/>
              <a:ext cx="657360" cy="876600"/>
              <a:chOff x="3556080" y="3715920"/>
              <a:chExt cx="657360" cy="876600"/>
            </a:xfrm>
          </p:grpSpPr>
          <p:sp>
            <p:nvSpPr>
              <p:cNvPr id="419" name="直接连接符 379921"/>
              <p:cNvSpPr/>
              <p:nvPr/>
            </p:nvSpPr>
            <p:spPr>
              <a:xfrm>
                <a:off x="3556080" y="3715920"/>
                <a:ext cx="657360" cy="876600"/>
              </a:xfrm>
              <a:prstGeom prst="line">
                <a:avLst/>
              </a:prstGeom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>
                <a:off x="3556080" y="3715920"/>
                <a:ext cx="657360" cy="87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流程图: 准备 379922"/>
          <p:cNvSpPr/>
          <p:nvPr/>
        </p:nvSpPr>
        <p:spPr>
          <a:xfrm>
            <a:off x="838080" y="1981080"/>
            <a:ext cx="3327480" cy="544680"/>
          </a:xfrm>
          <a:prstGeom prst="flowChartPreparation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简易机器人制作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流程图: 准备 379923"/>
          <p:cNvSpPr/>
          <p:nvPr/>
        </p:nvSpPr>
        <p:spPr>
          <a:xfrm>
            <a:off x="3429000" y="1371600"/>
            <a:ext cx="2895480" cy="546120"/>
          </a:xfrm>
          <a:prstGeom prst="flowChartPreparation">
            <a:avLst/>
          </a:prstGeom>
          <a:solidFill>
            <a:srgbClr val="ff66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现代农业技术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流程图: 准备 379924"/>
          <p:cNvSpPr/>
          <p:nvPr/>
        </p:nvSpPr>
        <p:spPr>
          <a:xfrm>
            <a:off x="5257800" y="1905120"/>
            <a:ext cx="3276720" cy="533160"/>
          </a:xfrm>
          <a:prstGeom prst="flowChartPreparation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汽车驾驶与保养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流程图: 准备 379925"/>
          <p:cNvSpPr/>
          <p:nvPr/>
        </p:nvSpPr>
        <p:spPr>
          <a:xfrm>
            <a:off x="685800" y="2666880"/>
            <a:ext cx="3251160" cy="544680"/>
          </a:xfrm>
          <a:prstGeom prst="flowChartPreparation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建筑及其设计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流程图: 准备 379927"/>
          <p:cNvSpPr/>
          <p:nvPr/>
        </p:nvSpPr>
        <p:spPr>
          <a:xfrm>
            <a:off x="5486400" y="2666880"/>
            <a:ext cx="3048120" cy="533520"/>
          </a:xfrm>
          <a:prstGeom prst="flowChartPreparation">
            <a:avLst/>
          </a:prstGeom>
          <a:solidFill>
            <a:srgbClr val="ff66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服装及其设计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流程图: 准备 379928"/>
          <p:cNvSpPr/>
          <p:nvPr/>
        </p:nvSpPr>
        <p:spPr>
          <a:xfrm>
            <a:off x="5638680" y="3429000"/>
            <a:ext cx="3200400" cy="533520"/>
          </a:xfrm>
          <a:prstGeom prst="flowChartPreparation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家政与生活技术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流程图: 准备 379929"/>
          <p:cNvSpPr/>
          <p:nvPr/>
        </p:nvSpPr>
        <p:spPr>
          <a:xfrm>
            <a:off x="762120" y="3352680"/>
            <a:ext cx="2946240" cy="544680"/>
          </a:xfrm>
          <a:prstGeom prst="flowChartPreparation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电子控制技术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任意多边形 379930"/>
          <p:cNvSpPr/>
          <p:nvPr/>
        </p:nvSpPr>
        <p:spPr>
          <a:xfrm flipV="1">
            <a:off x="3352680" y="5029200"/>
            <a:ext cx="2819520" cy="53352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技术与设计</a:t>
            </a:r>
            <a:r>
              <a:rPr b="1" lang="en-US" sz="2000" spc="-1" strike="noStrike">
                <a:solidFill>
                  <a:srgbClr val="ffff00"/>
                </a:solidFill>
                <a:latin typeface="宋体"/>
              </a:rPr>
              <a:t>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任意多边形 379932"/>
          <p:cNvSpPr/>
          <p:nvPr/>
        </p:nvSpPr>
        <p:spPr>
          <a:xfrm flipV="1">
            <a:off x="3505320" y="4114800"/>
            <a:ext cx="2438280" cy="5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矩形 379933"/>
          <p:cNvSpPr/>
          <p:nvPr/>
        </p:nvSpPr>
        <p:spPr>
          <a:xfrm>
            <a:off x="3962520" y="4191120"/>
            <a:ext cx="1717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技术与设计</a:t>
            </a:r>
            <a:r>
              <a:rPr b="1" lang="en-US" sz="2000" spc="-1" strike="noStrike">
                <a:solidFill>
                  <a:srgbClr val="ffff00"/>
                </a:solidFill>
                <a:latin typeface="宋体"/>
              </a:rPr>
              <a:t>Ⅱ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矩形 379934"/>
          <p:cNvSpPr/>
          <p:nvPr/>
        </p:nvSpPr>
        <p:spPr>
          <a:xfrm>
            <a:off x="457200" y="152280"/>
            <a:ext cx="5562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Garamond"/>
                <a:ea typeface="宋体"/>
              </a:rPr>
              <a:t>通用技术模块结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通用技术模块结构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433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组合 380930"/>
          <p:cNvGrpSpPr/>
          <p:nvPr/>
        </p:nvGrpSpPr>
        <p:grpSpPr>
          <a:xfrm>
            <a:off x="228600" y="1905120"/>
            <a:ext cx="8424720" cy="3182760"/>
            <a:chOff x="228600" y="1905120"/>
            <a:chExt cx="8424720" cy="3182760"/>
          </a:xfrm>
        </p:grpSpPr>
        <p:sp>
          <p:nvSpPr>
            <p:cNvPr id="435" name="矩形 380931"/>
            <p:cNvSpPr/>
            <p:nvPr/>
          </p:nvSpPr>
          <p:spPr>
            <a:xfrm>
              <a:off x="228600" y="4440240"/>
              <a:ext cx="20890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技术及其性质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矩形 380932"/>
            <p:cNvSpPr/>
            <p:nvPr/>
          </p:nvSpPr>
          <p:spPr>
            <a:xfrm>
              <a:off x="2604960" y="4440240"/>
              <a:ext cx="165744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设计过程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矩形 380933"/>
            <p:cNvSpPr/>
            <p:nvPr/>
          </p:nvSpPr>
          <p:spPr>
            <a:xfrm>
              <a:off x="4549680" y="4440240"/>
              <a:ext cx="20890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设计的交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矩形 380934"/>
            <p:cNvSpPr/>
            <p:nvPr/>
          </p:nvSpPr>
          <p:spPr>
            <a:xfrm>
              <a:off x="6853320" y="4440240"/>
              <a:ext cx="180000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设计的评价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直接连接符 380935"/>
            <p:cNvSpPr/>
            <p:nvPr/>
          </p:nvSpPr>
          <p:spPr>
            <a:xfrm>
              <a:off x="1324080" y="3618000"/>
              <a:ext cx="360" cy="792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直接连接符 380936"/>
            <p:cNvSpPr/>
            <p:nvPr/>
          </p:nvSpPr>
          <p:spPr>
            <a:xfrm>
              <a:off x="3425760" y="3632040"/>
              <a:ext cx="360" cy="792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直接连接符 380937"/>
            <p:cNvSpPr/>
            <p:nvPr/>
          </p:nvSpPr>
          <p:spPr>
            <a:xfrm>
              <a:off x="5614920" y="3646440"/>
              <a:ext cx="360" cy="792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直接连接符 380938"/>
            <p:cNvSpPr/>
            <p:nvPr/>
          </p:nvSpPr>
          <p:spPr>
            <a:xfrm>
              <a:off x="7645320" y="3618000"/>
              <a:ext cx="360" cy="792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直接连接符 380939"/>
            <p:cNvSpPr/>
            <p:nvPr/>
          </p:nvSpPr>
          <p:spPr>
            <a:xfrm>
              <a:off x="4405320" y="2595600"/>
              <a:ext cx="360" cy="1008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矩形 380940"/>
            <p:cNvSpPr/>
            <p:nvPr/>
          </p:nvSpPr>
          <p:spPr>
            <a:xfrm>
              <a:off x="3110040" y="1905120"/>
              <a:ext cx="266544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技术与设计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Ⅰ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直接连接符 380941"/>
            <p:cNvSpPr/>
            <p:nvPr/>
          </p:nvSpPr>
          <p:spPr>
            <a:xfrm>
              <a:off x="1309680" y="3618000"/>
              <a:ext cx="6335640" cy="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必修课程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447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381965"/>
          <p:cNvGrpSpPr/>
          <p:nvPr/>
        </p:nvGrpSpPr>
        <p:grpSpPr>
          <a:xfrm>
            <a:off x="304920" y="1752480"/>
            <a:ext cx="8351640" cy="3166920"/>
            <a:chOff x="304920" y="1752480"/>
            <a:chExt cx="8351640" cy="3166920"/>
          </a:xfrm>
        </p:grpSpPr>
        <p:sp>
          <p:nvSpPr>
            <p:cNvPr id="449" name="矩形 381966"/>
            <p:cNvSpPr/>
            <p:nvPr/>
          </p:nvSpPr>
          <p:spPr>
            <a:xfrm>
              <a:off x="4552920" y="4271760"/>
              <a:ext cx="20890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系统与设计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直接连接符 381967"/>
            <p:cNvSpPr/>
            <p:nvPr/>
          </p:nvSpPr>
          <p:spPr>
            <a:xfrm>
              <a:off x="5618160" y="3477960"/>
              <a:ext cx="360" cy="792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矩形 381968"/>
            <p:cNvSpPr/>
            <p:nvPr/>
          </p:nvSpPr>
          <p:spPr>
            <a:xfrm>
              <a:off x="2465280" y="4271760"/>
              <a:ext cx="19432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流程与设计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直接连接符 381969"/>
            <p:cNvSpPr/>
            <p:nvPr/>
          </p:nvSpPr>
          <p:spPr>
            <a:xfrm>
              <a:off x="3429000" y="3463560"/>
              <a:ext cx="360" cy="792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矩形 381970"/>
            <p:cNvSpPr/>
            <p:nvPr/>
          </p:nvSpPr>
          <p:spPr>
            <a:xfrm>
              <a:off x="304920" y="4271760"/>
              <a:ext cx="194292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结构与设计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矩形 381971"/>
            <p:cNvSpPr/>
            <p:nvPr/>
          </p:nvSpPr>
          <p:spPr>
            <a:xfrm>
              <a:off x="6856560" y="4271760"/>
              <a:ext cx="180000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控制与设计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直接连接符 381972"/>
            <p:cNvSpPr/>
            <p:nvPr/>
          </p:nvSpPr>
          <p:spPr>
            <a:xfrm>
              <a:off x="1312920" y="3449520"/>
              <a:ext cx="6335640" cy="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直接连接符 381973"/>
            <p:cNvSpPr/>
            <p:nvPr/>
          </p:nvSpPr>
          <p:spPr>
            <a:xfrm>
              <a:off x="1327320" y="3449520"/>
              <a:ext cx="360" cy="792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直接连接符 381974"/>
            <p:cNvSpPr/>
            <p:nvPr/>
          </p:nvSpPr>
          <p:spPr>
            <a:xfrm>
              <a:off x="7648560" y="3449520"/>
              <a:ext cx="360" cy="792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直接连接符 381975"/>
            <p:cNvSpPr/>
            <p:nvPr/>
          </p:nvSpPr>
          <p:spPr>
            <a:xfrm>
              <a:off x="4408560" y="2427120"/>
              <a:ext cx="360" cy="100800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矩形 381976"/>
            <p:cNvSpPr/>
            <p:nvPr/>
          </p:nvSpPr>
          <p:spPr>
            <a:xfrm>
              <a:off x="3124080" y="1752480"/>
              <a:ext cx="266544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技术与设计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Ⅱ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Times New Roman"/>
              </a:rPr>
              <a:t>框架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461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组合 382978"/>
          <p:cNvGrpSpPr/>
          <p:nvPr/>
        </p:nvGrpSpPr>
        <p:grpSpPr>
          <a:xfrm>
            <a:off x="1476360" y="1268280"/>
            <a:ext cx="6048360" cy="4969080"/>
            <a:chOff x="1476360" y="1268280"/>
            <a:chExt cx="6048360" cy="4969080"/>
          </a:xfrm>
        </p:grpSpPr>
        <p:sp>
          <p:nvSpPr>
            <p:cNvPr id="463" name="矩形 382979"/>
            <p:cNvSpPr/>
            <p:nvPr/>
          </p:nvSpPr>
          <p:spPr>
            <a:xfrm>
              <a:off x="1476360" y="4149720"/>
              <a:ext cx="20890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建筑及其设计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矩形 382980"/>
            <p:cNvSpPr/>
            <p:nvPr/>
          </p:nvSpPr>
          <p:spPr>
            <a:xfrm>
              <a:off x="1477800" y="5589720"/>
              <a:ext cx="20908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简易机器人制作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矩形 382981"/>
            <p:cNvSpPr/>
            <p:nvPr/>
          </p:nvSpPr>
          <p:spPr>
            <a:xfrm>
              <a:off x="1476360" y="2637000"/>
              <a:ext cx="20908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电子控制技术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圆角矩形标注 382982"/>
            <p:cNvSpPr/>
            <p:nvPr/>
          </p:nvSpPr>
          <p:spPr>
            <a:xfrm>
              <a:off x="4425840" y="1268280"/>
              <a:ext cx="3098880" cy="1511280"/>
            </a:xfrm>
            <a:prstGeom prst="wedgeRoundRectCallout">
              <a:avLst>
                <a:gd name="adj1" fmla="val -69263"/>
                <a:gd name="adj2" fmla="val 40546"/>
                <a:gd name="adj3" fmla="val 16667"/>
              </a:avLst>
            </a:prstGeom>
            <a:solidFill>
              <a:srgbClr val="ccff99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传感器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数字电路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电磁继电器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电子控制系统及其应用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圆角矩形标注 382983"/>
            <p:cNvSpPr/>
            <p:nvPr/>
          </p:nvSpPr>
          <p:spPr>
            <a:xfrm>
              <a:off x="4500720" y="2852640"/>
              <a:ext cx="3024000" cy="1513080"/>
            </a:xfrm>
            <a:prstGeom prst="wedgeRoundRectCallout">
              <a:avLst>
                <a:gd name="adj1" fmla="val -74041"/>
                <a:gd name="adj2" fmla="val 41291"/>
                <a:gd name="adj3" fmla="val 16667"/>
              </a:avLst>
            </a:prstGeom>
            <a:solidFill>
              <a:srgbClr val="ccff99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建筑与文化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建筑结构及其简单设计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建筑材料及其加工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建筑构造及其设计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圆角矩形标注 382984"/>
            <p:cNvSpPr/>
            <p:nvPr/>
          </p:nvSpPr>
          <p:spPr>
            <a:xfrm>
              <a:off x="4500720" y="4510080"/>
              <a:ext cx="3024000" cy="1224000"/>
            </a:xfrm>
            <a:prstGeom prst="wedgeRoundRectCallout">
              <a:avLst>
                <a:gd name="adj1" fmla="val -73620"/>
                <a:gd name="adj2" fmla="val 53499"/>
                <a:gd name="adj3" fmla="val 16667"/>
              </a:avLst>
            </a:prstGeom>
            <a:solidFill>
              <a:srgbClr val="ccff99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单片机及其控制程序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单片机与控制电路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单片机与传统机械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黑体"/>
                <a:ea typeface="黑体"/>
              </a:rPr>
              <a:t>选修课程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470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组合 384001"/>
          <p:cNvGrpSpPr/>
          <p:nvPr/>
        </p:nvGrpSpPr>
        <p:grpSpPr>
          <a:xfrm>
            <a:off x="971640" y="1523880"/>
            <a:ext cx="7035840" cy="3803400"/>
            <a:chOff x="971640" y="1523880"/>
            <a:chExt cx="7035840" cy="3803400"/>
          </a:xfrm>
        </p:grpSpPr>
        <p:sp>
          <p:nvSpPr>
            <p:cNvPr id="472" name="矩形 384002"/>
            <p:cNvSpPr/>
            <p:nvPr/>
          </p:nvSpPr>
          <p:spPr>
            <a:xfrm>
              <a:off x="7408800" y="2950920"/>
              <a:ext cx="598680" cy="23749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农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副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产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品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的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营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销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矩形 384003"/>
            <p:cNvSpPr/>
            <p:nvPr/>
          </p:nvSpPr>
          <p:spPr>
            <a:xfrm>
              <a:off x="6099120" y="2952360"/>
              <a:ext cx="598680" cy="23749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病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虫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害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预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测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及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综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合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治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理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矩形 384004"/>
            <p:cNvSpPr/>
            <p:nvPr/>
          </p:nvSpPr>
          <p:spPr>
            <a:xfrm>
              <a:off x="4716360" y="2938320"/>
              <a:ext cx="598680" cy="23749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营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养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与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料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矩形 384005"/>
            <p:cNvSpPr/>
            <p:nvPr/>
          </p:nvSpPr>
          <p:spPr>
            <a:xfrm>
              <a:off x="3397320" y="2950920"/>
              <a:ext cx="598320" cy="23749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无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土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栽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矩形 384006"/>
            <p:cNvSpPr/>
            <p:nvPr/>
          </p:nvSpPr>
          <p:spPr>
            <a:xfrm>
              <a:off x="2116080" y="2949480"/>
              <a:ext cx="598680" cy="237456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品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种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资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源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的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保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护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和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引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进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矩形 384007"/>
            <p:cNvSpPr/>
            <p:nvPr/>
          </p:nvSpPr>
          <p:spPr>
            <a:xfrm>
              <a:off x="971640" y="2952360"/>
              <a:ext cx="598320" cy="23749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绿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色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食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品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直接连接符 384008"/>
            <p:cNvSpPr/>
            <p:nvPr/>
          </p:nvSpPr>
          <p:spPr>
            <a:xfrm>
              <a:off x="3708360" y="2547720"/>
              <a:ext cx="360" cy="387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直接连接符 384009"/>
            <p:cNvSpPr/>
            <p:nvPr/>
          </p:nvSpPr>
          <p:spPr>
            <a:xfrm>
              <a:off x="5003640" y="2547720"/>
              <a:ext cx="360" cy="387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直接连接符 384010"/>
            <p:cNvSpPr/>
            <p:nvPr/>
          </p:nvSpPr>
          <p:spPr>
            <a:xfrm>
              <a:off x="1324080" y="2543040"/>
              <a:ext cx="360" cy="387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直接连接符 384011"/>
            <p:cNvSpPr/>
            <p:nvPr/>
          </p:nvSpPr>
          <p:spPr>
            <a:xfrm>
              <a:off x="2484360" y="2550960"/>
              <a:ext cx="360" cy="387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直接连接符 384012"/>
            <p:cNvSpPr/>
            <p:nvPr/>
          </p:nvSpPr>
          <p:spPr>
            <a:xfrm>
              <a:off x="6372360" y="2557080"/>
              <a:ext cx="360" cy="387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直接连接符 384013"/>
            <p:cNvSpPr/>
            <p:nvPr/>
          </p:nvSpPr>
          <p:spPr>
            <a:xfrm>
              <a:off x="7740720" y="2543040"/>
              <a:ext cx="360" cy="387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直接连接符 384014"/>
            <p:cNvSpPr/>
            <p:nvPr/>
          </p:nvSpPr>
          <p:spPr>
            <a:xfrm>
              <a:off x="4451400" y="2043000"/>
              <a:ext cx="360" cy="4935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直接连接符 384015"/>
            <p:cNvSpPr/>
            <p:nvPr/>
          </p:nvSpPr>
          <p:spPr>
            <a:xfrm>
              <a:off x="1309680" y="2543040"/>
              <a:ext cx="6431040" cy="360"/>
            </a:xfrm>
            <a:prstGeom prst="lin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矩形 384016"/>
            <p:cNvSpPr/>
            <p:nvPr/>
          </p:nvSpPr>
          <p:spPr>
            <a:xfrm>
              <a:off x="3137040" y="1523880"/>
              <a:ext cx="2705040" cy="51912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现代农业技术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矩形 384017"/>
          <p:cNvSpPr/>
          <p:nvPr/>
        </p:nvSpPr>
        <p:spPr>
          <a:xfrm>
            <a:off x="2057400" y="5718960"/>
            <a:ext cx="5029200" cy="5205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514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本模块采用专题研修形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Times New Roman"/>
              </a:rPr>
              <a:t>农业基础模块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489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组合 385025"/>
          <p:cNvGrpSpPr/>
          <p:nvPr/>
        </p:nvGrpSpPr>
        <p:grpSpPr>
          <a:xfrm>
            <a:off x="1476360" y="1268280"/>
            <a:ext cx="5975280" cy="5113440"/>
            <a:chOff x="1476360" y="1268280"/>
            <a:chExt cx="5975280" cy="5113440"/>
          </a:xfrm>
        </p:grpSpPr>
        <p:sp>
          <p:nvSpPr>
            <p:cNvPr id="491" name="矩形 385026"/>
            <p:cNvSpPr/>
            <p:nvPr/>
          </p:nvSpPr>
          <p:spPr>
            <a:xfrm>
              <a:off x="1476360" y="4294080"/>
              <a:ext cx="20890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服装及其设计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矩形 385027"/>
            <p:cNvSpPr/>
            <p:nvPr/>
          </p:nvSpPr>
          <p:spPr>
            <a:xfrm>
              <a:off x="1477800" y="5734080"/>
              <a:ext cx="20908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汽车驾驶与保养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矩形 385028"/>
            <p:cNvSpPr/>
            <p:nvPr/>
          </p:nvSpPr>
          <p:spPr>
            <a:xfrm>
              <a:off x="1476360" y="2781360"/>
              <a:ext cx="2090880" cy="647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家政与生活技术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圆角矩形标注 385029"/>
            <p:cNvSpPr/>
            <p:nvPr/>
          </p:nvSpPr>
          <p:spPr>
            <a:xfrm>
              <a:off x="4425840" y="1268280"/>
              <a:ext cx="3025800" cy="1511280"/>
            </a:xfrm>
            <a:prstGeom prst="wedgeRoundRectCallout">
              <a:avLst>
                <a:gd name="adj1" fmla="val -69726"/>
                <a:gd name="adj2" fmla="val 40546"/>
                <a:gd name="adj3" fmla="val 16667"/>
              </a:avLst>
            </a:prstGeom>
            <a:solidFill>
              <a:srgbClr val="ccff99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家政概述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家庭管理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家庭理财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家庭保健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圆角矩形标注 385030"/>
            <p:cNvSpPr/>
            <p:nvPr/>
          </p:nvSpPr>
          <p:spPr>
            <a:xfrm>
              <a:off x="4500720" y="2852640"/>
              <a:ext cx="2879640" cy="1513080"/>
            </a:xfrm>
            <a:prstGeom prst="wedgeRoundRectCallout">
              <a:avLst>
                <a:gd name="adj1" fmla="val -75250"/>
                <a:gd name="adj2" fmla="val 41291"/>
                <a:gd name="adj3" fmla="val 16667"/>
              </a:avLst>
            </a:prstGeom>
            <a:solidFill>
              <a:srgbClr val="ccff99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服装与材料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服装与文化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着装设计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服装设计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圆角矩形标注 385031"/>
            <p:cNvSpPr/>
            <p:nvPr/>
          </p:nvSpPr>
          <p:spPr>
            <a:xfrm>
              <a:off x="4500720" y="4510080"/>
              <a:ext cx="2950920" cy="1511280"/>
            </a:xfrm>
            <a:prstGeom prst="wedgeRoundRectCallout">
              <a:avLst>
                <a:gd name="adj1" fmla="val -74208"/>
                <a:gd name="adj2" fmla="val 33824"/>
                <a:gd name="adj3" fmla="val 16667"/>
              </a:avLst>
            </a:prstGeom>
            <a:solidFill>
              <a:srgbClr val="ccff99"/>
            </a:solidFill>
            <a:ln w="2844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汽车构造与工作原理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汽车驾驶有关法规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汽车驾驶技术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514"/>
                  </a:solidFill>
                  <a:latin typeface="Times New Roman"/>
                  <a:ea typeface="宋体"/>
                </a:rPr>
                <a:t>汽车例行保养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Times New Roman"/>
              </a:rPr>
              <a:t>其他模块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498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386050"/>
          <p:cNvSpPr/>
          <p:nvPr/>
        </p:nvSpPr>
        <p:spPr>
          <a:xfrm>
            <a:off x="735120" y="2103480"/>
            <a:ext cx="604656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 2" charset="2"/>
              <a:buChar char="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华文新魏"/>
              </a:rPr>
              <a:t>目标认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 2" charset="2"/>
              <a:buChar char="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华文新魏"/>
              </a:rPr>
              <a:t>价值认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 2" charset="2"/>
              <a:buChar char="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华文新魏"/>
              </a:rPr>
              <a:t>条件认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课程内容确立的依据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501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372744"/>
          <p:cNvSpPr/>
          <p:nvPr/>
        </p:nvSpPr>
        <p:spPr>
          <a:xfrm>
            <a:off x="2362320" y="1447920"/>
            <a:ext cx="4572000" cy="382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课程确立的基础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课程目标的定位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课程内容的结构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课程标准的特点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文本框 372745"/>
          <p:cNvSpPr/>
          <p:nvPr/>
        </p:nvSpPr>
        <p:spPr>
          <a:xfrm>
            <a:off x="1905120" y="5257800"/>
            <a:ext cx="4267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文本框 372746"/>
          <p:cNvSpPr/>
          <p:nvPr/>
        </p:nvSpPr>
        <p:spPr>
          <a:xfrm>
            <a:off x="1447920" y="5715000"/>
            <a:ext cx="4267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宋体"/>
              </a:rPr>
              <a:t>  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图片 372748" descr="BD14752_"/>
          <p:cNvPicPr/>
          <p:nvPr/>
        </p:nvPicPr>
        <p:blipFill>
          <a:blip r:embed="rId1"/>
          <a:stretch/>
        </p:blipFill>
        <p:spPr>
          <a:xfrm>
            <a:off x="205740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372750" descr="BD14752_"/>
          <p:cNvPicPr/>
          <p:nvPr/>
        </p:nvPicPr>
        <p:blipFill>
          <a:blip r:embed="rId2"/>
          <a:stretch/>
        </p:blipFill>
        <p:spPr>
          <a:xfrm>
            <a:off x="205740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372751" descr="BD14752_"/>
          <p:cNvPicPr/>
          <p:nvPr/>
        </p:nvPicPr>
        <p:blipFill>
          <a:blip r:embed="rId3"/>
          <a:stretch/>
        </p:blipFill>
        <p:spPr>
          <a:xfrm>
            <a:off x="205740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372752" descr="BD14752_"/>
          <p:cNvPicPr/>
          <p:nvPr/>
        </p:nvPicPr>
        <p:blipFill>
          <a:blip r:embed="rId4"/>
          <a:stretch/>
        </p:blipFill>
        <p:spPr>
          <a:xfrm>
            <a:off x="2057400" y="4572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Times New Roman"/>
              </a:rPr>
              <a:t>目录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79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388099"/>
          <p:cNvSpPr/>
          <p:nvPr/>
        </p:nvSpPr>
        <p:spPr>
          <a:xfrm>
            <a:off x="380880" y="1600200"/>
            <a:ext cx="8763120" cy="37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楷体_GB2312"/>
              <a:buChar char="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设立技术学习领域，形成新的课程形态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楷体_GB2312"/>
              <a:buChar char="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回归技术素养，突出创新精神和实践能力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楷体_GB2312"/>
              <a:buChar char="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立足生活世界，拓展学习空间，提高技术含量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楷体_GB2312"/>
              <a:buChar char="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凸显技术的通用性、基础性、现代性，增强适应性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楷体_GB2312"/>
              <a:buChar char="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注重条件替代，强调资源整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楷体_GB2312"/>
              <a:buChar char="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建立合理的评价机制，探索技术证书制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图片 388100" descr="BD15056_"/>
          <p:cNvPicPr/>
          <p:nvPr/>
        </p:nvPicPr>
        <p:blipFill>
          <a:blip r:embed="rId1"/>
          <a:stretch/>
        </p:blipFill>
        <p:spPr>
          <a:xfrm>
            <a:off x="457200" y="304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技术课程的主要突破点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505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文本框 295937"/>
          <p:cNvSpPr/>
          <p:nvPr/>
        </p:nvSpPr>
        <p:spPr>
          <a:xfrm>
            <a:off x="14400" y="401760"/>
            <a:ext cx="92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回归技术素养，突出创新精神和实践能力的培养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文本框 295939"/>
          <p:cNvSpPr/>
          <p:nvPr/>
        </p:nvSpPr>
        <p:spPr>
          <a:xfrm>
            <a:off x="538200" y="2217600"/>
            <a:ext cx="331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体验技术过程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注重技术方法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关注技术文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组合 295947"/>
          <p:cNvGrpSpPr/>
          <p:nvPr/>
        </p:nvGrpSpPr>
        <p:grpSpPr>
          <a:xfrm>
            <a:off x="3886200" y="2819520"/>
            <a:ext cx="5013360" cy="2296800"/>
            <a:chOff x="3886200" y="2819520"/>
            <a:chExt cx="5013360" cy="2296800"/>
          </a:xfrm>
        </p:grpSpPr>
        <p:sp>
          <p:nvSpPr>
            <p:cNvPr id="509" name="文本框 295940"/>
            <p:cNvSpPr/>
            <p:nvPr/>
          </p:nvSpPr>
          <p:spPr>
            <a:xfrm>
              <a:off x="5299200" y="2819520"/>
              <a:ext cx="3600360" cy="22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术内含的思想方法</a:t>
              </a:r>
              <a:endParaRPr b="1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术过程的操作方法</a:t>
              </a:r>
              <a:endParaRPr b="1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术革新的试验方法</a:t>
              </a:r>
              <a:endParaRPr b="1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6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术学习的探究方法</a:t>
              </a:r>
              <a:endParaRPr b="1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3886200" y="3943440"/>
              <a:ext cx="692280" cy="360"/>
              <a:chOff x="3886200" y="3943440"/>
              <a:chExt cx="692280" cy="360"/>
            </a:xfrm>
          </p:grpSpPr>
          <p:sp>
            <p:nvSpPr>
              <p:cNvPr id="511" name="直接连接符 295941"/>
              <p:cNvSpPr/>
              <p:nvPr/>
            </p:nvSpPr>
            <p:spPr>
              <a:xfrm>
                <a:off x="3886200" y="3943440"/>
                <a:ext cx="692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3886200" y="3943440"/>
                <a:ext cx="69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4578120" y="3122640"/>
              <a:ext cx="648000" cy="792000"/>
              <a:chOff x="4578120" y="3122640"/>
              <a:chExt cx="648000" cy="792000"/>
            </a:xfrm>
          </p:grpSpPr>
          <p:sp>
            <p:nvSpPr>
              <p:cNvPr id="514" name="直接连接符 295942"/>
              <p:cNvSpPr/>
              <p:nvPr/>
            </p:nvSpPr>
            <p:spPr>
              <a:xfrm flipV="1">
                <a:off x="4578480" y="3122640"/>
                <a:ext cx="647640" cy="79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 rot="10800000">
                <a:off x="4578120" y="3122640"/>
                <a:ext cx="64764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578480" y="3986280"/>
              <a:ext cx="647640" cy="863640"/>
              <a:chOff x="4578480" y="3986280"/>
              <a:chExt cx="647640" cy="863640"/>
            </a:xfrm>
          </p:grpSpPr>
          <p:sp>
            <p:nvSpPr>
              <p:cNvPr id="517" name="直接连接符 295943"/>
              <p:cNvSpPr/>
              <p:nvPr/>
            </p:nvSpPr>
            <p:spPr>
              <a:xfrm>
                <a:off x="4578480" y="3986280"/>
                <a:ext cx="647640" cy="86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 txBox="1"/>
              <p:nvPr/>
            </p:nvSpPr>
            <p:spPr>
              <a:xfrm>
                <a:off x="4578480" y="3986280"/>
                <a:ext cx="647640" cy="86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8120" y="3697200"/>
              <a:ext cx="648000" cy="231840"/>
              <a:chOff x="4578120" y="3697200"/>
              <a:chExt cx="648000" cy="231840"/>
            </a:xfrm>
          </p:grpSpPr>
          <p:sp>
            <p:nvSpPr>
              <p:cNvPr id="520" name="直接连接符 295945"/>
              <p:cNvSpPr/>
              <p:nvPr/>
            </p:nvSpPr>
            <p:spPr>
              <a:xfrm flipV="1">
                <a:off x="4578480" y="3697200"/>
                <a:ext cx="647640" cy="231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 txBox="1"/>
              <p:nvPr/>
            </p:nvSpPr>
            <p:spPr>
              <a:xfrm rot="10800000">
                <a:off x="4578120" y="3697200"/>
                <a:ext cx="647640" cy="2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4578480" y="3914640"/>
              <a:ext cx="647640" cy="358920"/>
              <a:chOff x="4578480" y="3914640"/>
              <a:chExt cx="647640" cy="358920"/>
            </a:xfrm>
          </p:grpSpPr>
          <p:sp>
            <p:nvSpPr>
              <p:cNvPr id="523" name="直接连接符 295946"/>
              <p:cNvSpPr/>
              <p:nvPr/>
            </p:nvSpPr>
            <p:spPr>
              <a:xfrm>
                <a:off x="4578480" y="3914640"/>
                <a:ext cx="647640" cy="35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4578480" y="3914640"/>
                <a:ext cx="647640" cy="3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5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79280" y="401400"/>
            <a:ext cx="896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拓展学习空间，强化技术设计，提高技术含量</a:t>
            </a:r>
            <a:endParaRPr b="1" lang="en-US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527" name="椭圆 329732"/>
          <p:cNvSpPr/>
          <p:nvPr/>
        </p:nvSpPr>
        <p:spPr>
          <a:xfrm>
            <a:off x="3048120" y="1409760"/>
            <a:ext cx="1143000" cy="7621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9900"/>
            </a:solidFill>
            <a:round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制作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8" name="组合 329762"/>
          <p:cNvGrpSpPr/>
          <p:nvPr/>
        </p:nvGrpSpPr>
        <p:grpSpPr>
          <a:xfrm>
            <a:off x="0" y="1295280"/>
            <a:ext cx="9067680" cy="990720"/>
            <a:chOff x="0" y="1295280"/>
            <a:chExt cx="9067680" cy="990720"/>
          </a:xfrm>
        </p:grpSpPr>
        <p:sp>
          <p:nvSpPr>
            <p:cNvPr id="529" name="椭圆 329734"/>
            <p:cNvSpPr/>
            <p:nvPr/>
          </p:nvSpPr>
          <p:spPr>
            <a:xfrm>
              <a:off x="1523880" y="1295280"/>
              <a:ext cx="1143000" cy="9907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round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3399"/>
                  </a:solidFill>
                  <a:latin typeface="Times New Roman"/>
                  <a:ea typeface="宋体"/>
                </a:rPr>
                <a:t>设计</a:t>
              </a:r>
              <a:endParaRPr b="1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椭圆 329735"/>
            <p:cNvSpPr/>
            <p:nvPr/>
          </p:nvSpPr>
          <p:spPr>
            <a:xfrm>
              <a:off x="0" y="1523880"/>
              <a:ext cx="1143000" cy="64620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round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调研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椭圆 329736"/>
            <p:cNvSpPr/>
            <p:nvPr/>
          </p:nvSpPr>
          <p:spPr>
            <a:xfrm>
              <a:off x="4648320" y="1523880"/>
              <a:ext cx="1143000" cy="64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评价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椭圆 329737"/>
            <p:cNvSpPr/>
            <p:nvPr/>
          </p:nvSpPr>
          <p:spPr>
            <a:xfrm>
              <a:off x="6324480" y="1523880"/>
              <a:ext cx="1143000" cy="64620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round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改进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椭圆 329738"/>
            <p:cNvSpPr/>
            <p:nvPr/>
          </p:nvSpPr>
          <p:spPr>
            <a:xfrm>
              <a:off x="7924680" y="1560600"/>
              <a:ext cx="1143000" cy="64620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9900"/>
              </a:solidFill>
              <a:round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应用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666520" y="1828800"/>
              <a:ext cx="381600" cy="360"/>
              <a:chOff x="2666520" y="1828800"/>
              <a:chExt cx="381600" cy="360"/>
            </a:xfrm>
          </p:grpSpPr>
          <p:sp>
            <p:nvSpPr>
              <p:cNvPr id="535" name="直接连接符 329739"/>
              <p:cNvSpPr/>
              <p:nvPr/>
            </p:nvSpPr>
            <p:spPr>
              <a:xfrm flipH="1">
                <a:off x="2666520" y="1828800"/>
                <a:ext cx="381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 txBox="1"/>
              <p:nvPr/>
            </p:nvSpPr>
            <p:spPr>
              <a:xfrm>
                <a:off x="2666880" y="1828800"/>
                <a:ext cx="38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143000" y="1828800"/>
              <a:ext cx="457200" cy="360"/>
              <a:chOff x="1143000" y="1828800"/>
              <a:chExt cx="457200" cy="360"/>
            </a:xfrm>
          </p:grpSpPr>
          <p:sp>
            <p:nvSpPr>
              <p:cNvPr id="538" name="直接连接符 329740"/>
              <p:cNvSpPr/>
              <p:nvPr/>
            </p:nvSpPr>
            <p:spPr>
              <a:xfrm flipH="1">
                <a:off x="1143000" y="18288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>
                <a:off x="1143000" y="18288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191120" y="1828800"/>
              <a:ext cx="457200" cy="360"/>
              <a:chOff x="4191120" y="1828800"/>
              <a:chExt cx="457200" cy="360"/>
            </a:xfrm>
          </p:grpSpPr>
          <p:sp>
            <p:nvSpPr>
              <p:cNvPr id="541" name="直接连接符 329741"/>
              <p:cNvSpPr/>
              <p:nvPr/>
            </p:nvSpPr>
            <p:spPr>
              <a:xfrm flipH="1">
                <a:off x="4191120" y="18288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>
                <a:off x="4191120" y="18288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5791320" y="1828800"/>
              <a:ext cx="457200" cy="360"/>
              <a:chOff x="5791320" y="1828800"/>
              <a:chExt cx="457200" cy="360"/>
            </a:xfrm>
          </p:grpSpPr>
          <p:sp>
            <p:nvSpPr>
              <p:cNvPr id="544" name="直接连接符 329742"/>
              <p:cNvSpPr/>
              <p:nvPr/>
            </p:nvSpPr>
            <p:spPr>
              <a:xfrm flipH="1">
                <a:off x="5791320" y="18288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5791320" y="18288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7467480" y="1828800"/>
              <a:ext cx="457200" cy="360"/>
              <a:chOff x="7467480" y="1828800"/>
              <a:chExt cx="457200" cy="360"/>
            </a:xfrm>
          </p:grpSpPr>
          <p:sp>
            <p:nvSpPr>
              <p:cNvPr id="547" name="直接连接符 329743"/>
              <p:cNvSpPr/>
              <p:nvPr/>
            </p:nvSpPr>
            <p:spPr>
              <a:xfrm flipH="1">
                <a:off x="7467480" y="1828800"/>
                <a:ext cx="4572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>
                <a:off x="7467480" y="18288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椭圆 329744"/>
          <p:cNvSpPr/>
          <p:nvPr/>
        </p:nvSpPr>
        <p:spPr>
          <a:xfrm>
            <a:off x="3962520" y="4038480"/>
            <a:ext cx="990360" cy="9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作物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生长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0" name="组合 329745"/>
          <p:cNvGrpSpPr/>
          <p:nvPr/>
        </p:nvGrpSpPr>
        <p:grpSpPr>
          <a:xfrm>
            <a:off x="2286000" y="2438280"/>
            <a:ext cx="4419360" cy="4114800"/>
            <a:chOff x="2286000" y="2438280"/>
            <a:chExt cx="4419360" cy="4114800"/>
          </a:xfrm>
        </p:grpSpPr>
        <p:sp>
          <p:nvSpPr>
            <p:cNvPr id="551" name="椭圆 329746"/>
            <p:cNvSpPr/>
            <p:nvPr/>
          </p:nvSpPr>
          <p:spPr>
            <a:xfrm>
              <a:off x="4000320" y="2438280"/>
              <a:ext cx="990720" cy="9907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组织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培养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椭圆 329747"/>
            <p:cNvSpPr/>
            <p:nvPr/>
          </p:nvSpPr>
          <p:spPr>
            <a:xfrm>
              <a:off x="2666880" y="3047760"/>
              <a:ext cx="990720" cy="9907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良种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引进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椭圆 329748"/>
            <p:cNvSpPr/>
            <p:nvPr/>
          </p:nvSpPr>
          <p:spPr>
            <a:xfrm>
              <a:off x="5333760" y="2971800"/>
              <a:ext cx="990720" cy="99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农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产品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保鲜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椭圆 329749"/>
            <p:cNvSpPr/>
            <p:nvPr/>
          </p:nvSpPr>
          <p:spPr>
            <a:xfrm>
              <a:off x="2286000" y="4419360"/>
              <a:ext cx="990360" cy="9907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市场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调研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椭圆 329750"/>
            <p:cNvSpPr/>
            <p:nvPr/>
          </p:nvSpPr>
          <p:spPr>
            <a:xfrm>
              <a:off x="5715000" y="4343400"/>
              <a:ext cx="990360" cy="99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农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产品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加工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椭圆 329751"/>
            <p:cNvSpPr/>
            <p:nvPr/>
          </p:nvSpPr>
          <p:spPr>
            <a:xfrm>
              <a:off x="3200400" y="5562360"/>
              <a:ext cx="990360" cy="99072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大棚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栽培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椭圆 329752"/>
            <p:cNvSpPr/>
            <p:nvPr/>
          </p:nvSpPr>
          <p:spPr>
            <a:xfrm>
              <a:off x="5029200" y="5486400"/>
              <a:ext cx="990360" cy="99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农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产品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营销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4495320" y="3428640"/>
              <a:ext cx="360" cy="609480"/>
              <a:chOff x="4495320" y="3428640"/>
              <a:chExt cx="360" cy="609480"/>
            </a:xfrm>
          </p:grpSpPr>
          <p:sp>
            <p:nvSpPr>
              <p:cNvPr id="559" name="直接连接符 329753"/>
              <p:cNvSpPr/>
              <p:nvPr/>
            </p:nvSpPr>
            <p:spPr>
              <a:xfrm flipV="1">
                <a:off x="4495680" y="3428640"/>
                <a:ext cx="0" cy="60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 rot="10800000">
                <a:off x="4495320" y="342864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581280" y="3809880"/>
              <a:ext cx="457200" cy="457200"/>
              <a:chOff x="3581280" y="3809880"/>
              <a:chExt cx="457200" cy="457200"/>
            </a:xfrm>
          </p:grpSpPr>
          <p:sp>
            <p:nvSpPr>
              <p:cNvPr id="562" name="直接连接符 329754"/>
              <p:cNvSpPr/>
              <p:nvPr/>
            </p:nvSpPr>
            <p:spPr>
              <a:xfrm flipH="1" flipV="1">
                <a:off x="3581280" y="3809880"/>
                <a:ext cx="45720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 txBox="1"/>
              <p:nvPr/>
            </p:nvSpPr>
            <p:spPr>
              <a:xfrm rot="10800000">
                <a:off x="3581280" y="38098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3276000" y="4647960"/>
              <a:ext cx="686160" cy="184320"/>
              <a:chOff x="3276000" y="4647960"/>
              <a:chExt cx="686160" cy="184320"/>
            </a:xfrm>
          </p:grpSpPr>
          <p:sp>
            <p:nvSpPr>
              <p:cNvPr id="565" name="直接连接符 329755"/>
              <p:cNvSpPr/>
              <p:nvPr/>
            </p:nvSpPr>
            <p:spPr>
              <a:xfrm flipH="1">
                <a:off x="3276000" y="4647960"/>
                <a:ext cx="685800" cy="18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 txBox="1"/>
              <p:nvPr/>
            </p:nvSpPr>
            <p:spPr>
              <a:xfrm>
                <a:off x="3276360" y="4647960"/>
                <a:ext cx="68580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914280" y="4952880"/>
              <a:ext cx="352800" cy="609480"/>
              <a:chOff x="3914280" y="4952880"/>
              <a:chExt cx="352800" cy="609480"/>
            </a:xfrm>
          </p:grpSpPr>
          <p:sp>
            <p:nvSpPr>
              <p:cNvPr id="568" name="直接连接符 329756"/>
              <p:cNvSpPr/>
              <p:nvPr/>
            </p:nvSpPr>
            <p:spPr>
              <a:xfrm flipH="1">
                <a:off x="3914280" y="4952880"/>
                <a:ext cx="352440" cy="60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3914640" y="4952880"/>
                <a:ext cx="35244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800600" y="4952880"/>
              <a:ext cx="352440" cy="609480"/>
              <a:chOff x="4800600" y="4952880"/>
              <a:chExt cx="352440" cy="609480"/>
            </a:xfrm>
          </p:grpSpPr>
          <p:sp>
            <p:nvSpPr>
              <p:cNvPr id="571" name="直接连接符 329757"/>
              <p:cNvSpPr/>
              <p:nvPr/>
            </p:nvSpPr>
            <p:spPr>
              <a:xfrm>
                <a:off x="4800600" y="4952880"/>
                <a:ext cx="352440" cy="609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4800600" y="4952880"/>
                <a:ext cx="35244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029200" y="4647960"/>
              <a:ext cx="685800" cy="184320"/>
              <a:chOff x="5029200" y="4647960"/>
              <a:chExt cx="685800" cy="184320"/>
            </a:xfrm>
          </p:grpSpPr>
          <p:sp>
            <p:nvSpPr>
              <p:cNvPr id="574" name="直接连接符 329758"/>
              <p:cNvSpPr/>
              <p:nvPr/>
            </p:nvSpPr>
            <p:spPr>
              <a:xfrm>
                <a:off x="5029200" y="4647960"/>
                <a:ext cx="685800" cy="18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5029200" y="4647960"/>
                <a:ext cx="68580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4876560" y="3837960"/>
              <a:ext cx="609840" cy="352440"/>
              <a:chOff x="4876560" y="3837960"/>
              <a:chExt cx="609840" cy="352440"/>
            </a:xfrm>
          </p:grpSpPr>
          <p:sp>
            <p:nvSpPr>
              <p:cNvPr id="577" name="直接连接符 329759"/>
              <p:cNvSpPr/>
              <p:nvPr/>
            </p:nvSpPr>
            <p:spPr>
              <a:xfrm flipV="1">
                <a:off x="4876560" y="3837960"/>
                <a:ext cx="609840" cy="3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 txBox="1"/>
              <p:nvPr/>
            </p:nvSpPr>
            <p:spPr>
              <a:xfrm rot="10800000">
                <a:off x="4876560" y="3837960"/>
                <a:ext cx="609840" cy="35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椭圆 329760"/>
          <p:cNvSpPr/>
          <p:nvPr/>
        </p:nvSpPr>
        <p:spPr>
          <a:xfrm>
            <a:off x="1486080" y="1257480"/>
            <a:ext cx="1218960" cy="1066680"/>
          </a:xfrm>
          <a:prstGeom prst="ellipse">
            <a:avLst/>
          </a:prstGeom>
          <a:noFill/>
          <a:ln w="38160">
            <a:solidFill>
              <a:srgbClr val="ffff00"/>
            </a:solidFill>
            <a:round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文本框 395267"/>
          <p:cNvSpPr/>
          <p:nvPr/>
        </p:nvSpPr>
        <p:spPr>
          <a:xfrm>
            <a:off x="990720" y="2743200"/>
            <a:ext cx="655308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矩形 395269"/>
          <p:cNvSpPr/>
          <p:nvPr/>
        </p:nvSpPr>
        <p:spPr>
          <a:xfrm>
            <a:off x="838080" y="1295280"/>
            <a:ext cx="7772400" cy="436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方正姚体"/>
              </a:rPr>
              <a:t>以技术与设计Ⅱ为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cc"/>
                </a:solidFill>
                <a:latin typeface="Times New Roman"/>
                <a:ea typeface="华文新魏"/>
              </a:rPr>
              <a:t>立足生活世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城市：音乐喷泉、自动开关门、红绿灯自动翻转、烟雾报警器等的设计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乡村：农药的均匀喷洒、大棚种植的温度、滴灌的水量、鱼塘的自动注水、可调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台灯、钓鱼杆信息反馈装置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自动折叠雨伞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等的设计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cc"/>
                </a:solidFill>
                <a:latin typeface="宋体"/>
                <a:ea typeface="华文新魏"/>
              </a:rPr>
              <a:t>关注学生经验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日常生活中的控制      社会结构中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的控制      技术系统中的控制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 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右箭头 395272"/>
          <p:cNvSpPr/>
          <p:nvPr/>
        </p:nvSpPr>
        <p:spPr>
          <a:xfrm>
            <a:off x="4952880" y="5486400"/>
            <a:ext cx="343080" cy="198360"/>
          </a:xfrm>
          <a:prstGeom prst="rightArrow">
            <a:avLst>
              <a:gd name="adj1" fmla="val 50000"/>
              <a:gd name="adj2" fmla="val 43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右箭头 395273"/>
          <p:cNvSpPr/>
          <p:nvPr/>
        </p:nvSpPr>
        <p:spPr>
          <a:xfrm>
            <a:off x="2819520" y="6019920"/>
            <a:ext cx="342720" cy="198360"/>
          </a:xfrm>
          <a:prstGeom prst="rightArrow">
            <a:avLst>
              <a:gd name="adj1" fmla="val 50000"/>
              <a:gd name="adj2" fmla="val 431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立足生活世界，关注学生经验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586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文本框 394241"/>
          <p:cNvSpPr/>
          <p:nvPr/>
        </p:nvSpPr>
        <p:spPr>
          <a:xfrm>
            <a:off x="3808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凸显基础技术教育的基础性、通用性、现代性，增强技术课程对全国各地的适应性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文本框 394242"/>
          <p:cNvSpPr/>
          <p:nvPr/>
        </p:nvSpPr>
        <p:spPr>
          <a:xfrm>
            <a:off x="533520" y="1600200"/>
            <a:ext cx="8229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25000"/>
              </a:lnSpc>
              <a:spcBef>
                <a:spcPts val="2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内容的基础性和现代性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25000"/>
              </a:lnSpc>
              <a:spcBef>
                <a:spcPts val="2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载体的广泛性和适应性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25000"/>
              </a:lnSpc>
              <a:spcBef>
                <a:spcPts val="23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方法的通用性和迁移性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</a:t>
            </a:r>
            <a:r>
              <a:rPr b="1" lang="zh-CN" sz="3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能力的多样性和拓展性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9" name="图片 394243" descr="BD14868_"/>
          <p:cNvPicPr/>
          <p:nvPr/>
        </p:nvPicPr>
        <p:blipFill>
          <a:blip r:embed="rId1"/>
          <a:stretch/>
        </p:blipFill>
        <p:spPr>
          <a:xfrm>
            <a:off x="106668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94244" descr="BD14868_"/>
          <p:cNvPicPr/>
          <p:nvPr/>
        </p:nvPicPr>
        <p:blipFill>
          <a:blip r:embed="rId2"/>
          <a:stretch/>
        </p:blipFill>
        <p:spPr>
          <a:xfrm>
            <a:off x="15238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394245" descr="BD14868_"/>
          <p:cNvPicPr/>
          <p:nvPr/>
        </p:nvPicPr>
        <p:blipFill>
          <a:blip r:embed="rId3"/>
          <a:stretch/>
        </p:blipFill>
        <p:spPr>
          <a:xfrm>
            <a:off x="19810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394246" descr="BD14868_"/>
          <p:cNvPicPr/>
          <p:nvPr/>
        </p:nvPicPr>
        <p:blipFill>
          <a:blip r:embed="rId4"/>
          <a:stretch/>
        </p:blipFill>
        <p:spPr>
          <a:xfrm>
            <a:off x="2514600" y="5029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3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文本框 326657"/>
          <p:cNvSpPr/>
          <p:nvPr/>
        </p:nvSpPr>
        <p:spPr>
          <a:xfrm>
            <a:off x="755640" y="3888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注重条件替代，强调资源整合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文本框 326658"/>
          <p:cNvSpPr/>
          <p:nvPr/>
        </p:nvSpPr>
        <p:spPr>
          <a:xfrm>
            <a:off x="250920" y="1295280"/>
            <a:ext cx="8893080" cy="3547800"/>
          </a:xfrm>
          <a:prstGeom prst="rect">
            <a:avLst/>
          </a:prstGeom>
          <a:noFill/>
          <a:ln w="9360">
            <a:solidFill>
              <a:srgbClr val="99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条件替代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—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各学校根据当地的资源情况确定载体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资源整合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—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社区的人力、物力资源、闲置资源，可利用的废旧资源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cc00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分打通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—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在就近的普通高中获得，也可在职业学校、技工学校、技术实践基地获得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文本框 327682"/>
          <p:cNvSpPr/>
          <p:nvPr/>
        </p:nvSpPr>
        <p:spPr>
          <a:xfrm>
            <a:off x="179280" y="1197000"/>
            <a:ext cx="4032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技术设计水平考试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技术学习经历认证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技术证书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8" name="组合 327720"/>
          <p:cNvGrpSpPr/>
          <p:nvPr/>
        </p:nvGrpSpPr>
        <p:grpSpPr>
          <a:xfrm>
            <a:off x="4788000" y="1628640"/>
            <a:ext cx="4176720" cy="4755240"/>
            <a:chOff x="4788000" y="1628640"/>
            <a:chExt cx="4176720" cy="4755240"/>
          </a:xfrm>
        </p:grpSpPr>
        <p:sp>
          <p:nvSpPr>
            <p:cNvPr id="599" name="文本框 327683"/>
            <p:cNvSpPr/>
            <p:nvPr/>
          </p:nvSpPr>
          <p:spPr>
            <a:xfrm>
              <a:off x="5599080" y="1628640"/>
              <a:ext cx="170964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案例分析</a:t>
              </a:r>
              <a:endParaRPr b="1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问题解决</a:t>
              </a:r>
              <a:endParaRPr b="1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文本框 327685"/>
            <p:cNvSpPr/>
            <p:nvPr/>
          </p:nvSpPr>
          <p:spPr>
            <a:xfrm>
              <a:off x="4859280" y="3290760"/>
              <a:ext cx="4105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文本框 327686"/>
            <p:cNvSpPr/>
            <p:nvPr/>
          </p:nvSpPr>
          <p:spPr>
            <a:xfrm>
              <a:off x="4788000" y="5445000"/>
              <a:ext cx="393372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在农村与绿色证书结合</a:t>
              </a:r>
              <a:endParaRPr b="1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在城市与职业技术教育结合</a:t>
              </a:r>
              <a:endParaRPr b="1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02" name="内容占位符 327713" descr="未命名"/>
          <p:cNvPicPr/>
          <p:nvPr/>
        </p:nvPicPr>
        <p:blipFill>
          <a:blip r:embed="rId1"/>
          <a:stretch/>
        </p:blipFill>
        <p:spPr>
          <a:xfrm>
            <a:off x="4552920" y="1830240"/>
            <a:ext cx="666720" cy="59076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327718" descr="未命名"/>
          <p:cNvPicPr/>
          <p:nvPr/>
        </p:nvPicPr>
        <p:blipFill>
          <a:blip r:embed="rId2"/>
          <a:stretch/>
        </p:blipFill>
        <p:spPr>
          <a:xfrm>
            <a:off x="3924360" y="3774960"/>
            <a:ext cx="666720" cy="59076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327719" descr="未命名"/>
          <p:cNvPicPr/>
          <p:nvPr/>
        </p:nvPicPr>
        <p:blipFill>
          <a:blip r:embed="rId3"/>
          <a:stretch/>
        </p:blipFill>
        <p:spPr>
          <a:xfrm>
            <a:off x="3276720" y="5646600"/>
            <a:ext cx="666720" cy="590760"/>
          </a:xfrm>
          <a:prstGeom prst="rect">
            <a:avLst/>
          </a:prstGeom>
          <a:ln w="0">
            <a:noFill/>
          </a:ln>
        </p:spPr>
      </p:pic>
      <p:sp>
        <p:nvSpPr>
          <p:cNvPr id="605" name="文本框 327721"/>
          <p:cNvSpPr/>
          <p:nvPr/>
        </p:nvSpPr>
        <p:spPr>
          <a:xfrm>
            <a:off x="4800600" y="3581280"/>
            <a:ext cx="419112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高中毕业的最低要求：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分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工科、农科取向：至少再选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学分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  <a:ea typeface="黑体"/>
              </a:rPr>
              <a:t>建立合理的评价机制，探索技术证书制度</a:t>
            </a:r>
            <a:endParaRPr b="1" lang="en-US" sz="32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607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矩形 39014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宋体"/>
              </a:rPr>
              <a:t>             </a:t>
            </a:r>
            <a:r>
              <a:rPr b="0" lang="zh-CN" sz="4000" spc="-1" strike="noStrike">
                <a:solidFill>
                  <a:srgbClr val="ffffff"/>
                </a:solidFill>
                <a:latin typeface="Garamond"/>
                <a:ea typeface="华文新魏"/>
              </a:rPr>
              <a:t>技术领域的设立，技术素养目标的确立，实现了课程结构的历史跨越和劳动技术教育发展的历史突破，对培养具有创新精神和实践能力的新型人才，对学生发展和民族复兴具有深远意义！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Times New Roman"/>
              </a:rPr>
              <a:t>结语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613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389123"/>
          <p:cNvSpPr/>
          <p:nvPr/>
        </p:nvSpPr>
        <p:spPr>
          <a:xfrm>
            <a:off x="2224440" y="1447920"/>
            <a:ext cx="452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通教育应当以神圣的方式，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把技术介绍成我们的历史，我们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每个人的存在和我们的未来的一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个组成部分……技术教育应当是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当代儿童和青年人的基本教养。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摘自美国《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2061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计划》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圆角矩形 355331"/>
          <p:cNvSpPr/>
          <p:nvPr/>
        </p:nvSpPr>
        <p:spPr>
          <a:xfrm>
            <a:off x="324000" y="1341360"/>
            <a:ext cx="1296720" cy="43200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9360">
            <a:solidFill>
              <a:srgbClr val="ffffff"/>
            </a:solidFill>
            <a:round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黑体"/>
                <a:ea typeface="黑体"/>
              </a:rPr>
              <a:t>日  本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圆角矩形 355332"/>
          <p:cNvSpPr/>
          <p:nvPr/>
        </p:nvSpPr>
        <p:spPr>
          <a:xfrm>
            <a:off x="4754520" y="1328760"/>
            <a:ext cx="1297080" cy="45252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9360">
            <a:solidFill>
              <a:srgbClr val="ffffff"/>
            </a:solidFill>
            <a:round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黑体"/>
                <a:ea typeface="黑体"/>
              </a:rPr>
              <a:t>英  国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50920" y="1844640"/>
          <a:ext cx="4249800" cy="1800360"/>
        </p:xfrm>
        <a:graphic>
          <a:graphicData uri="http://schemas.openxmlformats.org/drawingml/2006/table">
            <a:tbl>
              <a:tblPr/>
              <a:tblGrid>
                <a:gridCol w="2305080"/>
                <a:gridCol w="1944720"/>
              </a:tblGrid>
              <a:tr h="450720">
                <a:tc>
                  <a:txBody>
                    <a:bodyPr lIns="0" rIns="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家政基础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信息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A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家政综合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信息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B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生活技术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信息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C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选一门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选一门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50920" y="4927680"/>
          <a:ext cx="4249800" cy="1380960"/>
        </p:xfrm>
        <a:graphic>
          <a:graphicData uri="http://schemas.openxmlformats.org/drawingml/2006/table">
            <a:tbl>
              <a:tblPr/>
              <a:tblGrid>
                <a:gridCol w="2305080"/>
                <a:gridCol w="1944720"/>
              </a:tblGrid>
              <a:tr h="341280">
                <a:tc>
                  <a:txBody>
                    <a:bodyPr lIns="0" rIns="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基本技术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必修课程分散在各学年开设，此外有若干选修课程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生活技能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家庭经济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学分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00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4656240" y="1844640"/>
          <a:ext cx="4249800" cy="1800360"/>
        </p:xfrm>
        <a:graphic>
          <a:graphicData uri="http://schemas.openxmlformats.org/drawingml/2006/table">
            <a:tbl>
              <a:tblPr/>
              <a:tblGrid>
                <a:gridCol w="2016000"/>
                <a:gridCol w="2233800"/>
              </a:tblGrid>
              <a:tr h="664920">
                <a:tc>
                  <a:txBody>
                    <a:bodyPr lIns="0" rIns="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设计与技术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成为“国家课程”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规定的必修的基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础课程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信息交流与技术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7" name="圆角矩形 355443"/>
          <p:cNvSpPr/>
          <p:nvPr/>
        </p:nvSpPr>
        <p:spPr>
          <a:xfrm>
            <a:off x="324000" y="4389480"/>
            <a:ext cx="2198520" cy="43344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9360">
            <a:solidFill>
              <a:srgbClr val="ffffff"/>
            </a:solidFill>
            <a:round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黑体"/>
                <a:ea typeface="黑体"/>
              </a:rPr>
              <a:t>加拿大魁北克省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43280" y="4940280"/>
          <a:ext cx="4249800" cy="136836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684360">
                <a:tc>
                  <a:txBody>
                    <a:bodyPr lIns="0" rIns="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技术与家庭经济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——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必修的八大学科门类之一（农业、工业、商业、家庭经济）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科学与技术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——</a:t>
                      </a: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必修的八大学科门类之一</a:t>
                      </a:r>
                      <a:endParaRPr b="1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</a:tbl>
          </a:graphicData>
        </a:graphic>
      </p:graphicFrame>
      <p:sp>
        <p:nvSpPr>
          <p:cNvPr id="289" name="圆角矩形 355508"/>
          <p:cNvSpPr/>
          <p:nvPr/>
        </p:nvSpPr>
        <p:spPr>
          <a:xfrm>
            <a:off x="4749840" y="4389480"/>
            <a:ext cx="1334880" cy="43344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9360">
            <a:solidFill>
              <a:srgbClr val="ffffff"/>
            </a:solidFill>
            <a:round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黑体"/>
                <a:ea typeface="黑体"/>
              </a:rPr>
              <a:t>菲律宾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四国普通高中课程设置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291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220163"/>
          <p:cNvSpPr/>
          <p:nvPr/>
        </p:nvSpPr>
        <p:spPr>
          <a:xfrm>
            <a:off x="380880" y="2286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黑体"/>
              </a:rPr>
              <a:t>社会各界对技术课程的看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文本框 220179"/>
          <p:cNvSpPr/>
          <p:nvPr/>
        </p:nvSpPr>
        <p:spPr>
          <a:xfrm>
            <a:off x="152280" y="1600200"/>
            <a:ext cx="8785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据对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省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行业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37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位从业人员的调查，厂矿企业、农业、运输、文教等行业人员普遍赞成在普通高中开设技术课程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87.42%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 企业界呼声最高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3.65%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但与普通社会成员相比，有子女就读高中的家长持有较为谨慎的态度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69.8%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对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省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所中学的教师的访谈中，一般学校的老师更多的认为如今中学生技术能力较差，而在一些劳动技术、信息技术课程开设较好的学校，老师却惊叹学生在技术上的想像力、创造力和动手能力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内容占位符 361629" descr=""/>
          <p:cNvPicPr/>
          <p:nvPr/>
        </p:nvPicPr>
        <p:blipFill>
          <a:blip r:embed="rId1"/>
          <a:stretch/>
        </p:blipFill>
        <p:spPr>
          <a:xfrm>
            <a:off x="0" y="1192320"/>
            <a:ext cx="9144000" cy="425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</p:pic>
      <p:sp>
        <p:nvSpPr>
          <p:cNvPr id="296" name="文本框 361474"/>
          <p:cNvSpPr/>
          <p:nvPr/>
        </p:nvSpPr>
        <p:spPr>
          <a:xfrm>
            <a:off x="790560" y="5511960"/>
            <a:ext cx="835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6.3%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城市高中学生对技术感兴趣，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82.3%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农村高中学生对技术感兴趣</a:t>
            </a: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1.4%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农村高中学生对技术有一点害怕。在害怕技术的高中学生中，农村学生占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90%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组合 361631"/>
          <p:cNvGrpSpPr/>
          <p:nvPr/>
        </p:nvGrpSpPr>
        <p:grpSpPr>
          <a:xfrm>
            <a:off x="1152360" y="1319040"/>
            <a:ext cx="6396120" cy="3280680"/>
            <a:chOff x="1152360" y="1319040"/>
            <a:chExt cx="6396120" cy="3280680"/>
          </a:xfrm>
        </p:grpSpPr>
        <p:sp>
          <p:nvSpPr>
            <p:cNvPr id="298" name="文本框 361600"/>
            <p:cNvSpPr/>
            <p:nvPr/>
          </p:nvSpPr>
          <p:spPr>
            <a:xfrm>
              <a:off x="1152360" y="1928880"/>
              <a:ext cx="611280" cy="3070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2.3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文本框 361601"/>
            <p:cNvSpPr/>
            <p:nvPr/>
          </p:nvSpPr>
          <p:spPr>
            <a:xfrm>
              <a:off x="3130560" y="2322360"/>
              <a:ext cx="433440" cy="3070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4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文本框 361602"/>
            <p:cNvSpPr/>
            <p:nvPr/>
          </p:nvSpPr>
          <p:spPr>
            <a:xfrm>
              <a:off x="4643280" y="4292640"/>
              <a:ext cx="433440" cy="3070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9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文本框 361603"/>
            <p:cNvSpPr/>
            <p:nvPr/>
          </p:nvSpPr>
          <p:spPr>
            <a:xfrm>
              <a:off x="6443640" y="4221000"/>
              <a:ext cx="433440" cy="3070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.8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文本框 361604"/>
            <p:cNvSpPr/>
            <p:nvPr/>
          </p:nvSpPr>
          <p:spPr>
            <a:xfrm>
              <a:off x="1882800" y="1319040"/>
              <a:ext cx="528480" cy="307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5.8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文本框 361605"/>
            <p:cNvSpPr/>
            <p:nvPr/>
          </p:nvSpPr>
          <p:spPr>
            <a:xfrm>
              <a:off x="3708360" y="3573360"/>
              <a:ext cx="528840" cy="307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6.5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文本框 361606"/>
            <p:cNvSpPr/>
            <p:nvPr/>
          </p:nvSpPr>
          <p:spPr>
            <a:xfrm>
              <a:off x="5364000" y="3860640"/>
              <a:ext cx="528840" cy="307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.4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文本框 361607"/>
            <p:cNvSpPr/>
            <p:nvPr/>
          </p:nvSpPr>
          <p:spPr>
            <a:xfrm>
              <a:off x="7020000" y="4076640"/>
              <a:ext cx="528480" cy="3070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514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.3%</a:t>
              </a: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任意多边形 361621"/>
          <p:cNvSpPr/>
          <p:nvPr/>
        </p:nvSpPr>
        <p:spPr>
          <a:xfrm flipH="1" rot="10800000">
            <a:off x="225360" y="5516640"/>
            <a:ext cx="395280" cy="44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3300"/>
            </a:solidFill>
            <a:miter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  <a:ea typeface="黑体"/>
              </a:rPr>
              <a:t>城乡高中生对技术的兴趣</a:t>
            </a:r>
            <a:endParaRPr b="1" lang="en-US" sz="40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08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文本框 375811"/>
          <p:cNvSpPr/>
          <p:nvPr/>
        </p:nvSpPr>
        <p:spPr>
          <a:xfrm>
            <a:off x="990720" y="1676520"/>
            <a:ext cx="7162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以提高学生的技术素养、促进学生全面而又富有个性的发展为基本目标，着力发展学生以信息的交流与处理、技术的设计与应用为基础的技术实践能力，努力培养学生的创新精神、创业意识和一定的人生规划能力。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图片 375812" descr="BD15056_"/>
          <p:cNvPicPr/>
          <p:nvPr/>
        </p:nvPicPr>
        <p:blipFill>
          <a:blip r:embed="rId1"/>
          <a:stretch/>
        </p:blipFill>
        <p:spPr>
          <a:xfrm>
            <a:off x="533520" y="304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3352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目标定位</a:t>
            </a:r>
            <a:endParaRPr b="1" lang="en-US" sz="4400" spc="-1" strike="noStrike">
              <a:solidFill>
                <a:srgbClr val="e5e5ff"/>
              </a:solidFill>
              <a:latin typeface="Times New Roman"/>
            </a:endParaRPr>
          </a:p>
        </p:txBody>
      </p:sp>
      <p:sp>
        <p:nvSpPr>
          <p:cNvPr id="312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354305"/>
          <p:cNvSpPr/>
          <p:nvPr/>
        </p:nvSpPr>
        <p:spPr>
          <a:xfrm>
            <a:off x="609480" y="22860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黑体"/>
              </a:rPr>
              <a:t>对技术的理解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组合 354306"/>
          <p:cNvGrpSpPr/>
          <p:nvPr/>
        </p:nvGrpSpPr>
        <p:grpSpPr>
          <a:xfrm>
            <a:off x="1042920" y="1357200"/>
            <a:ext cx="6869160" cy="2378160"/>
            <a:chOff x="1042920" y="1357200"/>
            <a:chExt cx="6869160" cy="2378160"/>
          </a:xfrm>
        </p:grpSpPr>
        <p:sp>
          <p:nvSpPr>
            <p:cNvPr id="315" name="文本框 354307"/>
            <p:cNvSpPr/>
            <p:nvPr/>
          </p:nvSpPr>
          <p:spPr>
            <a:xfrm>
              <a:off x="1042920" y="2306520"/>
              <a:ext cx="3024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术的过程</a:t>
              </a:r>
              <a:endParaRPr b="1" lang="en-US" sz="3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文本框 354308"/>
            <p:cNvSpPr/>
            <p:nvPr/>
          </p:nvSpPr>
          <p:spPr>
            <a:xfrm>
              <a:off x="6111720" y="1357200"/>
              <a:ext cx="1800360" cy="2378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设计</a:t>
              </a: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制作</a:t>
              </a: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评价</a:t>
              </a: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181040" y="1917720"/>
              <a:ext cx="2089440" cy="719280"/>
              <a:chOff x="4181040" y="1917720"/>
              <a:chExt cx="2089440" cy="719280"/>
            </a:xfrm>
          </p:grpSpPr>
          <p:sp>
            <p:nvSpPr>
              <p:cNvPr id="318" name="直接连接符 354309"/>
              <p:cNvSpPr/>
              <p:nvPr/>
            </p:nvSpPr>
            <p:spPr>
              <a:xfrm flipV="1">
                <a:off x="4181400" y="1917720"/>
                <a:ext cx="2089080" cy="71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 rot="10800000">
                <a:off x="4181040" y="1917720"/>
                <a:ext cx="2089080" cy="7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4181400" y="2637000"/>
              <a:ext cx="2089080" cy="720720"/>
              <a:chOff x="4181400" y="2637000"/>
              <a:chExt cx="2089080" cy="720720"/>
            </a:xfrm>
          </p:grpSpPr>
          <p:sp>
            <p:nvSpPr>
              <p:cNvPr id="321" name="直接连接符 354310"/>
              <p:cNvSpPr/>
              <p:nvPr/>
            </p:nvSpPr>
            <p:spPr>
              <a:xfrm>
                <a:off x="4181400" y="2637000"/>
                <a:ext cx="2089080" cy="7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4181400" y="2637000"/>
                <a:ext cx="208908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181400" y="2637000"/>
              <a:ext cx="2016360" cy="360"/>
              <a:chOff x="4181400" y="2637000"/>
              <a:chExt cx="2016360" cy="360"/>
            </a:xfrm>
          </p:grpSpPr>
          <p:sp>
            <p:nvSpPr>
              <p:cNvPr id="324" name="直接连接符 354311"/>
              <p:cNvSpPr/>
              <p:nvPr/>
            </p:nvSpPr>
            <p:spPr>
              <a:xfrm>
                <a:off x="4181400" y="2637000"/>
                <a:ext cx="201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 txBox="1"/>
              <p:nvPr/>
            </p:nvSpPr>
            <p:spPr>
              <a:xfrm>
                <a:off x="4181400" y="2637000"/>
                <a:ext cx="201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组合 354312"/>
          <p:cNvGrpSpPr/>
          <p:nvPr/>
        </p:nvGrpSpPr>
        <p:grpSpPr>
          <a:xfrm>
            <a:off x="1028880" y="3930480"/>
            <a:ext cx="7200720" cy="2378160"/>
            <a:chOff x="1028880" y="3930480"/>
            <a:chExt cx="7200720" cy="2378160"/>
          </a:xfrm>
        </p:grpSpPr>
        <p:sp>
          <p:nvSpPr>
            <p:cNvPr id="327" name="文本框 354313"/>
            <p:cNvSpPr/>
            <p:nvPr/>
          </p:nvSpPr>
          <p:spPr>
            <a:xfrm>
              <a:off x="1028880" y="4840200"/>
              <a:ext cx="309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术的结构</a:t>
              </a:r>
              <a:endParaRPr b="1" lang="en-US" sz="3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文本框 354314"/>
            <p:cNvSpPr/>
            <p:nvPr/>
          </p:nvSpPr>
          <p:spPr>
            <a:xfrm>
              <a:off x="6154920" y="3930480"/>
              <a:ext cx="2074680" cy="2378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思想方法</a:t>
              </a: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操作技能</a:t>
              </a: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文化特性</a:t>
              </a:r>
              <a:endParaRPr b="1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195800" y="4401720"/>
              <a:ext cx="1944720" cy="762120"/>
              <a:chOff x="4195800" y="4401720"/>
              <a:chExt cx="1944720" cy="762120"/>
            </a:xfrm>
          </p:grpSpPr>
          <p:sp>
            <p:nvSpPr>
              <p:cNvPr id="330" name="直接连接符 354315"/>
              <p:cNvSpPr/>
              <p:nvPr/>
            </p:nvSpPr>
            <p:spPr>
              <a:xfrm flipV="1">
                <a:off x="4195800" y="4401720"/>
                <a:ext cx="194472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 txBox="1"/>
              <p:nvPr/>
            </p:nvSpPr>
            <p:spPr>
              <a:xfrm rot="10800000">
                <a:off x="4195800" y="4401720"/>
                <a:ext cx="194472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195800" y="5194080"/>
              <a:ext cx="1944720" cy="720720"/>
              <a:chOff x="4195800" y="5194080"/>
              <a:chExt cx="1944720" cy="720720"/>
            </a:xfrm>
          </p:grpSpPr>
          <p:sp>
            <p:nvSpPr>
              <p:cNvPr id="333" name="直接连接符 354316"/>
              <p:cNvSpPr/>
              <p:nvPr/>
            </p:nvSpPr>
            <p:spPr>
              <a:xfrm>
                <a:off x="4195800" y="5194080"/>
                <a:ext cx="1944720" cy="7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4195800" y="5194080"/>
                <a:ext cx="194472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4195800" y="5194080"/>
              <a:ext cx="1873440" cy="360"/>
              <a:chOff x="4195800" y="5194080"/>
              <a:chExt cx="1873440" cy="360"/>
            </a:xfrm>
          </p:grpSpPr>
          <p:sp>
            <p:nvSpPr>
              <p:cNvPr id="336" name="直接连接符 354317"/>
              <p:cNvSpPr/>
              <p:nvPr/>
            </p:nvSpPr>
            <p:spPr>
              <a:xfrm>
                <a:off x="4195800" y="5194080"/>
                <a:ext cx="1873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>
                <a:off x="4195800" y="5194080"/>
                <a:ext cx="187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文本框 293891"/>
          <p:cNvSpPr/>
          <p:nvPr/>
        </p:nvSpPr>
        <p:spPr>
          <a:xfrm>
            <a:off x="609480" y="15228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黑体"/>
              </a:rPr>
              <a:t>目标追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矩形 293898"/>
          <p:cNvSpPr/>
          <p:nvPr/>
        </p:nvSpPr>
        <p:spPr>
          <a:xfrm>
            <a:off x="566640" y="1657440"/>
            <a:ext cx="2376720" cy="2592360"/>
          </a:xfrm>
          <a:prstGeom prst="rect">
            <a:avLst/>
          </a:prstGeom>
          <a:noFill/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组合 293917"/>
          <p:cNvGrpSpPr/>
          <p:nvPr/>
        </p:nvGrpSpPr>
        <p:grpSpPr>
          <a:xfrm>
            <a:off x="682560" y="1817640"/>
            <a:ext cx="2030400" cy="2246400"/>
            <a:chOff x="682560" y="1817640"/>
            <a:chExt cx="2030400" cy="2246400"/>
          </a:xfrm>
        </p:grpSpPr>
        <p:sp>
          <p:nvSpPr>
            <p:cNvPr id="342" name="文本框 293894"/>
            <p:cNvSpPr/>
            <p:nvPr/>
          </p:nvSpPr>
          <p:spPr>
            <a:xfrm>
              <a:off x="682560" y="181764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劳动取向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文本框 293895"/>
            <p:cNvSpPr/>
            <p:nvPr/>
          </p:nvSpPr>
          <p:spPr>
            <a:xfrm>
              <a:off x="682560" y="268272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技能取向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文本框 293896"/>
            <p:cNvSpPr/>
            <p:nvPr/>
          </p:nvSpPr>
          <p:spPr>
            <a:xfrm>
              <a:off x="682560" y="354348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职业取向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文本框 293900"/>
          <p:cNvSpPr/>
          <p:nvPr/>
        </p:nvSpPr>
        <p:spPr>
          <a:xfrm>
            <a:off x="4889520" y="1771560"/>
            <a:ext cx="35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思想教育为主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文本框 293901"/>
          <p:cNvSpPr/>
          <p:nvPr/>
        </p:nvSpPr>
        <p:spPr>
          <a:xfrm>
            <a:off x="4875120" y="26496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技能训练为主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文本框 293902"/>
          <p:cNvSpPr/>
          <p:nvPr/>
        </p:nvSpPr>
        <p:spPr>
          <a:xfrm>
            <a:off x="4889520" y="351792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职业预备教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矩形 293904"/>
          <p:cNvSpPr/>
          <p:nvPr/>
        </p:nvSpPr>
        <p:spPr>
          <a:xfrm>
            <a:off x="4383000" y="1628640"/>
            <a:ext cx="4292640" cy="2664000"/>
          </a:xfrm>
          <a:prstGeom prst="rect">
            <a:avLst/>
          </a:prstGeom>
          <a:noFill/>
          <a:ln w="9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组合 293911"/>
          <p:cNvGrpSpPr/>
          <p:nvPr/>
        </p:nvGrpSpPr>
        <p:grpSpPr>
          <a:xfrm>
            <a:off x="3274920" y="1814400"/>
            <a:ext cx="735120" cy="2217600"/>
            <a:chOff x="3274920" y="1814400"/>
            <a:chExt cx="735120" cy="2217600"/>
          </a:xfrm>
        </p:grpSpPr>
        <p:sp>
          <p:nvSpPr>
            <p:cNvPr id="350" name="右箭头 293906"/>
            <p:cNvSpPr/>
            <p:nvPr/>
          </p:nvSpPr>
          <p:spPr>
            <a:xfrm>
              <a:off x="3274920" y="1814400"/>
              <a:ext cx="720720" cy="431640"/>
            </a:xfrm>
            <a:prstGeom prst="rightArrow">
              <a:avLst>
                <a:gd name="adj1" fmla="val 50000"/>
                <a:gd name="adj2" fmla="val 41735"/>
              </a:avLst>
            </a:prstGeom>
            <a:solidFill>
              <a:srgbClr val="ffd45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右箭头 293907"/>
            <p:cNvSpPr/>
            <p:nvPr/>
          </p:nvSpPr>
          <p:spPr>
            <a:xfrm>
              <a:off x="3289320" y="2722320"/>
              <a:ext cx="720720" cy="431640"/>
            </a:xfrm>
            <a:prstGeom prst="rightArrow">
              <a:avLst>
                <a:gd name="adj1" fmla="val 50000"/>
                <a:gd name="adj2" fmla="val 41735"/>
              </a:avLst>
            </a:prstGeom>
            <a:solidFill>
              <a:srgbClr val="ffd45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右箭头 293908"/>
            <p:cNvSpPr/>
            <p:nvPr/>
          </p:nvSpPr>
          <p:spPr>
            <a:xfrm>
              <a:off x="3274920" y="3600360"/>
              <a:ext cx="720720" cy="431640"/>
            </a:xfrm>
            <a:prstGeom prst="rightArrow">
              <a:avLst>
                <a:gd name="adj1" fmla="val 50000"/>
                <a:gd name="adj2" fmla="val 41735"/>
              </a:avLst>
            </a:prstGeom>
            <a:solidFill>
              <a:srgbClr val="ffd45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" name="组合 293926"/>
          <p:cNvGrpSpPr/>
          <p:nvPr/>
        </p:nvGrpSpPr>
        <p:grpSpPr>
          <a:xfrm>
            <a:off x="533520" y="4952880"/>
            <a:ext cx="8137440" cy="1454040"/>
            <a:chOff x="533520" y="4952880"/>
            <a:chExt cx="8137440" cy="1454040"/>
          </a:xfrm>
        </p:grpSpPr>
        <p:sp>
          <p:nvSpPr>
            <p:cNvPr id="354" name="右箭头 293909"/>
            <p:cNvSpPr/>
            <p:nvPr/>
          </p:nvSpPr>
          <p:spPr>
            <a:xfrm>
              <a:off x="3241800" y="5486040"/>
              <a:ext cx="720720" cy="432000"/>
            </a:xfrm>
            <a:prstGeom prst="rightArrow">
              <a:avLst>
                <a:gd name="adj1" fmla="val 50000"/>
                <a:gd name="adj2" fmla="val 41701"/>
              </a:avLst>
            </a:prstGeom>
            <a:solidFill>
              <a:srgbClr val="ffffcc"/>
            </a:solidFill>
            <a:ln w="936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文本框 293897"/>
            <p:cNvSpPr/>
            <p:nvPr/>
          </p:nvSpPr>
          <p:spPr>
            <a:xfrm>
              <a:off x="620640" y="5427360"/>
              <a:ext cx="250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素质取向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文本框 293910"/>
            <p:cNvSpPr/>
            <p:nvPr/>
          </p:nvSpPr>
          <p:spPr>
            <a:xfrm>
              <a:off x="4494240" y="4995720"/>
              <a:ext cx="417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提高学生技术素养，促进学生全面而个性化地发展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矩形 293913"/>
            <p:cNvSpPr/>
            <p:nvPr/>
          </p:nvSpPr>
          <p:spPr>
            <a:xfrm>
              <a:off x="4421160" y="4952880"/>
              <a:ext cx="4230720" cy="1439640"/>
            </a:xfrm>
            <a:prstGeom prst="rect">
              <a:avLst/>
            </a:prstGeom>
            <a:noFill/>
            <a:ln w="2844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矩形 293914"/>
            <p:cNvSpPr/>
            <p:nvPr/>
          </p:nvSpPr>
          <p:spPr>
            <a:xfrm>
              <a:off x="533520" y="4966920"/>
              <a:ext cx="2449440" cy="1440000"/>
            </a:xfrm>
            <a:prstGeom prst="rect">
              <a:avLst/>
            </a:prstGeom>
            <a:noFill/>
            <a:ln w="2844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组合 293925"/>
          <p:cNvGrpSpPr/>
          <p:nvPr/>
        </p:nvGrpSpPr>
        <p:grpSpPr>
          <a:xfrm>
            <a:off x="1260360" y="4365720"/>
            <a:ext cx="5672160" cy="474480"/>
            <a:chOff x="1260360" y="4365720"/>
            <a:chExt cx="5672160" cy="474480"/>
          </a:xfrm>
        </p:grpSpPr>
        <p:sp>
          <p:nvSpPr>
            <p:cNvPr id="360" name="下箭头 293923"/>
            <p:cNvSpPr/>
            <p:nvPr/>
          </p:nvSpPr>
          <p:spPr>
            <a:xfrm>
              <a:off x="1260360" y="4408560"/>
              <a:ext cx="86364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下箭头 293924"/>
            <p:cNvSpPr/>
            <p:nvPr/>
          </p:nvSpPr>
          <p:spPr>
            <a:xfrm>
              <a:off x="6068880" y="4365720"/>
              <a:ext cx="863640" cy="431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00"/>
            </a:soli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51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2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6:58Z</dcterms:created>
  <dc:creator/>
  <dc:description/>
  <cp:keywords>高中 技术 课程 标准</cp:keywords>
  <dc:language>en-US</dc:language>
  <cp:lastModifiedBy>An</cp:lastModifiedBy>
  <dcterms:modified xsi:type="dcterms:W3CDTF">2016-05-01T00:46:5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