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5D2-115B-4880-AB42-6DAE6438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120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D1F-2CE5-4AA4-87A8-CE63D8D1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794-E64D-4154-B903-C5E43575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23619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23619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120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43120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43120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9CA-5728-4DE5-A6BA-22EF5B83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5ED0-5539-4793-93E9-A9E64F92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24CF-7DB7-4163-B56C-7068FE07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CB42-BDBB-4E9D-9AF7-81221613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42F7-EA25-44F7-9E7B-86CD8E8C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4EC1-2027-487A-9C1E-535E7D4A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1920" y="1371600"/>
            <a:ext cx="8186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51B5-70D3-4ADD-A5E4-86EAACB5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9213-E2EE-4C24-98CA-C5B937A6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E80-0668-4472-86B3-0DE17036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9318-14A7-4C62-8473-77EA3384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120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1672-0035-4BCB-9C3C-9DCE7426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3120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7D1C-18D5-4209-B6D9-6765ECEA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7D18-AB6A-4463-BA17-2A86B6C4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23619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23619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3120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43120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43120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6750-F237-4EE0-9CFA-562A5A90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E66DE-2AAA-42FB-A1C8-B0F09B52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3AFFC-6064-4F94-8BD4-6E757D2E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6A8BD-C688-4751-9E15-119C3FCB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17734-39CB-4C8D-BBF6-8F865068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D4A93-D14F-4EF2-AF9B-8BE9980C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4CF-E980-48F1-92CB-F0DCFDAD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21920" y="1371600"/>
            <a:ext cx="8186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8245B-0A9E-48A8-A37F-5480B1A9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39CE5-E526-4555-B853-CD9E09BB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3536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EFCF-0142-4DAE-8D9A-96FA8B0D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3120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81A51-810C-4120-B3A6-96E3DDD3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3120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F51FB-A711-4354-B9CB-D490D8E1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3536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13C18-20D3-4D71-8241-B3B6AA3F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4080" y="23619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0600" y="23619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3120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4080" y="43120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0600" y="43120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F2707-AAEC-4D1A-8371-A52B0666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A6E-3AE6-40A1-B004-163764CF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B35-E1D0-4FA4-89CA-FE5B3973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1920" y="1371600"/>
            <a:ext cx="8186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E81-057B-443D-849F-5FA12073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C15-683C-4D09-B988-62FAC33C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894-92FB-443F-8190-708D5BF6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120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38E-31CA-42C9-9C0C-0F82D5A5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3a72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2" marL="102852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3" marL="144000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4" marL="185148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5" marL="185148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6" marL="185148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04760" y="617220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D67C-5222-4B3C-94CA-C4280CDBC56D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F197-624E-4AA3-9735-AF6DC060FEA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54DF-602C-4326-A5F4-84CF9DFFDAE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3a72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2" marL="102852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3" marL="144000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4" marL="185148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5" marL="185148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6" marL="185148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286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361960" y="6477120"/>
            <a:ext cx="4343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34E3-056F-4438-9277-3B1B648CA66C}" type="slidenum">
              <a:rPr b="1" lang="zh-CN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800" y="914400"/>
            <a:ext cx="54878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111111"/>
                </a:solidFill>
                <a:latin typeface="华文彩云"/>
                <a:ea typeface="华文彩云"/>
              </a:rPr>
              <a:t>群体心理</a:t>
            </a:r>
            <a:endParaRPr b="1" lang="en-US" sz="55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248160" y="1557000"/>
            <a:ext cx="2895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幼圆"/>
                <a:ea typeface="幼圆"/>
              </a:rPr>
              <a:t>人际知觉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幼圆"/>
                <a:ea typeface="幼圆"/>
              </a:rPr>
              <a:t>人际关系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幼圆"/>
                <a:ea typeface="幼圆"/>
              </a:rPr>
              <a:t>群体心理规律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幼圆"/>
                <a:ea typeface="幼圆"/>
              </a:rPr>
              <a:t>群体动力学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幼圆"/>
                <a:ea typeface="幼圆"/>
              </a:rPr>
              <a:t>群体发展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幼圆"/>
                <a:ea typeface="幼圆"/>
              </a:rPr>
              <a:t>群体冲突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5" name="日期占位符 1"/>
          <p:cNvSpPr/>
          <p:nvPr/>
        </p:nvSpPr>
        <p:spPr>
          <a:xfrm>
            <a:off x="2286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群体动力学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士气和凝聚力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规范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3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群体发展阶段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建立阶段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紧张阶段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初步整合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完全整合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6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群体冲突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冲突的两种解决方式：武断和合作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有效和无效冲突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9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13313"/>
          <p:cNvSpPr/>
          <p:nvPr/>
        </p:nvSpPr>
        <p:spPr>
          <a:xfrm>
            <a:off x="1523880" y="914400"/>
            <a:ext cx="6705720" cy="4267080"/>
          </a:xfrm>
          <a:prstGeom prst="rect">
            <a:avLst/>
          </a:prstGeom>
          <a:solidFill>
            <a:srgbClr val="ffcc99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523880" y="4724280"/>
            <a:ext cx="6705720" cy="360"/>
            <a:chOff x="1523880" y="4724280"/>
            <a:chExt cx="6705720" cy="360"/>
          </a:xfrm>
        </p:grpSpPr>
        <p:sp>
          <p:nvSpPr>
            <p:cNvPr id="192" name="直接连接符 13314"/>
            <p:cNvSpPr/>
            <p:nvPr/>
          </p:nvSpPr>
          <p:spPr>
            <a:xfrm>
              <a:off x="1523880" y="4724280"/>
              <a:ext cx="6705720" cy="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1523880" y="4724280"/>
              <a:ext cx="6705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523880" y="1447920"/>
            <a:ext cx="6705720" cy="360"/>
            <a:chOff x="1523880" y="1447920"/>
            <a:chExt cx="6705720" cy="360"/>
          </a:xfrm>
        </p:grpSpPr>
        <p:sp>
          <p:nvSpPr>
            <p:cNvPr id="195" name="直接连接符 13315"/>
            <p:cNvSpPr/>
            <p:nvPr/>
          </p:nvSpPr>
          <p:spPr>
            <a:xfrm>
              <a:off x="1523880" y="1447920"/>
              <a:ext cx="6705720" cy="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1523880" y="1447920"/>
              <a:ext cx="6705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819520" y="914400"/>
            <a:ext cx="360" cy="4267080"/>
            <a:chOff x="2819520" y="914400"/>
            <a:chExt cx="360" cy="4267080"/>
          </a:xfrm>
        </p:grpSpPr>
        <p:sp>
          <p:nvSpPr>
            <p:cNvPr id="198" name="直接连接符 13316"/>
            <p:cNvSpPr/>
            <p:nvPr/>
          </p:nvSpPr>
          <p:spPr>
            <a:xfrm>
              <a:off x="2819520" y="914400"/>
              <a:ext cx="0" cy="426708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2819520" y="914400"/>
              <a:ext cx="360" cy="426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162920" y="914400"/>
            <a:ext cx="360" cy="4267080"/>
            <a:chOff x="7162920" y="914400"/>
            <a:chExt cx="360" cy="4267080"/>
          </a:xfrm>
        </p:grpSpPr>
        <p:sp>
          <p:nvSpPr>
            <p:cNvPr id="201" name="直接连接符 13317"/>
            <p:cNvSpPr/>
            <p:nvPr/>
          </p:nvSpPr>
          <p:spPr>
            <a:xfrm>
              <a:off x="7162920" y="914400"/>
              <a:ext cx="0" cy="426708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7162920" y="914400"/>
              <a:ext cx="360" cy="426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523880" y="5181480"/>
            <a:ext cx="6705720" cy="360"/>
            <a:chOff x="1523880" y="5181480"/>
            <a:chExt cx="6705720" cy="360"/>
          </a:xfrm>
        </p:grpSpPr>
        <p:sp>
          <p:nvSpPr>
            <p:cNvPr id="204" name="直接连接符 13318"/>
            <p:cNvSpPr/>
            <p:nvPr/>
          </p:nvSpPr>
          <p:spPr>
            <a:xfrm>
              <a:off x="1523880" y="5181480"/>
              <a:ext cx="6705720" cy="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1523880" y="5181480"/>
              <a:ext cx="6705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523520" y="914040"/>
            <a:ext cx="360" cy="4267080"/>
            <a:chOff x="1523520" y="914040"/>
            <a:chExt cx="360" cy="4267080"/>
          </a:xfrm>
        </p:grpSpPr>
        <p:sp>
          <p:nvSpPr>
            <p:cNvPr id="207" name="直接连接符 13319"/>
            <p:cNvSpPr/>
            <p:nvPr/>
          </p:nvSpPr>
          <p:spPr>
            <a:xfrm flipV="1">
              <a:off x="1523880" y="914040"/>
              <a:ext cx="0" cy="4267080"/>
            </a:xfrm>
            <a:prstGeom prst="line">
              <a:avLst/>
            </a:prstGeom>
            <a:ln w="9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 rot="10800000">
              <a:off x="1523520" y="914040"/>
              <a:ext cx="360" cy="426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523520" y="914040"/>
            <a:ext cx="360" cy="4267080"/>
            <a:chOff x="1523520" y="914040"/>
            <a:chExt cx="360" cy="4267080"/>
          </a:xfrm>
        </p:grpSpPr>
        <p:sp>
          <p:nvSpPr>
            <p:cNvPr id="210" name="直接连接符 13320"/>
            <p:cNvSpPr/>
            <p:nvPr/>
          </p:nvSpPr>
          <p:spPr>
            <a:xfrm flipV="1">
              <a:off x="1523880" y="914040"/>
              <a:ext cx="0" cy="426708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 rot="10800000">
              <a:off x="1523520" y="914040"/>
              <a:ext cx="360" cy="426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sp>
        <p:nvSpPr>
          <p:cNvPr id="212" name="文本框 13321"/>
          <p:cNvSpPr/>
          <p:nvPr/>
        </p:nvSpPr>
        <p:spPr>
          <a:xfrm>
            <a:off x="4800600" y="5410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合作方向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3" name="文本框 13322"/>
          <p:cNvSpPr/>
          <p:nvPr/>
        </p:nvSpPr>
        <p:spPr>
          <a:xfrm>
            <a:off x="838080" y="160020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武断方向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4" name="文本框 13323"/>
          <p:cNvSpPr/>
          <p:nvPr/>
        </p:nvSpPr>
        <p:spPr>
          <a:xfrm>
            <a:off x="1600200" y="4800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躲避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5" name="文本框 13324"/>
          <p:cNvSpPr/>
          <p:nvPr/>
        </p:nvSpPr>
        <p:spPr>
          <a:xfrm>
            <a:off x="7162920" y="990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合作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6" name="文本框 13325"/>
          <p:cNvSpPr/>
          <p:nvPr/>
        </p:nvSpPr>
        <p:spPr>
          <a:xfrm>
            <a:off x="45720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折衷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7" name="文本框 13326"/>
          <p:cNvSpPr/>
          <p:nvPr/>
        </p:nvSpPr>
        <p:spPr>
          <a:xfrm>
            <a:off x="7238880" y="4800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通融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8" name="文本框 13327"/>
          <p:cNvSpPr/>
          <p:nvPr/>
        </p:nvSpPr>
        <p:spPr>
          <a:xfrm>
            <a:off x="1676520" y="990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竞争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93a72f"/>
              </a:solidFill>
              <a:latin typeface="Times New Roman"/>
              <a:ea typeface="华文彩云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1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拯救月球飞船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你是一名在月球工作小组的宇航员，原计划在月球光亮的一面与母船会合。然而，由于机械故障，你们的飞船被迫降落于会合点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２０公里之外。降落中，大部分装备报废。因为获救取决于到达母船，宇航员小组必须为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２０公里的路程挑选携带物。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下面给出了１５件剩余的完好物，你的工作是为小组到达会合点挑选装备。请按其重要性程度在后面标出数字，最重要的为第１，依此类推，排到第１５。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4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剩余物品清单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一盒火柴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压缩食品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５０米尼龙绳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降落伞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手提加热器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两只</a:t>
            </a:r>
            <a:r>
              <a:rPr b="0" lang="en-US" sz="2800" spc="-1" strike="noStrike">
                <a:solidFill>
                  <a:srgbClr val="ff9900"/>
                </a:solidFill>
                <a:latin typeface="黑体"/>
                <a:ea typeface="黑体"/>
              </a:rPr>
              <a:t>4.5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口径的手枪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一箱脱水特制奶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２个１００磅氧气瓶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月球星图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救生筏子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罗盘               </a:t>
            </a:r>
            <a:r>
              <a:rPr b="0" lang="en-US" sz="2800" spc="-1" strike="noStrike">
                <a:solidFill>
                  <a:srgbClr val="ff99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加仑水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信号弹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有注射针头的急救箱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太阳能调频收发报机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7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510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93a72f"/>
                </a:solidFill>
                <a:latin typeface="华文彩云"/>
                <a:ea typeface="华文彩云"/>
              </a:rPr>
              <a:t>请每个人排一个顺序</a:t>
            </a:r>
            <a:endParaRPr b="1" lang="en-US" sz="41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240" y="5790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9900"/>
              </a:solidFill>
              <a:latin typeface="幼圆"/>
              <a:ea typeface="幼圆"/>
            </a:endParaRPr>
          </a:p>
        </p:txBody>
      </p:sp>
      <p:sp>
        <p:nvSpPr>
          <p:cNvPr id="230" name="日期占位符 1"/>
          <p:cNvSpPr/>
          <p:nvPr/>
        </p:nvSpPr>
        <p:spPr>
          <a:xfrm>
            <a:off x="2286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群体决策练习要点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避免为个人的判断而争吵，要根据任务的逻辑趋向决策问题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避免仅为达成一致，防止冲突而改变自己的观点；只支持那些你至少在某种程度上同意的解决办法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3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群体决策练习要点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避免使用诸如多数表决、平均、交易等“冲突减少”技术来达到赞同自己的目的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将他人的观点视为某种决策的帮助而不是障碍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避免讨论等级时作“输赢”论断，摒弃讨论中一些人赢，一些人输的观念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将初步的一致视为某种猜想，探索表面一致的背后原因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6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510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93a72f"/>
                </a:solidFill>
                <a:latin typeface="华文彩云"/>
                <a:ea typeface="华文彩云"/>
              </a:rPr>
              <a:t>结果分析</a:t>
            </a:r>
            <a:endParaRPr b="1" lang="en-US" sz="41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240" y="5790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9900"/>
              </a:solidFill>
              <a:latin typeface="幼圆"/>
              <a:ea typeface="幼圆"/>
            </a:endParaRPr>
          </a:p>
        </p:txBody>
      </p:sp>
      <p:sp>
        <p:nvSpPr>
          <p:cNvPr id="239" name="日期占位符 1"/>
          <p:cNvSpPr/>
          <p:nvPr/>
        </p:nvSpPr>
        <p:spPr>
          <a:xfrm>
            <a:off x="2286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人际知觉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印象不是特征的线性相加，也不是混合，而是几种特质相互结合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区分中心特质与外周特质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Solomon E. Asch(1946) 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的研究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只有一个形容词在描述中会稍有不同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（热情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—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冷酷的、客气的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—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生硬的）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判断知觉的时间特征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晕轮效应 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8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谢谢，再会！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5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上下级的看法误差</a:t>
            </a:r>
            <a:r>
              <a:rPr b="1" lang="en-US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(Likert,1961)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99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1981080"/>
          <a:ext cx="7772400" cy="4762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87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9900"/>
                          </a:solidFill>
                          <a:latin typeface="Times New Roman"/>
                          <a:ea typeface="幼圆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9900"/>
                          </a:solidFill>
                          <a:latin typeface="Times New Roman"/>
                          <a:ea typeface="幼圆"/>
                        </a:rPr>
                        <a:t>对“怎样对待优秀工作”的看法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9900"/>
                          </a:solidFill>
                          <a:latin typeface="Times New Roman"/>
                          <a:ea typeface="幼圆"/>
                        </a:rPr>
                        <a:t>上级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9900"/>
                          </a:solidFill>
                          <a:latin typeface="Times New Roman"/>
                          <a:ea typeface="幼圆"/>
                        </a:rPr>
                        <a:t>下级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9900"/>
                          </a:solidFill>
                          <a:latin typeface="Times New Roman"/>
                          <a:ea typeface="幼圆"/>
                        </a:rPr>
                        <a:t>给特权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幼圆"/>
                        </a:rPr>
                        <a:t>52%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幼圆"/>
                        </a:rPr>
                        <a:t>14%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9900"/>
                          </a:solidFill>
                          <a:latin typeface="Times New Roman"/>
                          <a:ea typeface="幼圆"/>
                        </a:rPr>
                        <a:t>给责任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幼圆"/>
                        </a:rPr>
                        <a:t>48%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幼圆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9900"/>
                          </a:solidFill>
                          <a:latin typeface="Times New Roman"/>
                          <a:ea typeface="幼圆"/>
                        </a:rPr>
                        <a:t>由奖赏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9900"/>
                          </a:solidFill>
                          <a:latin typeface="Times New Roman"/>
                          <a:ea typeface="幼圆"/>
                        </a:rPr>
                        <a:t>表达信任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幼圆"/>
                        </a:rPr>
                        <a:t>80%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幼圆"/>
                        </a:rPr>
                        <a:t>14%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人际知觉的改进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全面、多角度的观察人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控制自己的情绪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确立用人的哲学观念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5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人际关系差异来源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思考方式差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 algn="ctr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决策方式差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 algn="ctr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利用时间方式差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 algn="ctr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工作速度差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 algn="ctr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谈话交际方式差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 algn="ctr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处理情感问题方式差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 algn="ctr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对待压力方式差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 algn="ctr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对冲突意见看待方式的差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8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群体人际关系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人际关系的分析和观察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例如，人际距离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人际交往的改进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例如，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PAC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分析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1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椭圆 38913"/>
          <p:cNvSpPr/>
          <p:nvPr/>
        </p:nvSpPr>
        <p:spPr>
          <a:xfrm>
            <a:off x="1905120" y="1752480"/>
            <a:ext cx="167616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3" name="椭圆 38914"/>
          <p:cNvSpPr/>
          <p:nvPr/>
        </p:nvSpPr>
        <p:spPr>
          <a:xfrm>
            <a:off x="1905120" y="3276720"/>
            <a:ext cx="1676160" cy="914400"/>
          </a:xfrm>
          <a:prstGeom prst="ellipse">
            <a:avLst/>
          </a:pr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4" name="椭圆 38915"/>
          <p:cNvSpPr/>
          <p:nvPr/>
        </p:nvSpPr>
        <p:spPr>
          <a:xfrm>
            <a:off x="1828800" y="4876920"/>
            <a:ext cx="1676520" cy="914400"/>
          </a:xfrm>
          <a:prstGeom prst="ellipse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5" name="椭圆 38916"/>
          <p:cNvSpPr/>
          <p:nvPr/>
        </p:nvSpPr>
        <p:spPr>
          <a:xfrm>
            <a:off x="5181480" y="4876920"/>
            <a:ext cx="167652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6" name="椭圆 38917"/>
          <p:cNvSpPr/>
          <p:nvPr/>
        </p:nvSpPr>
        <p:spPr>
          <a:xfrm>
            <a:off x="5181480" y="3429000"/>
            <a:ext cx="167652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7" name="椭圆 38918"/>
          <p:cNvSpPr/>
          <p:nvPr/>
        </p:nvSpPr>
        <p:spPr>
          <a:xfrm>
            <a:off x="5105520" y="1828800"/>
            <a:ext cx="167616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8" name="文本框 38919"/>
          <p:cNvSpPr/>
          <p:nvPr/>
        </p:nvSpPr>
        <p:spPr>
          <a:xfrm>
            <a:off x="24382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9" name="文本框 38920"/>
          <p:cNvSpPr/>
          <p:nvPr/>
        </p:nvSpPr>
        <p:spPr>
          <a:xfrm>
            <a:off x="56386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0" name="文本框 38921"/>
          <p:cNvSpPr/>
          <p:nvPr/>
        </p:nvSpPr>
        <p:spPr>
          <a:xfrm>
            <a:off x="2438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1" name="文本框 38922"/>
          <p:cNvSpPr/>
          <p:nvPr/>
        </p:nvSpPr>
        <p:spPr>
          <a:xfrm>
            <a:off x="55627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2" name="文本框 38923"/>
          <p:cNvSpPr/>
          <p:nvPr/>
        </p:nvSpPr>
        <p:spPr>
          <a:xfrm>
            <a:off x="2362320" y="5105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3" name="文本框 38924"/>
          <p:cNvSpPr/>
          <p:nvPr/>
        </p:nvSpPr>
        <p:spPr>
          <a:xfrm>
            <a:off x="5638680" y="5029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4" name="文本框 38925"/>
          <p:cNvSpPr/>
          <p:nvPr/>
        </p:nvSpPr>
        <p:spPr>
          <a:xfrm>
            <a:off x="2438280" y="990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5" name="文本框 38926"/>
          <p:cNvSpPr/>
          <p:nvPr/>
        </p:nvSpPr>
        <p:spPr>
          <a:xfrm>
            <a:off x="2133720" y="762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一个人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6" name="文本框 38927"/>
          <p:cNvSpPr/>
          <p:nvPr/>
        </p:nvSpPr>
        <p:spPr>
          <a:xfrm>
            <a:off x="5105520" y="838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另一人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58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群体行为规律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60" name="矩形 28674"/>
          <p:cNvSpPr/>
          <p:nvPr/>
        </p:nvSpPr>
        <p:spPr>
          <a:xfrm>
            <a:off x="4952880" y="2819520"/>
            <a:ext cx="2590920" cy="3047760"/>
          </a:xfrm>
          <a:prstGeom prst="rect">
            <a:avLst/>
          </a:prstGeom>
          <a:solidFill>
            <a:srgbClr val="fffff7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1" name="矩形 28675"/>
          <p:cNvSpPr/>
          <p:nvPr/>
        </p:nvSpPr>
        <p:spPr>
          <a:xfrm>
            <a:off x="1371600" y="2743200"/>
            <a:ext cx="2590920" cy="3200400"/>
          </a:xfrm>
          <a:prstGeom prst="rect">
            <a:avLst/>
          </a:prstGeom>
          <a:solidFill>
            <a:srgbClr val="fffff7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666880" y="3352680"/>
            <a:ext cx="360" cy="1600200"/>
            <a:chOff x="2666880" y="3352680"/>
            <a:chExt cx="360" cy="1600200"/>
          </a:xfrm>
        </p:grpSpPr>
        <p:sp>
          <p:nvSpPr>
            <p:cNvPr id="163" name="直接连接符 28676"/>
            <p:cNvSpPr/>
            <p:nvPr/>
          </p:nvSpPr>
          <p:spPr>
            <a:xfrm>
              <a:off x="2666880" y="3352680"/>
              <a:ext cx="0" cy="160020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2666880" y="335268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324480" y="3429000"/>
            <a:ext cx="360" cy="1600200"/>
            <a:chOff x="6324480" y="3429000"/>
            <a:chExt cx="360" cy="1600200"/>
          </a:xfrm>
        </p:grpSpPr>
        <p:sp>
          <p:nvSpPr>
            <p:cNvPr id="166" name="直接连接符 28677"/>
            <p:cNvSpPr/>
            <p:nvPr/>
          </p:nvSpPr>
          <p:spPr>
            <a:xfrm>
              <a:off x="6324480" y="3429000"/>
              <a:ext cx="0" cy="160020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6324480" y="342900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133720" y="3352680"/>
            <a:ext cx="360" cy="1828800"/>
            <a:chOff x="2133720" y="3352680"/>
            <a:chExt cx="360" cy="1828800"/>
          </a:xfrm>
        </p:grpSpPr>
        <p:sp>
          <p:nvSpPr>
            <p:cNvPr id="169" name="直接连接符 28678"/>
            <p:cNvSpPr/>
            <p:nvPr/>
          </p:nvSpPr>
          <p:spPr>
            <a:xfrm>
              <a:off x="2133720" y="3352680"/>
              <a:ext cx="0" cy="182880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2133720" y="3352680"/>
              <a:ext cx="36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276720" y="3048120"/>
            <a:ext cx="360" cy="2133360"/>
            <a:chOff x="3276720" y="3048120"/>
            <a:chExt cx="360" cy="2133360"/>
          </a:xfrm>
        </p:grpSpPr>
        <p:sp>
          <p:nvSpPr>
            <p:cNvPr id="172" name="直接连接符 28679"/>
            <p:cNvSpPr/>
            <p:nvPr/>
          </p:nvSpPr>
          <p:spPr>
            <a:xfrm>
              <a:off x="3276720" y="3048120"/>
              <a:ext cx="0" cy="213336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3276720" y="3048120"/>
              <a:ext cx="360" cy="21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sp>
        <p:nvSpPr>
          <p:cNvPr id="174" name="文本框 28680"/>
          <p:cNvSpPr/>
          <p:nvPr/>
        </p:nvSpPr>
        <p:spPr>
          <a:xfrm>
            <a:off x="17524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     B     C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5" name="文本框 28681"/>
          <p:cNvSpPr/>
          <p:nvPr/>
        </p:nvSpPr>
        <p:spPr>
          <a:xfrm>
            <a:off x="5334120" y="5257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X     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6" name="文本框 28682"/>
          <p:cNvSpPr/>
          <p:nvPr/>
        </p:nvSpPr>
        <p:spPr>
          <a:xfrm>
            <a:off x="4070880" y="2057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从众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7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群体行为规律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社会助长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/</a:t>
            </a: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社会干扰作用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竞争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竞争的优点和缺点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个体竞争和群体竞争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竞争与合作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责任分摊效应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0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8:37Z</dcterms:created>
  <dc:creator/>
  <dc:description/>
  <dc:language>en-US</dc:language>
  <cp:lastModifiedBy>An</cp:lastModifiedBy>
  <dcterms:modified xsi:type="dcterms:W3CDTF">2016-05-01T00:58:3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