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6F0-FAA2-4FE4-9B27-0B1DF3EB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905-0975-423C-8B6B-E49A3311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A21-A8D4-46E7-B6CC-A4D0124C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AF5-3EF7-4789-983E-5D62B997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0E7-350C-4C96-9562-E73E70CA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CF7-A46F-4D6F-ACB0-53C95505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516-D0D0-4983-A00D-12BD065C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0F1-D24A-4026-8B90-58E4F0E1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E45-041B-487E-9F93-C642EF02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C53-C52B-4965-AF82-3F2CDF0A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4E5-1244-4B5B-A00C-EE16D2C5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A33-335A-4FFF-A547-D156CCF1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D252-53F0-4B05-A526-DCA0F01CD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-20520" y="33336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14400" y="29718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2276640"/>
            <a:ext cx="9144000" cy="285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时间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几月几日，星期几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天气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晴、 多云、阴、雨、雪、冰雹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638360" y="2637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-20520" y="48848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月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日  星期三  小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1638360" y="3429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92600" y="112536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日记两则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2209680"/>
            <a:ext cx="8839080" cy="311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阿英妹妹是谁？她在哪里？妈妈明明知道我喜欢那条裙子，却不给我买，妈妈真小气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2514600" y="0"/>
            <a:ext cx="5791320" cy="1981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971800" y="457200"/>
            <a:ext cx="54100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埋怨    不高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4920" y="304920"/>
            <a:ext cx="8839080" cy="206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阿英妹妹是个苗家小姑娘，家住贵州山区。她告诉我，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是妈妈一直寄钱帮助她读书，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要不，她早就失学了。她还说，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她穿的衣服和来我家的路费，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也是我妈妈寄去的。阿英很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勤快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，总是帮妈妈干活，她很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好学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，不是看书就是问问题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7200" y="2133720"/>
            <a:ext cx="86868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在梦里我和阿英一起去了苗家山寨，看到了许多苗家小姑娘。我从书包里拿出书送给她们，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她们高兴得围着我跳起舞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2895480" y="304920"/>
            <a:ext cx="4648320" cy="16761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038480" y="533520"/>
            <a:ext cx="3048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高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-36360" y="0"/>
            <a:ext cx="9144000" cy="69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uó tiān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mèi mei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xué xiào  shū bāo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āng zhù   dú shū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ào nián ér tō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6360" y="10540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昨天   妹妹  学校 书包  帮 助  读书  少 年儿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304920"/>
            <a:ext cx="9144000" cy="151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日   星期五    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昨天晚上，我做了个梦。梦见我穿上了摆在商店里的那条裙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3429000"/>
            <a:ext cx="9144000" cy="240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日    星期日    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阿英妹妹昨天到我家来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阿英是个苗家小姑娘，家住贵州山区。她告诉我，是妈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457200"/>
            <a:ext cx="9144000" cy="366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Times New Roman"/>
              </a:rPr>
              <a:t>则</a:t>
            </a:r>
            <a:r>
              <a:rPr b="1" lang="zh-CN" sz="11700" spc="-1" strike="noStrike">
                <a:solidFill>
                  <a:srgbClr val="000000"/>
                </a:solidFill>
                <a:latin typeface="Times New Roman"/>
              </a:rPr>
              <a:t>昨</a:t>
            </a:r>
            <a:r>
              <a:rPr b="1" lang="zh-CN" sz="11700" spc="-1" strike="noStrike">
                <a:solidFill>
                  <a:srgbClr val="ff0000"/>
                </a:solidFill>
                <a:latin typeface="Times New Roman"/>
              </a:rPr>
              <a:t>纱</a:t>
            </a:r>
            <a:r>
              <a:rPr b="1" lang="zh-CN" sz="11700" spc="-1" strike="noStrike">
                <a:solidFill>
                  <a:srgbClr val="000000"/>
                </a:solidFill>
                <a:latin typeface="Times New Roman"/>
              </a:rPr>
              <a:t>羡</a:t>
            </a:r>
            <a:r>
              <a:rPr b="1" lang="zh-CN" sz="11700" spc="-1" strike="noStrike">
                <a:solidFill>
                  <a:srgbClr val="ff0000"/>
                </a:solidFill>
                <a:latin typeface="Times New Roman"/>
              </a:rPr>
              <a:t>慕</a:t>
            </a:r>
            <a:r>
              <a:rPr b="1" lang="zh-CN" sz="11700" spc="-1" strike="noStrike">
                <a:solidFill>
                  <a:srgbClr val="000000"/>
                </a:solidFill>
                <a:latin typeface="Times New Roman"/>
              </a:rPr>
              <a:t>粉</a:t>
            </a:r>
            <a:r>
              <a:rPr b="1" lang="zh-CN" sz="11700" spc="-1" strike="noStrike">
                <a:solidFill>
                  <a:srgbClr val="ff0000"/>
                </a:solidFill>
                <a:latin typeface="Times New Roman"/>
              </a:rPr>
              <a:t>料</a:t>
            </a:r>
            <a:r>
              <a:rPr b="1" lang="zh-CN" sz="11700" spc="-1" strike="noStrike">
                <a:solidFill>
                  <a:srgbClr val="000000"/>
                </a:solidFill>
                <a:latin typeface="Times New Roman"/>
              </a:rPr>
              <a:t>套</a:t>
            </a:r>
            <a:r>
              <a:rPr b="1" lang="zh-CN" sz="11700" spc="-1" strike="noStrike">
                <a:solidFill>
                  <a:srgbClr val="ff0000"/>
                </a:solidFill>
                <a:latin typeface="Times New Roman"/>
              </a:rPr>
              <a:t>份</a:t>
            </a:r>
            <a:r>
              <a:rPr b="1" lang="zh-CN" sz="11700" spc="-1" strike="noStrike">
                <a:solidFill>
                  <a:srgbClr val="000000"/>
                </a:solidFill>
                <a:latin typeface="Times New Roman"/>
              </a:rPr>
              <a:t>妹</a:t>
            </a:r>
            <a:r>
              <a:rPr b="1" lang="zh-CN" sz="11700" spc="-1" strike="noStrike">
                <a:solidFill>
                  <a:srgbClr val="ff0000"/>
                </a:solidFill>
                <a:latin typeface="Times New Roman"/>
              </a:rPr>
              <a:t>贵</a:t>
            </a:r>
            <a:r>
              <a:rPr b="1" lang="zh-CN" sz="11700" spc="-1" strike="noStrike">
                <a:solidFill>
                  <a:srgbClr val="000000"/>
                </a:solidFill>
                <a:latin typeface="Times New Roman"/>
              </a:rPr>
              <a:t>寄</a:t>
            </a:r>
            <a:r>
              <a:rPr b="1" lang="zh-CN" sz="11700" spc="-1" strike="noStrike">
                <a:solidFill>
                  <a:srgbClr val="ff0000"/>
                </a:solidFill>
                <a:latin typeface="Times New Roman"/>
              </a:rPr>
              <a:t>费</a:t>
            </a:r>
            <a:r>
              <a:rPr b="1" lang="zh-CN" sz="11700" spc="-1" strike="noStrike">
                <a:solidFill>
                  <a:srgbClr val="000000"/>
                </a:solidFill>
                <a:latin typeface="Times New Roman"/>
              </a:rPr>
              <a:t>份</a:t>
            </a:r>
            <a:r>
              <a:rPr b="1" lang="zh-CN" sz="11700" spc="-1" strike="noStrike">
                <a:solidFill>
                  <a:srgbClr val="ff0000"/>
                </a:solidFill>
                <a:latin typeface="Times New Roman"/>
              </a:rPr>
              <a:t>晴</a:t>
            </a:r>
            <a:r>
              <a:rPr b="1" lang="zh-CN" sz="11700" spc="-1" strike="noStrike">
                <a:solidFill>
                  <a:srgbClr val="000000"/>
                </a:solidFill>
                <a:latin typeface="Times New Roman"/>
              </a:rPr>
              <a:t>姑</a:t>
            </a:r>
            <a:r>
              <a:rPr b="1" lang="zh-CN" sz="11700" spc="-1" strike="noStrike">
                <a:solidFill>
                  <a:srgbClr val="ff0000"/>
                </a:solidFill>
                <a:latin typeface="Times New Roman"/>
              </a:rPr>
              <a:t>娘</a:t>
            </a:r>
            <a:r>
              <a:rPr b="1" lang="zh-CN" sz="11700" spc="-1" strike="noStrike">
                <a:solidFill>
                  <a:srgbClr val="000000"/>
                </a:solidFill>
                <a:latin typeface="Times New Roman"/>
              </a:rPr>
              <a:t>读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4B7-2DB0-412C-BD4E-0E0052F220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914400" y="2819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2514600"/>
            <a:ext cx="9144000" cy="22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0000"/>
                </a:solidFill>
                <a:latin typeface="Times New Roman"/>
              </a:rPr>
              <a:t>羡慕  姑娘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04920" y="1523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xiàn  mù      gū  nia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8720" y="6093000"/>
            <a:ext cx="611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143000" y="457200"/>
            <a:ext cx="7315200" cy="563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一则日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套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(           )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份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(           )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523880" y="2666880"/>
            <a:ext cx="14479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一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876920" y="2590920"/>
            <a:ext cx="32763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衣服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600200" y="4648320"/>
            <a:ext cx="13716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一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876920" y="4572000"/>
            <a:ext cx="24382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礼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RM_0724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609480" y="3352680"/>
            <a:ext cx="853452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我”一共做了几个梦？都是什么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0" y="68580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梦见我穿上了摆在商店橱窗里的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那条裙子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梦见妈妈带我去买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那条裙子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1211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-4680" y="762120"/>
            <a:ext cx="91486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那是一条镶着花边的白纱裙。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我穿着它走进学校，同学们都投来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羡慕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的眼光。今天是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我的节日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，妈妈一定会给我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买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那条裙子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05:45:42Z</dcterms:created>
  <dc:creator/>
  <dc:description/>
  <cp:keywords>幻灯片之家 http:/www.eeppt.com</cp:keywords>
  <dc:language>en-US</dc:language>
  <cp:lastModifiedBy/>
  <dcterms:modified xsi:type="dcterms:W3CDTF">2015-07-03T11:46:17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