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WINDOUT1.WAV" ContentType="audio/x-wav"/>
  <Override PartName="/ppt/media/ricochet.wav" ContentType="audio/x-wav"/>
  <Override PartName="/ppt/media/laser.wav" ContentType="audio/x-wav"/>
  <Override PartName="/ppt/media/image4.png" ContentType="image/png"/>
  <Override PartName="/ppt/media/whoosh.wav" ContentType="audio/x-wav"/>
  <Override PartName="/ppt/media/image2.gif" ContentType="image/gif"/>
  <Override PartName="/ppt/media/Ding.wav" ContentType="audio/x-wav"/>
  <Override PartName="/ppt/media/a7ef027.wav" ContentType="audio/x-wav"/>
  <Override PartName="/ppt/media/image5.jpeg" ContentType="image/jpeg"/>
  <Override PartName="/ppt/media/driveby.wav" ContentType="audio/x-wav"/>
  <Override PartName="/ppt/media/glass.wav" ContentType="audio/x-wav"/>
  <Override PartName="/ppt/media/ZOOMIN.WAV" ContentType="audio/x-wav"/>
  <Override PartName="/ppt/media/EXPLODE1.WAV" ContentType="audio/x-wav"/>
  <Override PartName="/ppt/media/projctor.wav" ContentType="audio/x-wav"/>
  <Override PartName="/ppt/media/40MM.WAV" ContentType="audio/x-wav"/>
  <Override PartName="/ppt/media/camera.wav" ContentType="audio/x-wav"/>
  <Override PartName="/ppt/media/image1.png" ContentType="image/png"/>
  <Override PartName="/ppt/media/boat.wav" ContentType="audio/x-wav"/>
  <Override PartName="/ppt/media/GO.WAV" ContentType="audio/x-wav"/>
  <Override PartName="/ppt/media/drumroll.wav" ContentType="audio/x-wav"/>
  <Override PartName="/ppt/media/type.wav" ContentType="audio/x-wav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F22-8BFC-447F-85E4-237C705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EBD-DCD6-4CEC-99B0-758B8A8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4A1-8FCC-457C-90DB-F89373C3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7E9-7DD8-4894-8F9A-269E95A5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2B1D-11A2-4FB8-98AB-77697C41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0848-F708-4FB5-A0B0-49745905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9283-C25E-47F1-8E1C-5908E71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7DF-F14A-46D3-8697-239F268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E19-7B89-4934-9BE7-B16F57BE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BC47-FD7C-446F-8ED9-5B2D44A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3FC1-535F-4D2A-A5BD-4808B08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AE9-BEB9-4643-992C-8A40F3C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BCD6-B518-4057-8E78-B20BB43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DBC1-469D-4626-8A50-E37F1C84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E82C-CC74-4C7A-A929-A93E3C44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251E-EBC4-4929-A07A-DC304556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F16D-905D-44FE-B647-1682945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4D06-6123-42CA-8DB8-0D36F800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613D-132A-4AEC-B849-507DA5D7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EA2C-0364-4A00-B003-6A41F23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C414-252C-47A9-9A9C-B21067C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0DFE-EBD6-44D6-A153-B1D193C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6E3-1ACA-40EE-A89E-90EF23F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97DB-28C6-4205-BEC1-8D7ED15C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BC24-9C77-43A9-9218-4780C5E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8F42-589B-4BCE-AEAD-251CAE64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93BA-F80C-4E31-96F6-64AEEE3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C680-63AF-43FC-AFFB-7B20536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6243-003D-4A73-B3F9-953C2C9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D1B2-2D0B-4CEE-BA68-142AC1F3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FD2-580F-4EB5-A7D6-5A614CBB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1E0-30EF-4B1E-988C-0C4DBE62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206-FCD5-4C88-A150-FA4F373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314-A0A6-42DF-A67F-D38EB53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F8B-49FD-4DB3-BAA0-53A9D31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98D-05A2-44FA-A763-2C5D45C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3553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任意多边形 23554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任意多边形 23555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任意多边形 23556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任意多边形 23557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任意多边形 23558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任意多边形 23559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任意多边形 23560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任意多边形 23561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任意多边形 23562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任意多边形 23563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任意多边形 23564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矩形 2356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任意多边形 23566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任意多边形 23567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任意多边形 23568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任意多边形 23569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矩形 23570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任意多边形 23571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任意多边形 23572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任意多边形 23573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任意多边形 23574"/>
            <p:cNvSpPr/>
            <p:nvPr/>
          </p:nvSpPr>
          <p:spPr>
            <a:xfrm flipH="1" rot="18897000">
              <a:off x="46440" y="6130800"/>
              <a:ext cx="1640880" cy="77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任意多边形 23575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任意多边形 23576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任意多边形 23577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任意多边形 23578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任意多边形 23579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矩形 23580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EC1-2DA9-4727-B762-B91B35775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864A-9016-473C-B4E6-6D532AE8E6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9B67-1D6D-44B6-AC6F-7126D7B2A9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4577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11" name="任意多边形 24578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任意多边形 24579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任意多边形 24580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任意多边形 24581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任意多边形 24582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任意多边形 24583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任意多边形 24584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任意多边形 24585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任意多边形 24586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任意多边形 24587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任意多边形 24588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矩形 24589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任意多边形 2459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任意多边形 2459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任意多边形 2459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任意多边形 2459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矩形 24594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任意多边形 24595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任意多边形 24596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任意多边形 24597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任意多边形 24598"/>
            <p:cNvSpPr/>
            <p:nvPr/>
          </p:nvSpPr>
          <p:spPr>
            <a:xfrm flipH="1" rot="18897000">
              <a:off x="46080" y="378540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任意多边形 24599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任意多边形 24600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任意多边形 24601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任意多边形 24602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任意多边形 24603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矩形 24604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矩形 2460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矩形 2460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图片 24607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A2B3-D7A1-4288-8876-4B438332643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O.WAV"/><Relationship Id="rId2" Type="http://schemas.openxmlformats.org/officeDocument/2006/relationships/audio" Target="../media/EXPLODE1.WAV"/><Relationship Id="rId3" Type="http://schemas.openxmlformats.org/officeDocument/2006/relationships/audio" Target="../media/ZOOM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GO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40MM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ing.wav"/><Relationship Id="rId3" Type="http://schemas.openxmlformats.org/officeDocument/2006/relationships/audio" Target="../media/boa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40MM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lase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40MM.WAV"/><Relationship Id="rId3" Type="http://schemas.openxmlformats.org/officeDocument/2006/relationships/audio" Target="../media/a7ef027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at.wav"/><Relationship Id="rId2" Type="http://schemas.openxmlformats.org/officeDocument/2006/relationships/audio" Target="../media/WINDOUT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GO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2049"/>
          <p:cNvSpPr/>
          <p:nvPr/>
        </p:nvSpPr>
        <p:spPr>
          <a:xfrm>
            <a:off x="289080" y="325440"/>
            <a:ext cx="56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文本框 2052"/>
          <p:cNvSpPr/>
          <p:nvPr/>
        </p:nvSpPr>
        <p:spPr>
          <a:xfrm rot="21307800">
            <a:off x="1835280" y="192204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诗歌鉴赏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文本框 2054"/>
          <p:cNvSpPr/>
          <p:nvPr/>
        </p:nvSpPr>
        <p:spPr>
          <a:xfrm>
            <a:off x="2971800" y="4724280"/>
            <a:ext cx="3352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</a:rPr>
              <a:t>《</a:t>
            </a:r>
            <a:r>
              <a:rPr b="0" lang="zh-CN" sz="3600" spc="-1" strike="noStrike" u="sng">
                <a:solidFill>
                  <a:srgbClr val="f98d43"/>
                </a:solidFill>
                <a:uFillTx/>
                <a:latin typeface="Times New Roman"/>
              </a:rPr>
              <a:t>雨霖铃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Times New Roman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ce15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32769"/>
          <p:cNvSpPr/>
          <p:nvPr/>
        </p:nvSpPr>
        <p:spPr>
          <a:xfrm>
            <a:off x="121932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          雨霖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32770"/>
          <p:cNvSpPr/>
          <p:nvPr/>
        </p:nvSpPr>
        <p:spPr>
          <a:xfrm>
            <a:off x="5715000" y="838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柳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文本框 32771"/>
          <p:cNvSpPr/>
          <p:nvPr/>
        </p:nvSpPr>
        <p:spPr>
          <a:xfrm>
            <a:off x="685800" y="187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2663a0"/>
                </a:solidFill>
                <a:latin typeface="Times New Roman"/>
                <a:ea typeface="华文行楷"/>
              </a:rPr>
              <a:t>寒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凄切，对</a:t>
            </a:r>
            <a:r>
              <a:rPr b="0" lang="zh-CN" sz="3600" spc="-1" strike="noStrike">
                <a:solidFill>
                  <a:srgbClr val="2663a0"/>
                </a:solidFill>
                <a:latin typeface="Times New Roman"/>
                <a:ea typeface="华文行楷"/>
              </a:rPr>
              <a:t>长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晚，</a:t>
            </a:r>
            <a:r>
              <a:rPr b="0" lang="zh-CN" sz="3600" spc="-1" strike="noStrike">
                <a:solidFill>
                  <a:srgbClr val="2663a0"/>
                </a:solidFill>
                <a:latin typeface="Times New Roman"/>
                <a:ea typeface="华文行楷"/>
              </a:rPr>
              <a:t>骤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初歇。都门帐饮无绪，留恋处兰舟摧发。执手相看泪眼，竟无语凝噎。</a:t>
            </a:r>
            <a:r>
              <a:rPr b="0" lang="zh-CN" sz="3600" spc="-1" strike="noStrike">
                <a:solidFill>
                  <a:srgbClr val="2663a0"/>
                </a:solidFill>
                <a:latin typeface="Times New Roman"/>
                <a:ea typeface="华文行楷"/>
              </a:rPr>
              <a:t>念去去千里烟波，暮霭沈沈楚天阔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多情自古伤离别，更那堪冷落清秋节！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今宵酒醒何处？杨柳岸晓风残月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此去经年，应是良辰好景虚设。便纵有千种风情，更与何人说！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OOM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2209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作者介绍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柳永（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98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---105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？）， </a:t>
            </a:r>
            <a:r>
              <a:rPr b="0" lang="zh-CN" sz="2400" spc="-1" strike="noStrike">
                <a:solidFill>
                  <a:srgbClr val="f98d43"/>
                </a:solidFill>
                <a:latin typeface="宋体"/>
              </a:rPr>
              <a:t>北宋著名词人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9ce157"/>
                </a:solidFill>
                <a:latin typeface="宋体"/>
              </a:rPr>
              <a:t>原名三变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9ce157"/>
                </a:solidFill>
                <a:latin typeface="宋体"/>
              </a:rPr>
              <a:t>字耆卿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排行第七，故又称柳七。崇安人。为人放荡不羁，颇受当时正统人物的非难，终身潦倒。其词长于抒写羁旅行役之情，也多描绘歌妓生活和城市风光之作，时有颓废思想和庸俗情趣。创作慢词独多，铺叙刻画，情景交融，语言通俗，音律谐婉，在当时流传甚广，对宋代慢词的发展颇有影响。试仅存</a:t>
            </a:r>
            <a:r>
              <a:rPr b="0" lang="en-US" sz="2400" spc="-1" strike="noStrike">
                <a:solidFill>
                  <a:srgbClr val="f98d43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f98d43"/>
                </a:solidFill>
                <a:latin typeface="宋体"/>
              </a:rPr>
              <a:t>煮海歌</a:t>
            </a:r>
            <a:r>
              <a:rPr b="0" lang="en-US" sz="2400" spc="-1" strike="noStrike">
                <a:solidFill>
                  <a:srgbClr val="f98d43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首，描写盐民贫苦生活。现存</a:t>
            </a:r>
            <a:r>
              <a:rPr b="0" lang="en-US" sz="2400" spc="-1" strike="noStrike">
                <a:solidFill>
                  <a:srgbClr val="f98d43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f98d43"/>
                </a:solidFill>
                <a:latin typeface="宋体"/>
              </a:rPr>
              <a:t>乐章集</a:t>
            </a:r>
            <a:r>
              <a:rPr b="0" lang="en-US" sz="2400" spc="-1" strike="noStrike">
                <a:solidFill>
                  <a:srgbClr val="f98d43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有词近二百首。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36865"/>
          <p:cNvSpPr/>
          <p:nvPr/>
        </p:nvSpPr>
        <p:spPr>
          <a:xfrm>
            <a:off x="228600" y="304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解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文本框 36866"/>
          <p:cNvSpPr/>
          <p:nvPr/>
        </p:nvSpPr>
        <p:spPr>
          <a:xfrm>
            <a:off x="8380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36867"/>
          <p:cNvSpPr/>
          <p:nvPr/>
        </p:nvSpPr>
        <p:spPr>
          <a:xfrm>
            <a:off x="533520" y="1523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此词选自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全宋词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写词人离开汴京，由水路远去南方时与情人话别的情景。是体现柳词艺术成就的代表作品之一，也是在柳词中流传最广影响最深的一首。从题材和内容上看，虽然现实意义不大，但艺术成就较高，语言精炼、自然，描写景物、渲染气氛、刻画人物心理都很成功，是传诵一时的作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37890"/>
          <p:cNvSpPr/>
          <p:nvPr/>
        </p:nvSpPr>
        <p:spPr>
          <a:xfrm>
            <a:off x="533520" y="1087560"/>
            <a:ext cx="84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全词以冷落的深秋景色作为衬托，刻画了情人离别时的留恋的情态和复杂微妙的心情，从而设想到别后的孤独和无限的思念，表达了同情人难分难舍的心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借景抒情是本词的主要特点。上阕中“寒蝉”、“长亭”、“骤雨”这些景物构成了一幅冷 落清秋图，渲染了凄切的气氛。“念去去千里烟波，暮霭沈沈楚天阔。”更是表达出作者同情人别后的无限孤独。下阕中“今宵酒醒何处？杨柳岸晓风残月。”是千古传诵的名句，既写景又写情，寓情于景，表达出离别之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文本框 37889"/>
          <p:cNvSpPr/>
          <p:nvPr/>
        </p:nvSpPr>
        <p:spPr>
          <a:xfrm>
            <a:off x="228600" y="228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简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0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8193"/>
          <p:cNvSpPr/>
          <p:nvPr/>
        </p:nvSpPr>
        <p:spPr>
          <a:xfrm>
            <a:off x="76212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文本框 8194"/>
          <p:cNvSpPr/>
          <p:nvPr/>
        </p:nvSpPr>
        <p:spPr>
          <a:xfrm>
            <a:off x="144792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        茅屋为秋风所破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文本框 8195"/>
          <p:cNvSpPr/>
          <p:nvPr/>
        </p:nvSpPr>
        <p:spPr>
          <a:xfrm>
            <a:off x="704268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杜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文本框 8196"/>
          <p:cNvSpPr/>
          <p:nvPr/>
        </p:nvSpPr>
        <p:spPr>
          <a:xfrm>
            <a:off x="7462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文本框 8197"/>
          <p:cNvSpPr/>
          <p:nvPr/>
        </p:nvSpPr>
        <p:spPr>
          <a:xfrm>
            <a:off x="0" y="1752480"/>
            <a:ext cx="94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八月秋高风</a:t>
            </a:r>
            <a:r>
              <a:rPr b="0" lang="zh-CN" sz="3200" spc="-1" strike="noStrike">
                <a:solidFill>
                  <a:srgbClr val="9ce157"/>
                </a:solidFill>
                <a:latin typeface="华文新魏"/>
                <a:ea typeface="华文新魏"/>
              </a:rPr>
              <a:t>怒号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9ce157"/>
                </a:solidFill>
                <a:latin typeface="华文新魏"/>
                <a:ea typeface="华文新魏"/>
              </a:rPr>
              <a:t>卷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屋上三重茅。茅</a:t>
            </a:r>
            <a:r>
              <a:rPr b="0" lang="zh-CN" sz="3200" spc="-1" strike="noStrike">
                <a:solidFill>
                  <a:srgbClr val="9ce157"/>
                </a:solidFill>
                <a:latin typeface="华文新魏"/>
                <a:ea typeface="华文新魏"/>
              </a:rPr>
              <a:t>飞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渡江</a:t>
            </a:r>
            <a:r>
              <a:rPr b="0" lang="zh-CN" sz="3200" spc="-1" strike="noStrike">
                <a:solidFill>
                  <a:srgbClr val="9ce157"/>
                </a:solidFill>
                <a:latin typeface="华文新魏"/>
                <a:ea typeface="华文新魏"/>
              </a:rPr>
              <a:t>洒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江郊，高者</a:t>
            </a:r>
            <a:r>
              <a:rPr b="0" lang="zh-CN" sz="3200" spc="-1" strike="noStrike">
                <a:solidFill>
                  <a:srgbClr val="2663a0"/>
                </a:solidFill>
                <a:latin typeface="华文新魏"/>
                <a:ea typeface="华文新魏"/>
              </a:rPr>
              <a:t>挂</a:t>
            </a:r>
            <a:r>
              <a:rPr b="0" lang="zh-CN" sz="2800" spc="-1" strike="noStrike">
                <a:solidFill>
                  <a:srgbClr val="2663a0"/>
                </a:solidFill>
                <a:latin typeface="华文新魏"/>
                <a:ea typeface="华文新魏"/>
              </a:rPr>
              <a:t>罥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林梢，下者</a:t>
            </a:r>
            <a:r>
              <a:rPr b="0" lang="zh-CN" sz="3200" spc="-1" strike="noStrike">
                <a:solidFill>
                  <a:srgbClr val="2663a0"/>
                </a:solidFill>
                <a:latin typeface="华文新魏"/>
                <a:ea typeface="华文新魏"/>
              </a:rPr>
              <a:t>飘转</a:t>
            </a:r>
            <a:r>
              <a:rPr b="0" lang="zh-CN" sz="3200" spc="-1" strike="noStrike">
                <a:solidFill>
                  <a:srgbClr val="9ce157"/>
                </a:solidFill>
                <a:latin typeface="华文新魏"/>
                <a:ea typeface="华文新魏"/>
              </a:rPr>
              <a:t>沉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塘坳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南村群童欺我老无力，忍能对面为盗贼，公然抱茅入竹去，唇焦口燥呼不得，归来倚杖自叹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俄顷风定云墨色，秋天漠漠向昏黑。布衾多年</a:t>
            </a:r>
            <a:r>
              <a:rPr b="0" lang="zh-CN" sz="3200" spc="-1" strike="noStrike">
                <a:solidFill>
                  <a:srgbClr val="2663a0"/>
                </a:solidFill>
                <a:latin typeface="华文新魏"/>
                <a:ea typeface="华文新魏"/>
              </a:rPr>
              <a:t>冷似铁，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娇儿恶卧踏里裂。床头屋漏无干处，雨脚如麻未断绝。自经丧乱少睡眠，长夜沾湿何由彻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安得广厦千万间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大庇天下寒士俱欢颜，风雨不动安如山？呜呼！何时眼前突兀见此屋，吾庐独破受冻死亦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63160"/>
            <a:ext cx="2209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作者介绍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杜甫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12---7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唐代伟大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现实主义诗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字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子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自称少陵野老，也称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杜工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其诗大胆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揭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了当时统治集团的腐朽，广泛又尖锐地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反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出人民的苦难和社会矛盾通过许多优秀作品，显示了唐朝由盛转衰的历史过程，因被称为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“诗史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今存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多首。著有</a:t>
            </a:r>
            <a:r>
              <a:rPr b="0" lang="en-US" sz="2800" spc="-1" strike="noStrike">
                <a:solidFill>
                  <a:srgbClr val="2663a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2663a0"/>
                </a:solidFill>
                <a:latin typeface="Times New Roman"/>
              </a:rPr>
              <a:t>杜工部集</a:t>
            </a:r>
            <a:r>
              <a:rPr b="0" lang="en-US" sz="2800" spc="-1" strike="noStrike">
                <a:solidFill>
                  <a:srgbClr val="2663a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8d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33793"/>
          <p:cNvSpPr/>
          <p:nvPr/>
        </p:nvSpPr>
        <p:spPr>
          <a:xfrm>
            <a:off x="397080" y="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解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文本框 33794"/>
          <p:cNvSpPr/>
          <p:nvPr/>
        </p:nvSpPr>
        <p:spPr>
          <a:xfrm>
            <a:off x="517680" y="1066680"/>
            <a:ext cx="862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茅屋为秋风所破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选自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杜少陵集译注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写于唐萧宗上元二年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761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。当时安史之乱尚未平定，杜甫留寓成都已三年，靠亲戚朋友的帮助维持生活。这年春天，杜甫求亲告友，在城西的浣花溪边找到一块荒地，盖起一座茅屋，总算有了一个栖身之所。不料到了八月，大风破屋，大雨又接踵而至。诗人长夜难眠，感慨万千，就写了这首千古传诵的诗篇。歌，本是古代诗歌的一种形式，后成为古代诗歌的一种体裁。其音节、格律一般都比较自由，形式采用五言、七言、杂言的古体，富于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26625"/>
          <p:cNvSpPr/>
          <p:nvPr/>
        </p:nvSpPr>
        <p:spPr>
          <a:xfrm>
            <a:off x="380880" y="304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简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文本框 26626"/>
          <p:cNvSpPr/>
          <p:nvPr/>
        </p:nvSpPr>
        <p:spPr>
          <a:xfrm>
            <a:off x="762120" y="106668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44"/>
                </a:solidFill>
                <a:latin typeface="华文新魏"/>
                <a:ea typeface="华文新魏"/>
              </a:rPr>
              <a:t>本文通过茅屋为秋风所破和窘迫的处境，道出作者同情人民百姓的思想感情。也反映了作者的悲惨遭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44"/>
                </a:solidFill>
                <a:latin typeface="华文新魏"/>
                <a:ea typeface="华文新魏"/>
              </a:rPr>
              <a:t>此文语言生动形象，准确描绘出当时的情景。如“怒号”，写出风势猛风声凄厉；“卷”、“ 飞”写出茅屋为秋风所破时的情景；“洒”、“挂罥”、“飘转”、“沉”则写出风刮茅草且到处散落的情景；“冷似铁”不仅形象地写出“布衾”的陈旧、不堪御寒，还道出作者的穷困处境。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44"/>
                </a:solidFill>
                <a:latin typeface="华文新魏"/>
                <a:ea typeface="华文新魏"/>
              </a:rPr>
              <a:t>而“安得广厦千万间”则使情思一转，由自己想到了“天下寒士”，表达了殷切的希望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0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8677"/>
          <p:cNvSpPr/>
          <p:nvPr/>
        </p:nvSpPr>
        <p:spPr>
          <a:xfrm>
            <a:off x="228600" y="19051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江东去，浪淘尽，千古风流人物。故垒西边，人道是三国周郎赤壁。乱石穿空，惊涛拍岸，卷起千堆雪。江山如画，一时多少豪杰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遥想公瑾当年，小乔初嫁了，雄姿英发。羽扇纶巾，谈笑间，樯橹灰飞烟灭。</a:t>
            </a:r>
            <a:r>
              <a:rPr b="0" lang="zh-CN" sz="3600" spc="-1" strike="noStrike">
                <a:solidFill>
                  <a:srgbClr val="2663a0"/>
                </a:solidFill>
                <a:latin typeface="Times New Roman"/>
                <a:ea typeface="华文行楷"/>
              </a:rPr>
              <a:t>故国神游，多情应笑我，早生华发。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人生如梦，一尊还酹江月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文本框 28674"/>
          <p:cNvSpPr/>
          <p:nvPr/>
        </p:nvSpPr>
        <p:spPr>
          <a:xfrm>
            <a:off x="1741680" y="22068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             念奴娇  赤壁怀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文本框 28675"/>
          <p:cNvSpPr/>
          <p:nvPr/>
        </p:nvSpPr>
        <p:spPr>
          <a:xfrm>
            <a:off x="6172200" y="99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文本框 28676"/>
          <p:cNvSpPr/>
          <p:nvPr/>
        </p:nvSpPr>
        <p:spPr>
          <a:xfrm>
            <a:off x="6661440" y="906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苏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29697"/>
          <p:cNvSpPr/>
          <p:nvPr/>
        </p:nvSpPr>
        <p:spPr>
          <a:xfrm>
            <a:off x="289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97920"/>
            <a:ext cx="2057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作者介绍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苏轼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36---110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字</a:t>
            </a:r>
            <a:r>
              <a:rPr b="0" lang="zh-CN" sz="2400" spc="-1" strike="noStrike">
                <a:solidFill>
                  <a:srgbClr val="f98d43"/>
                </a:solidFill>
                <a:latin typeface="Times New Roman"/>
              </a:rPr>
              <a:t>子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号</a:t>
            </a:r>
            <a:r>
              <a:rPr b="0" lang="zh-CN" sz="2400" spc="-1" strike="noStrike">
                <a:solidFill>
                  <a:srgbClr val="f98d43"/>
                </a:solidFill>
                <a:latin typeface="Times New Roman"/>
              </a:rPr>
              <a:t>东坡居士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四川眉山人。他是北宋最负盛名的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文学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书法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诗风雄健，词开豪放派先河，一曲“大江东去”，千古传唱。他书画俱佳，</a:t>
            </a:r>
            <a:r>
              <a:rPr b="0" lang="zh-CN" sz="2400" spc="-1" strike="noStrike">
                <a:solidFill>
                  <a:srgbClr val="f98d43"/>
                </a:solidFill>
                <a:latin typeface="Times New Roman"/>
              </a:rPr>
              <a:t>与其父苏洵、其弟苏辙同被列入“唐宋八大家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人称其“一门父子三词客。诗文有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东坡七集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等，词今传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东坡乐府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百多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0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7ef0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30722"/>
          <p:cNvSpPr/>
          <p:nvPr/>
        </p:nvSpPr>
        <p:spPr>
          <a:xfrm>
            <a:off x="593640" y="685800"/>
            <a:ext cx="855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此词选自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坡乐府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写于元丰五年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08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。当时他因“乌台诗案”被指斥“谤讪朝廷”，而被贬为黄州团练副使，所以思想上非常苦恼，常游于江湖山水之间。有一次偕友人同游黄州城外赤壁矶，面对赤壁盛景，缅怀当年周瑜打败曹操的显赫业绩，想到自己迁谪流放，身处逆境。空有才能而一事无成，触景生情，写下这首词，借怀古抒发了胸中的怨愤和对人生幻灭的感叹。念怒娇，词牌名；双调，一百字；怀古，怀念古事。但诗人的怀古之作，不是单纯的“发思古之幽情”，而是往往寄寓着从现实生活中激发出来的某种思想感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文本框 30721"/>
          <p:cNvSpPr/>
          <p:nvPr/>
        </p:nvSpPr>
        <p:spPr>
          <a:xfrm>
            <a:off x="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解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UT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31745"/>
          <p:cNvSpPr/>
          <p:nvPr/>
        </p:nvSpPr>
        <p:spPr>
          <a:xfrm>
            <a:off x="182520" y="228600"/>
            <a:ext cx="13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简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文本框 31746"/>
          <p:cNvSpPr/>
          <p:nvPr/>
        </p:nvSpPr>
        <p:spPr>
          <a:xfrm>
            <a:off x="8985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文本框 31747"/>
          <p:cNvSpPr/>
          <p:nvPr/>
        </p:nvSpPr>
        <p:spPr>
          <a:xfrm>
            <a:off x="457200" y="1108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全诗通过对江上雄奇景色的描绘，借对古 代战场的凭吊和古代英雄的追念，表达了自己对英雄事业的向往，抒发了自己空有才能而一事无成的忧愤的心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cc00"/>
                </a:solidFill>
                <a:latin typeface="华文新魏"/>
                <a:ea typeface="华文新魏"/>
              </a:rPr>
              <a:t>全诗以江山的胜景和古代英雄的业绩作为题材，将议论、抒情、写景、怀古熔为一炉。上阕从眼前景色入手，寓情于景，引出历史人物；下阕发挥联想，歌颂历史人物，将自己同周瑜作对比，借以抒发自己不得志的忧愤情怀。最后一句议论人生，抒发感慨 ，写得豪迈奔放，开创豪放词派的先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1:34Z</dcterms:created>
  <dc:creator/>
  <dc:description/>
  <cp:keywords>诗歌 鉴赏</cp:keywords>
  <dc:language>en-US</dc:language>
  <cp:lastModifiedBy>An</cp:lastModifiedBy>
  <dcterms:modified xsi:type="dcterms:W3CDTF">2016-05-01T01:01:3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